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24F-DB18-42E8-A4C9-4F1DEA48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7A5-D75D-473E-B3E9-15E03E23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895-402D-401C-BB62-9CABDE4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6396-CDD8-48E1-8426-9494464EE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F51-5E42-49AD-98F9-DDBA4B4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FBD-A3C3-4E78-940D-EE1B1B25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4DD-70F7-4176-98B3-C06DD254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6F0-57A7-40BA-98C1-49DBCC9C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32F-33A2-484F-A927-993E00EA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DE85-1169-4B82-95A7-DF0548AC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E3C-A753-4BF1-9B93-D350284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D9A0-6FDE-4075-A9E7-1111297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B2D-6B29-418D-81B4-C0E0757E6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° semestr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26920" y="3357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6920" y="40053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365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1268280"/>
            <a:ext cx="831564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8040" y="4246560"/>
            <a:ext cx="79282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50028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4-10-26T22:30:47Z</dcterms:modified>
  <cp:revision>71</cp:revision>
  <dc:subject/>
  <dc:title>Sin título de diapositiva</dc:title>
</cp:coreProperties>
</file>