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1C23-F9EF-4A21-B49C-53641BA4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4E6A-D722-4EBF-85BB-6656C26B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24C8-2806-46BB-A30D-9D501076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EF3F-1B64-4A46-9D49-C384C4E8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3966-1969-40AA-A28F-C744D79B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7495-5466-445A-B837-79672412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4159-1AC8-4654-ACF4-9468252F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1442-19E5-4C8D-BE32-2E9275D6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B028-F17E-43FC-A210-C6A11793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8B6E-C706-4147-9493-2060449A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22B1-430F-4B01-AE45-AC4A7A93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1DD3-EA4D-4C4D-BE82-38A13863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A48B-9F70-4FDD-83AD-8DD1B9E60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17760" y="3124080"/>
            <a:ext cx="26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La Empr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836640"/>
            <a:ext cx="619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inanciamiento de Empres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5229360"/>
            <a:ext cx="295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Electivo Derecho Comer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° semestre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derecho.uchile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50280" y="71136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Representación financiera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637560" y="19162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1280" y="234936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4440" y="27813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89320" y="32130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58800" y="18828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73480" y="234936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75640" y="278136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85720" y="342900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82840" y="3932280"/>
            <a:ext cx="21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61200" y="249228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 EXIG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14130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Balance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339080" y="5229360"/>
            <a:ext cx="23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03800" y="5191200"/>
            <a:ext cx="24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258920" y="587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125892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3560" y="602136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79640" y="6021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43564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84360" y="191628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94036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84720" y="242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94000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15320" y="2022480"/>
            <a:ext cx="36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y obligaciones recípro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30360" y="2637000"/>
            <a:ext cx="791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existencia determina la capacidad de la empresa de desarrollar su activid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existencia es un límite a la misma capac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26920" y="349560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vinculación del patrimonio del empresario, de hecho la inversión que hace el      empresario en la empresa es parte del activo del empresar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85840" y="3862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23480" y="69228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inanc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24440" y="1557360"/>
            <a:ext cx="437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dependencia respecto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26920" y="42163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registran en el pasivo del balance de la empresa (la empresa siempre está en deuda con ell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8120" y="5253120"/>
            <a:ext cx="41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énes son: capitalistas y prestam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12440" y="2492280"/>
            <a:ext cx="429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ueños de la propiedad sobr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26920" y="2924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een la capacidad de disponer, usar y gozar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26920" y="33577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son los dueños de los activos de la empresa. La empresa en cuanto sujeto y obj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5840" y="1724040"/>
            <a:ext cx="18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apitalis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26920" y="4005360"/>
            <a:ext cx="74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een derechos económicos y polí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6920" y="43657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los primeros administradores de la empresa y sus activos; la representan en la contratación de sus 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26920" y="55897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responsables subsidiarios por los pasivos de la empresa; limitaciones y ficciones leg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26920" y="5084640"/>
            <a:ext cx="74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de riesgo, últimos en la prelación de p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1268280"/>
            <a:ext cx="8315640" cy="62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utonomía patrimonial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erceros contratantes ejercen sus derechos sobre los bienes de la empre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 abstracción del patrimonio de lo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ponsabilidad de los capitalist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sidiaria 2095 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recta 370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limi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mi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personales de un capitali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recen de derechos sobre bien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sobre dividendos y remanente del capitalista 380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comparten posiciones con los acreedores de la empresa, se subordin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é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ordinación de los derechos del capitalista 404, 413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hibición de extraer montos mayores a los estipul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bligación de repartir bienes antes de satisfacer a prestam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sminución capital SA, arts. 28 y 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9756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7240" y="155736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7600" y="2060640"/>
            <a:ext cx="6149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presentación contable del derecho de lo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tiene correlativo en 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mportancia en el nacimiento y en la extinción de la empre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manencia en el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ntido impropio de garantía a los acreedor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80680" y="1557360"/>
            <a:ext cx="132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Capi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9720" y="3668760"/>
            <a:ext cx="295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incipios que lo inform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14040" y="4230720"/>
            <a:ext cx="274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term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be ser ú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t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umento y re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13080" y="2060640"/>
            <a:ext cx="8827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ítulo puede derivar de operaciones de crédito de dinero (financieros) 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l suministro de bienes y servicios con saldo de precio / ejecución diferida (proveed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habrá preferentes o v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ferencias dicen relación con la totalidad del activo o con ciertos bienes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habrá senior o jun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92440" y="6922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Prestam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16960" y="155736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4800" y="3668760"/>
            <a:ext cx="38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participan del riesgo del 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31800" y="4246560"/>
            <a:ext cx="8239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bran una tarifa fija por proporcionar capital a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caso de riesgo de solvencia tienen derecho a aceler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pagan con preferencia a los capitalis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ozan de protecciones contractuales o legales para salvaguardar su derech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nda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dministran excepcionalmente, ref. quiebra, designación de síndico, realización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ienes, acciones oblicu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33760" y="2060640"/>
            <a:ext cx="8463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ancos e Instituciones Financieras -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upos empresariales controladore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ías. de Seguros de Vida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Pensiones -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Pens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rabancarios -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Mutu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21280" y="1557360"/>
            <a:ext cx="667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andes prestadores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ande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3040" y="3668760"/>
            <a:ext cx="49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dministración empresarial y gestión financi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88040" y="4246560"/>
            <a:ext cx="792828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plazos - liqui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rgo plazo &gt; 1 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rto plazo &lt; 1 año o porción corta del lar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monedas : ingresos vs. pasivos exigibles, cross currency swa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 financiamiento en misma mone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tasas: típicamente para quienes giran en el negocio de prestar, activ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eros vs. pasivos financieros – hedge de t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592440" y="6922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Prestam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155736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Concepto jurídico o económico?  Import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54936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00400" y="2060640"/>
            <a:ext cx="433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n duda nace como concepto econ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3240" y="2421000"/>
            <a:ext cx="52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conjunción de bienes, personas y 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7680" y="2852640"/>
            <a:ext cx="24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organ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7480" y="3284640"/>
            <a:ext cx="22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fin de luc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2760" y="3860640"/>
            <a:ext cx="201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Unidad jurídic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4240" y="4437000"/>
            <a:ext cx="819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bilidad de encontrar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criterio único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que permita delimitar el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xacto alc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la “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mpresa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200" y="5157720"/>
            <a:ext cx="70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mplos en la transferencia, gravamen, patrimonio de afect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8600" y="5661000"/>
            <a:ext cx="59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ciones frente al “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criterio unificador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” de la empres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8840" y="1916280"/>
            <a:ext cx="63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sonalidad jurídica              ficción técnica arbitraria (EIR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87280" y="549360"/>
            <a:ext cx="687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275600" y="61977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05600" y="4076640"/>
            <a:ext cx="8428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gan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rasciende a los bienes, valores no se  condicen necesariamente con los bien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no con el elemento volitivo que los organi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1989000"/>
            <a:ext cx="431640" cy="144720"/>
          </a:xfrm>
          <a:custGeom>
            <a:avLst/>
            <a:gdLst>
              <a:gd name="textAreaLeft" fmla="*/ 67320 w 431640"/>
              <a:gd name="textAreaRight" fmla="*/ 378000 w 43164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9120" y="25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4840" y="2532240"/>
            <a:ext cx="74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 separado               argumento circular, dónde empieza y ter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637000"/>
            <a:ext cx="380880" cy="144360"/>
          </a:xfrm>
          <a:custGeom>
            <a:avLst/>
            <a:gdLst>
              <a:gd name="textAreaLeft" fmla="*/ 59400 w 380880"/>
              <a:gd name="textAreaRight" fmla="*/ 333360 w 3808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8960" y="306864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nivers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3573360"/>
            <a:ext cx="114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6520" y="1916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177156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 mercantil y Empresa se yuxtapo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54360" y="245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6840" y="400536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0600" y="2408400"/>
            <a:ext cx="12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54360" y="238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54360" y="25970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54360" y="26701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54360" y="252576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96720" y="2421000"/>
            <a:ext cx="53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 de comercio o establecimiento, (manifest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54360" y="2813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54360" y="281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54360" y="29574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54360" y="30304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54360" y="28861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4360" y="32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54360" y="3174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54360" y="33908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54360" y="34639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54360" y="331956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1520" y="2852640"/>
            <a:ext cx="60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ciedad            ente jurídico per se, (empresario, no empres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38360" y="2957400"/>
            <a:ext cx="432000" cy="111240"/>
          </a:xfrm>
          <a:prstGeom prst="rightArrow">
            <a:avLst>
              <a:gd name="adj1" fmla="val 50000"/>
              <a:gd name="adj2" fmla="val 970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38480" y="3284640"/>
            <a:ext cx="66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IRL             creación jurídica que presupone al concepto económic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distorsión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79800" y="3389400"/>
            <a:ext cx="431640" cy="110880"/>
          </a:xfrm>
          <a:prstGeom prst="rightArrow">
            <a:avLst>
              <a:gd name="adj1" fmla="val 50000"/>
              <a:gd name="adj2" fmla="val 9732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9080" y="4508640"/>
            <a:ext cx="41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rcicio profesional (medio de susten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0280" y="5013360"/>
            <a:ext cx="48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actividad económica (que proporciona lucr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0560" y="5516640"/>
            <a:ext cx="77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sistente en la producción, intermediación, prestación de bienes o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5661000"/>
            <a:ext cx="276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440" y="2022480"/>
            <a:ext cx="44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ganización de los factores de la 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7680" y="2637000"/>
            <a:ext cx="43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rmonía y proporcionalidad entre fa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2640" y="3357720"/>
            <a:ext cx="47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vinculación del patrimonio del empresari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91720" y="3613320"/>
            <a:ext cx="601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       desvinculación responsabilidad            elemento jurídico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27640" y="3718080"/>
            <a:ext cx="431640" cy="142560"/>
          </a:xfrm>
          <a:prstGeom prst="rightArrow">
            <a:avLst>
              <a:gd name="adj1" fmla="val 50000"/>
              <a:gd name="adj2" fmla="val 756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85840" y="3789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85840" y="3862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85840" y="371808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1360" y="155736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206064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idad organizadora del Empres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23080" y="152388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le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2640" y="2492280"/>
            <a:ext cx="60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organizan elementos materiales, inmateriales y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1880" y="2886120"/>
            <a:ext cx="28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una actuación diná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6880" y="3246480"/>
            <a:ext cx="48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cia una actividad económica determinada 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2920" y="3678120"/>
            <a:ext cx="420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e intenta obtener la máxima gan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8960" y="4437000"/>
            <a:ext cx="14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6280" y="4869000"/>
            <a:ext cx="725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sas corporales (dinero, inventario, bienes de producción, mercaderí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1960" y="5268960"/>
            <a:ext cx="629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sas incorporales (propiedad industrial, créditos, inversi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0200" y="5661000"/>
            <a:ext cx="244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udas y oblig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206064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laciones incorpó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46560" y="2603520"/>
            <a:ext cx="113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lient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200" y="2997360"/>
            <a:ext cx="24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pectativas (Chanc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8200" y="1628640"/>
            <a:ext cx="1676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46320" y="164304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64080" y="1652760"/>
            <a:ext cx="2279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55720" y="431784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19640" y="3500280"/>
            <a:ext cx="1511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gr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37160" y="3236760"/>
            <a:ext cx="100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R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37160" y="3813120"/>
            <a:ext cx="202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5720" y="266076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ver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5720" y="352584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00800" y="2660760"/>
            <a:ext cx="10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320" y="609480"/>
            <a:ext cx="21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l 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flipH="1">
            <a:off x="2655720" y="1844640"/>
            <a:ext cx="2563920" cy="2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59280" y="4653000"/>
            <a:ext cx="2447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reación d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00080" y="5541840"/>
            <a:ext cx="3427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entación Dinám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20800" y="208584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0800" y="30211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20800" y="38862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084720" y="2421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79560" y="437976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(Pérdi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00720" y="5516640"/>
            <a:ext cx="34272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Estát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27280" y="285264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268360" y="3715920"/>
            <a:ext cx="11512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211640" y="386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8000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9640" y="1628640"/>
            <a:ext cx="20876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48000" y="1628640"/>
            <a:ext cx="201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tam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00720" y="1700280"/>
            <a:ext cx="201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inanc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44800" y="609480"/>
            <a:ext cx="47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structura del 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547640" y="2133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43280" y="184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87640" y="1700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51640" y="184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51640" y="198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08720" y="213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8560" y="2708280"/>
            <a:ext cx="14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ie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5640" y="314172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c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2400" y="3573360"/>
            <a:ext cx="91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40160" y="4005360"/>
            <a:ext cx="129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iesgo 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28280" y="4581360"/>
            <a:ext cx="16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nta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760" y="5013360"/>
            <a:ext cx="153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ting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exigi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41960" y="2674800"/>
            <a:ext cx="189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utuantes, etc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63920" y="3141720"/>
            <a:ext cx="13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57440" y="3573360"/>
            <a:ext cx="209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igibles, efe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52760" y="443700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Proveed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56360" y="5084640"/>
            <a:ext cx="231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istas (cuen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soci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509160" y="2762280"/>
            <a:ext cx="1605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orcion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la Empres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an 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65720" y="4005360"/>
            <a:ext cx="13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56000" y="213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.</cp:lastModifiedBy>
  <dcterms:modified xsi:type="dcterms:W3CDTF">2004-10-26T22:30:47Z</dcterms:modified>
  <cp:revision>71</cp:revision>
  <dc:subject/>
  <dc:title>Sin título de diapositiva</dc:title>
</cp:coreProperties>
</file>