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770D1-AB83-493C-A80C-F28FF2B91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7F00D-B29E-4A18-9224-7D1BA5FB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24D93-BE1D-4886-9C2D-6B6308000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6292C-3C33-4472-B429-D434750B5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48C19DD-FD7B-4A78-807A-20CF6D86A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280F52-AE45-4B33-AD58-81140B860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8805AC-3180-4663-A7D6-443FD67CE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6E2D654-EE31-4DB7-9165-E6FCD381A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E1FCDB-E3DA-48E7-A625-E8ABD39BA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96C4CF2-4D1B-40F9-B99B-451AE70C6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9DC6688-2147-437F-B4A9-239D1AA31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C516B-E379-4472-8A65-0747CCDB6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A7A604-5543-405E-8F91-B36D8006A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BD013D-9912-4B10-B51C-38C310DE4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23F86A-E5CC-4644-9150-071A67359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8B5A32-B302-4411-A5CF-987F2B01C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392EF7F-B2CE-4514-A81B-84691F674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FB8CE-B8D9-49D5-B258-005F47C0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2F441-962A-457D-9FD5-6FBA13D27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79C45-6399-40AF-90FA-2D6393371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1D2BE-95E2-46A4-B243-6CAB01A1A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06787-90D2-4A03-AA3D-23DA65EE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C687-6117-4864-ADD1-DA8AFE9CE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E6C9B-A496-4305-A4A3-CD580B7E9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D5BAD-DAB1-41EE-B7BE-9700E4EC9F4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128D-AE13-40F9-9211-0F891F0C3E4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El Agente de Sindicación Bancaria</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El efecto de no enterar el correspondiente aporte está en que el crédito se reduce hasta por el monto  que la cuota de esa entidad incumplidora representa en la cuantía global del crédi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Por tanto, no existe exigibilidad ni entre los partícipes ni por el agente, sino sólo por el acreditado, que en estricto rigor es un tercero ajeno a las relaciones internas entre los acredit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74320"/>
            <a:ext cx="829152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400" spc="-1" strike="noStrike">
                <a:solidFill>
                  <a:srgbClr val="e3e3ff"/>
                </a:solidFill>
                <a:latin typeface="Arial"/>
              </a:rPr>
              <a:t>¿Es una Asociación o Cuentas en Participación?</a:t>
            </a:r>
            <a:br>
              <a:rPr sz="4400"/>
            </a:br>
            <a:r>
              <a:rPr b="0" lang="es-ES" sz="4400" spc="-1" strike="noStrike">
                <a:solidFill>
                  <a:srgbClr val="e3e3ff"/>
                </a:solidFill>
                <a:latin typeface="Arial"/>
              </a:rPr>
              <a:t>(art. 507 C.Co.)</a:t>
            </a:r>
            <a:br>
              <a:rPr sz="4000"/>
            </a:br>
            <a:r>
              <a:rPr b="0" lang="es-ES" sz="2800" spc="-1" strike="noStrike">
                <a:solidFill>
                  <a:srgbClr val="e3e3ff"/>
                </a:solidFill>
                <a:latin typeface="Arial"/>
              </a:rPr>
              <a:t>“Es un contrato por el cual dos o más comerciantes toman interés en una o muchas operaciones mercantiles, instantáneas o sucesivas, que debe ejecutar uno de ellos en su solo nombre y bajo su crédito personal, a cargo de rendir cuenta y dividir con sus asociados las ganancias o pérdidas en la proporción convenida.”</a:t>
            </a:r>
            <a:endParaRPr b="0" lang="en-US" sz="2800" spc="-1" strike="noStrike">
              <a:solidFill>
                <a:srgbClr val="e3e3ff"/>
              </a:solidFill>
              <a:latin typeface="Arial"/>
            </a:endParaRPr>
          </a:p>
        </p:txBody>
      </p:sp>
      <p:sp>
        <p:nvSpPr>
          <p:cNvPr id="14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43" name=""/>
          <p:cNvSpPr/>
          <p:nvPr/>
        </p:nvSpPr>
        <p:spPr>
          <a:xfrm>
            <a:off x="611280" y="2997360"/>
            <a:ext cx="727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este contrato existe un único gestor de actividades quien es destinatario y titular excluyente de las relaciones externas a que dan lugar las operaciones mercantiles: </a:t>
            </a: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MX" sz="3200" spc="-1" strike="noStrike">
                <a:solidFill>
                  <a:srgbClr val="ffffff"/>
                </a:solidFill>
                <a:latin typeface="Arial"/>
              </a:rPr>
              <a:t>	</a:t>
            </a:r>
            <a:r>
              <a:rPr b="0" lang="es-MX" sz="3200" spc="-1" strike="noStrike">
                <a:solidFill>
                  <a:srgbClr val="ffffff"/>
                </a:solidFill>
                <a:latin typeface="Arial"/>
              </a:rPr>
              <a:t>	</a:t>
            </a:r>
            <a:r>
              <a:rPr b="0" lang="es-ES" sz="3200" spc="-1" strike="noStrike">
                <a:solidFill>
                  <a:srgbClr val="ffffff"/>
                </a:solidFill>
                <a:latin typeface="Arial"/>
              </a:rPr>
              <a:t>Su posición inhibe que terceros y partícipes se hagan exigibles conductas recíproca y directament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endParaRPr b="0" lang="en-US" sz="3200" spc="-1" strike="noStrike">
              <a:solidFill>
                <a:srgbClr val="ffffff"/>
              </a:solidFill>
              <a:latin typeface="Arial"/>
            </a:endParaRPr>
          </a:p>
        </p:txBody>
      </p:sp>
      <p:sp>
        <p:nvSpPr>
          <p:cNvPr id="146" name=""/>
          <p:cNvSpPr/>
          <p:nvPr/>
        </p:nvSpPr>
        <p:spPr>
          <a:xfrm>
            <a:off x="4211640" y="378936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43"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lo no ocurre en el contrato de crédito sindicado. De hecho, es común que se contemplen acciones por incumplimiento de ejercicio directo entre acreditado y banco infractor como viceversa, no debiendo ellas encauzarse perentoria y previamente en la figura del gest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En suma, entendemos que la naturaleza jurídica de las relaciones internas sucedidas en el sindicato no es posible reconocerlas con instituciones de carácter asociativo tratadas de forma expresa por nuestro ordenamiento. Por descar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s definimos como de cooperación entre diversas entidades bancarias que persiguiendo un objetivo económico y común, manteniendo una relevante autonomía jurídica y funcional, obligándose respecto al resto de los bancos a la disciplina estrictamente necesaria de coordinación para la consecución de un objetivo comú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3e3ff"/>
                </a:solidFill>
                <a:latin typeface="Arial"/>
              </a:rPr>
              <a:t>¿ Y el Agente de Sindicación?</a:t>
            </a: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 </a:t>
            </a:r>
            <a:r>
              <a:rPr b="0" lang="es-CL" sz="2800" spc="-1" strike="noStrike">
                <a:solidFill>
                  <a:srgbClr val="ffffff"/>
                </a:solidFill>
                <a:latin typeface="Arial"/>
              </a:rPr>
              <a:t>La pluralidad de partícipes en el otorgamiento del crédito hace necesaria organizar sus actividades de una manera funcionalmente conjunta. Además, de relacionarse individualmente todos a la vez con el prestatario, le harían más incómoda y gravosa la posibilidad de levantar grandes montos de dinero por medio del mercado bancario.</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50"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3" name="PlaceHolder 2"/>
          <p:cNvSpPr>
            <a:spLocks noGrp="1"/>
          </p:cNvSpPr>
          <p:nvPr>
            <p:ph/>
          </p:nvPr>
        </p:nvSpPr>
        <p:spPr>
          <a:xfrm>
            <a:off x="324000" y="549360"/>
            <a:ext cx="8229600" cy="56052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na manera óptima de materializar dicha coordinación es confiar la gestión y representación de los intereses de todos quienes participan en la ejecución del negocio en un agente comú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Bancos jefes de Fila (</a:t>
            </a:r>
            <a:r>
              <a:rPr b="0" i="1" lang="es-ES" sz="2800" spc="-1" strike="noStrike">
                <a:solidFill>
                  <a:srgbClr val="ffffff"/>
                </a:solidFill>
                <a:latin typeface="Arial"/>
              </a:rPr>
              <a:t>Managers</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El agente es un mandatario comercial dotado de representación (art. 233 C.C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	</a:t>
            </a:r>
            <a:r>
              <a:rPr b="0" lang="es-ES" sz="2800" spc="-1" strike="noStrike">
                <a:solidFill>
                  <a:srgbClr val="ffffff"/>
                </a:solidFill>
                <a:latin typeface="Arial"/>
              </a:rPr>
              <a:t>El mandato comercial es un contrato por el cual una persona encarga la ejecución de uno o más </a:t>
            </a:r>
            <a:r>
              <a:rPr b="1" lang="es-ES" sz="2800" spc="-1" strike="noStrike">
                <a:solidFill>
                  <a:srgbClr val="ffffff"/>
                </a:solidFill>
                <a:latin typeface="Arial"/>
              </a:rPr>
              <a:t>negocios lícitos de comercio</a:t>
            </a:r>
            <a:r>
              <a:rPr b="0" lang="es-ES" sz="2800" spc="-1" strike="noStrike">
                <a:solidFill>
                  <a:srgbClr val="ffffff"/>
                </a:solidFill>
                <a:latin typeface="Arial"/>
              </a:rPr>
              <a:t> a otra que se obliga a administrar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333360"/>
            <a:ext cx="8229600" cy="55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3 C.Co. “..Son Actos de comerci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1º: </a:t>
            </a:r>
            <a:r>
              <a:rPr b="1" lang="es-ES" sz="2800" spc="-1" strike="noStrike">
                <a:solidFill>
                  <a:srgbClr val="ffffff"/>
                </a:solidFill>
                <a:latin typeface="Arial"/>
              </a:rPr>
              <a:t>Las operaciones de banco</a:t>
            </a:r>
            <a:r>
              <a:rPr b="0" lang="es-ES" sz="2800" spc="-1" strike="noStrike">
                <a:solidFill>
                  <a:srgbClr val="ffffff"/>
                </a:solidFill>
                <a:latin typeface="Arial"/>
              </a:rPr>
              <a:t>, las de cambio y las de corretaj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rt. 69 Nº3 DFL Nº3: “..Hacer préstamos con o sin garantí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Sería en principio un comisionista puesto que su mandato versaría sobre operaciones individualmente determinad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No obstante ello, algunos autores ingleses lo califican de un propietario fiduciario (</a:t>
            </a:r>
            <a:r>
              <a:rPr b="0" i="1" lang="es-ES" sz="2800" spc="-1" strike="noStrike">
                <a:solidFill>
                  <a:srgbClr val="ffffff"/>
                </a:solidFill>
                <a:latin typeface="Arial"/>
              </a:rPr>
              <a:t>trustee</a:t>
            </a:r>
            <a:r>
              <a:rPr b="0" lang="es-E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racterísticas:</a:t>
            </a:r>
            <a:br>
              <a:rPr sz="4400"/>
            </a:br>
            <a:endParaRPr b="0" lang="en-US" sz="4400" spc="-1" strike="noStrike">
              <a:solidFill>
                <a:srgbClr val="e3e3ff"/>
              </a:solidFill>
              <a:latin typeface="Arial"/>
            </a:endParaRPr>
          </a:p>
        </p:txBody>
      </p:sp>
      <p:sp>
        <p:nvSpPr>
          <p:cNvPr id="1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Irrevocable</a:t>
            </a:r>
            <a:r>
              <a:rPr b="0" lang="es-ES" sz="2800" spc="-1" strike="noStrike">
                <a:solidFill>
                  <a:srgbClr val="ffffff"/>
                </a:solidFill>
                <a:latin typeface="Arial"/>
              </a:rPr>
              <a:t>: Medida para proteger a las minorías dentro de las deliberaciones del consorcio. Art. 241 C.Co.: “El comitente no puede revocar a su arbitrio la comisión aceptada, cuando su ejecución interesa al comisionista o a tercero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Típicas causas lícitas de revocación s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ctos defraudatorios de la confianza del principal, ejecución de contratos expresamente prohibidas y en general actos que comprometan el honor o los intereses de la colectividad (art. 333  C.C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57" dur="500"/>
                                        <p:tgtEl>
                                          <p:spTgt spid="156">
                                            <p:txEl>
                                              <p:pRg st="1" end="1"/>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60"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e3e3ff"/>
                </a:solidFill>
                <a:latin typeface="Arial"/>
              </a:rPr>
              <a:t>Antes una breve referencia al contrato que define su existencia….</a:t>
            </a:r>
            <a:endParaRPr b="0" lang="en-US" sz="4400" spc="-1" strike="noStrike">
              <a:solidFill>
                <a:srgbClr val="e3e3ff"/>
              </a:solidFill>
              <a:latin typeface="Arial"/>
            </a:endParaRPr>
          </a:p>
        </p:txBody>
      </p:sp>
      <p:sp>
        <p:nvSpPr>
          <p:cNvPr id="124" name="PlaceHolder 2"/>
          <p:cNvSpPr>
            <a:spLocks noGrp="1"/>
          </p:cNvSpPr>
          <p:nvPr>
            <p:ph/>
          </p:nvPr>
        </p:nvSpPr>
        <p:spPr>
          <a:xfrm>
            <a:off x="611280" y="2492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contrato de Crédito Sind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yndicated Lo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Consiste en el otorgamiento de crédito por parte de dos o más entidades bancarias a un sujeto, no necesariamente bajo los mismos términos, pero si bajo una documentación única y gestionado por un administrador común a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7"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Renunciable</a:t>
            </a:r>
            <a:r>
              <a:rPr b="0" lang="es-ES" sz="3200" spc="-1" strike="noStrike">
                <a:solidFill>
                  <a:srgbClr val="ffffff"/>
                </a:solidFill>
                <a:latin typeface="Arial"/>
              </a:rPr>
              <a:t>: La posibilidad de materializar una renuncia es evaluada por la legislación a favor de los principal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4 Nº4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167 C.C.</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42 C.C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272 C.C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Cuando la comisión requiera provisión de fondos, y el comitente no la hubiere verificado en cantidad suficiente, el comisionista podrá renunciar al encargo en cualquier tiempo o suspender su ejecución, a no ser que se hubiere obligado a anticipar las cantidades necesarias al desempeño de la comisión bajo una forma determinada de reinteg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olidaria? Art. 290 C.Co.). No lo creem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5920"/>
            <a:ext cx="7772400" cy="547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e3e3ff"/>
                </a:solidFill>
                <a:latin typeface="Arial"/>
              </a:rPr>
              <a:t>Obligaciones del Agente</a:t>
            </a:r>
            <a:br>
              <a:rPr sz="2800"/>
            </a:br>
            <a:r>
              <a:rPr b="0" lang="es-MX" sz="2800" spc="-1" strike="noStrike">
                <a:solidFill>
                  <a:srgbClr val="e3e3ff"/>
                </a:solidFill>
                <a:latin typeface="Arial"/>
              </a:rPr>
              <a:t>Así configurado este mandato, su posición como mandatario se rige por las estipulaciones contractuales y supletoriamente por las normas generales establecidas en el Código de Comercio. Veamos cuales deben ser sus pautas de conducta:</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404640"/>
            <a:ext cx="8229600" cy="5749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r de diligencia en el cumplimiento de sus funciones</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cumplir las funciones encomendadas con tal habilidad, cuidado y diligencia como sean razonablemente necesarios para el desempeño apropiado de los deberes emprendidos por él.</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ste caso se espera una actuación conforme a las pautas típicas de la profesión de banquero, por lo tanto, la estimación de la diligencia deberá ser apreciada según los cánones profesionales en jueg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lang="es-ES" sz="2000" spc="-1" strike="noStrike">
                <a:solidFill>
                  <a:srgbClr val="ffffff"/>
                </a:solidFill>
                <a:latin typeface="Arial"/>
              </a:rPr>
              <a:t>En el Derecho inglés, donde un agente tiene a su discreción un poder de acelerar en la ocurrencia de un incumplimiento o el poder de exigir información financiera o incluso para otorgar las renuncias, debe actuar con el cuidado y la habilidad apropiados en el ejercicio de ese poder. En caso de duda, debe obtener las instrucciones del grupo pero, si por alguna razón esto no es posible o hay una emergencia, un agente que actúa en lo que él piensa  que es mejor para los intereses del grupo y ejerce con el cuidado debido, no será responsable aunque el resultado del hecho resulte ser adverso.</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be actuar con observancia de lo establecido en aquellas leyes y reglamentos que hagan referencia a las negociaciones que se le han confiado. </a:t>
            </a:r>
            <a:endParaRPr b="0" lang="en-US" sz="2000" spc="-1" strike="noStrike">
              <a:solidFill>
                <a:srgbClr val="ffffff"/>
              </a:solidFill>
              <a:latin typeface="Arial"/>
            </a:endParaRPr>
          </a:p>
          <a:p>
            <a:pPr marL="339480" indent="-3394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8360" y="404640"/>
            <a:ext cx="8229600" cy="5678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seguir las instrucciones de los miembros del consorcio,</a:t>
            </a:r>
            <a:r>
              <a:rPr b="0" lang="es-ES" sz="3200" spc="-1" strike="noStrike">
                <a:solidFill>
                  <a:srgbClr val="ffffff"/>
                </a:solidFill>
                <a:latin typeface="Arial"/>
              </a:rPr>
              <a:t> así como defender en todo momento sus intereses. Deber que va implícito en toda comisión (art. 268 C° Co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deber de defensa de los intereses de los comitentes si bien no se manifiesta de forma expresa, aparece reflejado en distintos preceptos del Código de Comerci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jemplo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1)Suplir fondos si así se pactó (art. 272 C° 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No dar a los fondos recibidos destino distinto al pactado (art. 251 C°Com).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3)Cobrar los créditos del comitente sin demora (art. 312 C° C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68360" y="475920"/>
            <a:ext cx="8229600" cy="5678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 realizar su encargo personalmente</a:t>
            </a:r>
            <a:r>
              <a:rPr b="0" lang="es-ES" sz="3200" spc="-1" strike="noStrike">
                <a:solidFill>
                  <a:srgbClr val="ffffff"/>
                </a:solidFill>
                <a:latin typeface="Arial"/>
              </a:rPr>
              <a:t> y no puede delegar sus funciones sin autorización de las demás entidades. Este deber también va implícito en toda comisión (art. 261 C° Co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68360" y="333360"/>
            <a:ext cx="8229600" cy="61912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ber de información a los miembros del Consorcio</a:t>
            </a:r>
            <a:r>
              <a:rPr b="0" lang="es-E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deber de información también va implícito en toda comisión (art. 250 C° Com.), pero en esta materia se precisa en cláusulas este deber más específicamen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Agente oportun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el recibo de todos los documentos requeridos para concretar el Acuerdo: (documentos que deben ser entregados antes del desembolso inicial), estos son: pagares, títulos del prestatario y del Garante, informe del asesor del prestatario y del Garante, aceptación del mandato por el agente.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s partes:</a:t>
            </a:r>
            <a:br>
              <a:rPr sz="4400"/>
            </a:b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tatario o Acreditad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ancos Agrupados</a:t>
            </a:r>
            <a:r>
              <a:rPr b="0" lang="es-ES" sz="3200" spc="-1" strike="noStrike">
                <a:solidFill>
                  <a:srgbClr val="ffffff"/>
                </a:solidFill>
                <a:latin typeface="Arial"/>
              </a:rPr>
              <a:t>: Consorcio o Sindica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rá a cada Banco sobre la recepción de cualquier documento pedido en virtud de Las Condiciones Adicionales que deben ser cumplidas Antes de Cada Desembolso, establecidas en el  Acuerd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ar a cada Banco todas las Notas recibidas por éste para el Banc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6094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caso de crédito sindicado internacional, el Agente debe enviar a cada Banco copias de cualquier documento recibido en virtud de la cláusula de withholding tax o Gross-up (impuesto retenido), cláusula que señala que el Prestatario debe enviar el recibo oficial de impuestos pagados al Agente,  a no más tardar que al 30° día después del pago.(impuesto adicional 59 Nº 1 ) El Agente, tan pronto como sea posible, enviará a cada Banco copias de los documentos recibidos conforme a esta cláusula, esto para que puedan deducir como crédito el impuesto pagado en el extranjero por el Prestatario en su calidad de retenedor del impuesto (que sería el Impuesto Adicional en nuestro Derecho Tributari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e notificar los incumplimientos, a condición de que haya verificado apropiadamente que un incumplimiento ha sucedido y que éste sea de tal magnitud que el sindicato puede ser perjudicado material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ber del agente de no ponerse en posición donde su deber y sus intereses choquen</a:t>
            </a:r>
            <a:endParaRPr b="0" lang="en-US" sz="36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una regla de aplicación universal, establecida también en le Código de Comercio en su art. 271,.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ejemplo, el banco agente aparte de ser un miembro del sindicato puede tener otros préstamos fuera del crédito sindicado que quizás sea perjudicial si el préstamo sindicado de la agencia deba ser acelerado en la eventualidad de un incumplimiento.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ede pensarse que los préstamos sindicados están pensados para refinanciar los préstamos privados del ag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cláusulas de la agencia procuran proteger al agente de estos riesgos por varias cláusulas de exculpación. No obstante hay algunos casos en que la única vía abierta a un agente que encontrándose en un conflicto es revelar el interés al sindicato y dejar la decisión a este último si designan o no a otro agente. En la práctica, los sindicados están de acuerdo en mantener a su agente a causa de la dificultad de encontrar un banco independiente y porque ellos no desean ser dejado sin timón, debido a la necesidad de dire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ber de rendición de cuentas y liquidación de las operaciones realizada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es un deber fundamental de toda comisión, (art. 233, 279 y 280 C° Com.).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l agente actúa como conducto para pagos. Los bancos hacen sus contribuciones disponibles en una cuenta al prestatario. A la inversa, los pagos que hace el prestatario son hechos a la cuenta del agente, que distribuye éstos entre el consorcio de acuerdo con sus participaciones</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cuenta, que el Agente abre por el importe total del crédito, le permite seguir y supervisar en todo momento el saldo deudor del prestatario y, en consecuencia, ir practicando las liquidaciones oportunas a las entidades del sindicato, en proporción a sus participaciones respectivas y a medida que se producen los plazos de exigibilidad de sus crédit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Derechos del Agente</a:t>
            </a:r>
            <a:br>
              <a:rPr sz="4000"/>
            </a:b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Arial"/>
              </a:rPr>
              <a:t>Derecho a recibir su comisión (fee)</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lemento de la naturaleza de toda comisión (art.233 y 275 C° Com.)</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icularidad de este tipo de operaciones: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Se estipula que corra a cargo del prestatario.</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	</a:t>
            </a:r>
            <a:r>
              <a:rPr b="1" lang="es-ES" sz="3200" spc="-1" strike="noStrike">
                <a:solidFill>
                  <a:srgbClr val="ffffff"/>
                </a:solidFill>
                <a:latin typeface="Arial"/>
              </a:rPr>
              <a:t>	</a:t>
            </a:r>
            <a:r>
              <a:rPr b="1" lang="es-ES" sz="3200" spc="-1" strike="noStrike">
                <a:solidFill>
                  <a:srgbClr val="ffffff"/>
                </a:solidFill>
                <a:latin typeface="Arial"/>
              </a:rPr>
              <a:t>Porque la estructuración del crédito atiende a sus intere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e3e3ff"/>
                </a:solidFill>
                <a:latin typeface="Arial"/>
              </a:rPr>
              <a:t>Derecho a recibir el reintegro de los gastos incurridos</a:t>
            </a:r>
            <a:br>
              <a:rPr sz="4000"/>
            </a:br>
            <a:endParaRPr b="0" lang="en-US" sz="28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 entidades sindicadas deben reintegrar al Agente, a petición de éste, y a Pro Rata de su Participación, todos los gastos en que haya  incurrido en el ejercicio de sus funciones, incluyendo, sin limitación, los gastos y honorarios razonables de los asesores legales y otros asesores profesi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76464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láusulas de claw-back</a:t>
            </a:r>
            <a:r>
              <a:rPr b="0" lang="es-ES" sz="3200" spc="-1" strike="noStrike">
                <a:solidFill>
                  <a:srgbClr val="ffffff"/>
                </a:solidFill>
                <a:latin typeface="Arial"/>
              </a:rPr>
              <a:t>: Por razón de retrasos en convenios de acuerdos internacionales, loa agentes bancarios frecuentemente deben dar instrucciones para que los dineros sean pagados a los bancos, antes de saber con toda seguridad que los dineros efectivamente se han recibido. Si los dineros no llegan, el agente usará sus propios fondo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stas cláusulas de claw-back permiten al agente reclamar los dineros erróneamente pagado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orcio</a:t>
            </a:r>
            <a:r>
              <a:rPr b="0" lang="en-US" sz="3200" spc="-1" strike="noStrike">
                <a:solidFill>
                  <a:srgbClr val="ffffff"/>
                </a:solidFill>
                <a:latin typeface="Arial"/>
              </a:rPr>
              <a:t>: Analizable desde dos perspectivas</a:t>
            </a:r>
            <a:endParaRPr b="0" lang="en-US" sz="3200" spc="-1" strike="noStrike">
              <a:solidFill>
                <a:srgbClr val="ffffff"/>
              </a:solidFill>
              <a:latin typeface="Arial"/>
            </a:endParaRPr>
          </a:p>
        </p:txBody>
      </p:sp>
      <p:sp>
        <p:nvSpPr>
          <p:cNvPr id="128" name=""/>
          <p:cNvSpPr/>
          <p:nvPr/>
        </p:nvSpPr>
        <p:spPr>
          <a:xfrm>
            <a:off x="2987640" y="2276640"/>
            <a:ext cx="129708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995640" y="2924280"/>
            <a:ext cx="4321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 posición contractual de otorgar crédito (art. 1438 C.C.)</a:t>
            </a:r>
            <a:endParaRPr b="0" lang="en-US" sz="3200" spc="-1" strike="noStrike">
              <a:solidFill>
                <a:srgbClr val="ffffff"/>
              </a:solidFill>
              <a:latin typeface="Arial"/>
            </a:endParaRPr>
          </a:p>
        </p:txBody>
      </p:sp>
      <p:sp>
        <p:nvSpPr>
          <p:cNvPr id="130" name=""/>
          <p:cNvSpPr/>
          <p:nvPr/>
        </p:nvSpPr>
        <p:spPr>
          <a:xfrm flipH="1">
            <a:off x="1186920" y="2421000"/>
            <a:ext cx="289080" cy="25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1042920" y="4724280"/>
            <a:ext cx="6842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rna: Relaciones de Coordinación entre l</a:t>
            </a:r>
            <a:r>
              <a:rPr b="0" lang="es-MX" sz="3200" spc="-1" strike="noStrike">
                <a:solidFill>
                  <a:srgbClr val="ffffff"/>
                </a:solidFill>
                <a:latin typeface="Arial"/>
              </a:rPr>
              <a:t>as entidades p</a:t>
            </a:r>
            <a:r>
              <a:rPr b="0" lang="es-ES" sz="3200" spc="-1" strike="noStrike">
                <a:solidFill>
                  <a:srgbClr val="ffffff"/>
                </a:solidFill>
                <a:latin typeface="Arial"/>
              </a:rPr>
              <a:t>artícipes  del Sindicato: agente de sindic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9"/>
                                        </p:tgtEl>
                                        <p:attrNameLst>
                                          <p:attrName>style.visibility</p:attrName>
                                        </p:attrNameLst>
                                      </p:cBhvr>
                                      <p:to>
                                        <p:strVal val="visible"/>
                                      </p:to>
                                    </p:set>
                                    <p:animEffect filter="box(in)" transition="in">
                                      <p:cBhvr additive="repl">
                                        <p:cTn id="14" dur="500"/>
                                        <p:tgtEl>
                                          <p:spTgt spid="12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31"/>
                                        </p:tgtEl>
                                        <p:attrNameLst>
                                          <p:attrName>style.visibility</p:attrName>
                                        </p:attrNameLst>
                                      </p:cBhvr>
                                      <p:to>
                                        <p:strVal val="visible"/>
                                      </p:to>
                                    </p:set>
                                    <p:animEffect filter="box(in)" transition="in">
                                      <p:cBhvr additive="repl">
                                        <p:cTn id="1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El derecho del Agente de ser indemnizado</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agente tiene el derecho implícito para ser indemnizado por perjuicios que se le causen al realizar en 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Arial"/>
              </a:rPr>
              <a:t>Responsabilidad del Agente</a:t>
            </a:r>
            <a:br>
              <a:rPr sz="4000"/>
            </a:b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n prácticamente todos los contratos de créditos sindicados se contienen cláusulas que exoneran o limitan la responsabilidad que pueda ser imputable al Agente con ocasión del ejercicio de sus func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Las cláusulas protectoras</a:t>
            </a:r>
            <a:r>
              <a:rPr b="0" lang="en-US" sz="2800" spc="-1" strike="noStrike">
                <a:solidFill>
                  <a:srgbClr val="e3e3ff"/>
                </a:solidFill>
                <a:latin typeface="Arial"/>
              </a:rPr>
              <a:t>:</a:t>
            </a:r>
            <a:endParaRPr b="0" lang="en-US" sz="28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n cláusulas que definen específicamente la extensión de las responsabilidades del agente en este respec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deberá estar bajo ningún deber, ni inicialmente ni en una fase continua, de proporcionar a ningún banco  otra información con respecto a la condición financiera ni los asuntos del prestatario ni sus compañías asociadas,  excepto por la información financiera que de acuerdo a los términos del Acuerdo del Crédito Sindicado el Agente tiene que enviar a cada ban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tá obligado a revelar información relacionada al prestatario o sus compañías asociadas, si la revelación hace o puede, en la opinión del Agente, constituir una infracción de alguna ley o deber de secreto o de confidencial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El agente no está bajo ningún deber de averiguar ni de informarse sobre el desempeño ni la observancia de cualquiera de los términos contenidos en el Acuerdo de Crédito Sindicado ni en cuanto a la existencia o la posible existencia de cualquier incumplimiento o potencial incumplimiento, a menos que el personal del Agente relacionado con la administración del Acuerdo del Crédito Sindicado lo haya notificado del incumplimiento por una nota  encabezada ‘Aviso de  Incumplimi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Arial"/>
              </a:rPr>
              <a:t>Cláusulas de exculpación</a:t>
            </a:r>
            <a:endParaRPr b="0" lang="en-US" sz="28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t>
            </a:r>
            <a:r>
              <a:rPr b="1" lang="en-US" sz="3200" spc="-1" strike="noStrike">
                <a:solidFill>
                  <a:srgbClr val="ffffff"/>
                </a:solidFill>
                <a:latin typeface="Arial"/>
              </a:rPr>
              <a:t> </a:t>
            </a:r>
            <a:r>
              <a:rPr b="0" lang="en-US" sz="3200" spc="-1" strike="noStrike">
                <a:solidFill>
                  <a:srgbClr val="ffffff"/>
                </a:solidFill>
                <a:latin typeface="Arial"/>
              </a:rPr>
              <a:t>limitan las obligaciones del agente mediante estas cláusulas que eximen de responsabilid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es técnicas contractuales 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La inserción de inmunidades gener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El Agente no es responsable de ninguna omisión o incumplimiento excepto en el caso de negligencia grave o mala conducta volunta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620280"/>
            <a:ext cx="8229600" cy="5977080"/>
          </a:xfrm>
          <a:prstGeom prst="rect">
            <a:avLst/>
          </a:prstGeom>
          <a:noFill/>
          <a:ln w="0">
            <a:noFill/>
          </a:ln>
        </p:spPr>
        <p:txBody>
          <a:bodyPr anchor="t">
            <a:normAutofit/>
          </a:bodyPr>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La inclusión de las inmunidades específicas que indican</a:t>
            </a:r>
            <a:endParaRPr b="0" lang="en-US" sz="2000" spc="-1" strike="noStrike">
              <a:solidFill>
                <a:srgbClr val="ffffff"/>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l Agente no es responsables de ninguna insuficiencia de los document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es responsable de la negligencia ni el dolo de sus funcionario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 comunicaciones y certificados que se crea que han sido mandados y firmados por las personas apropiadas,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confiar del Informe de abogados y otros expertos escogidos por él,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e creerá que el Agente esté al tanto de un incumplimiento o de un eventual incumplimiento, excepto en estrictas circunstancias</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jercer su derecho como un banco como si no fuera el Agente, y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puede entrar en otro negocio con el prestatario y sus compañías asociadas sin la obligación de dar cuenta; </a:t>
            </a:r>
            <a:endParaRPr b="0" lang="en-US" sz="2000" spc="-1" strike="noStrike">
              <a:solidFill>
                <a:srgbClr val="ffffff"/>
              </a:solidFill>
              <a:latin typeface="Arial"/>
            </a:endParaRPr>
          </a:p>
          <a:p>
            <a:pPr marL="660240" indent="-66024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gente no será responsable de los error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549000"/>
            <a:ext cx="8229600" cy="5576760"/>
          </a:xfrm>
          <a:prstGeom prst="rect">
            <a:avLst/>
          </a:prstGeom>
          <a:noFill/>
          <a:ln w="0">
            <a:noFill/>
          </a:ln>
        </p:spPr>
        <p:txBody>
          <a:bodyPr anchor="t">
            <a:normAutofit/>
          </a:bodyPr>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u="sng">
                <a:solidFill>
                  <a:srgbClr val="ffffff"/>
                </a:solidFill>
                <a:uFillTx/>
                <a:latin typeface="Arial"/>
              </a:rPr>
              <a:t>Investir de poderes y deberes a los bancos</a:t>
            </a:r>
            <a:r>
              <a:rPr b="0" lang="es-ES" sz="2400" spc="-1" strike="noStrike">
                <a:solidFill>
                  <a:srgbClr val="ffffff"/>
                </a:solidFill>
                <a:latin typeface="Arial"/>
              </a:rPr>
              <a:t> para limitar su dependencia en el Agente, por ejemplo:</a:t>
            </a:r>
            <a:endParaRPr b="0" lang="en-US" sz="2400" spc="-1" strike="noStrike">
              <a:solidFill>
                <a:srgbClr val="ffffff"/>
              </a:solidFill>
              <a:latin typeface="Arial"/>
            </a:endParaRPr>
          </a:p>
          <a:p>
            <a:pPr marL="660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concuerdan en controlar la condición financiera del prestatario por sí mismos,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se dan poderes para individualmente pedir información del prestatario en forma directa,</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Agente no está obligado a acelerar el cobro del total del crédito ante un incumplimiento, a menos que sea ordenado por la mayoría de los bancos  y </a:t>
            </a:r>
            <a:endParaRPr b="0" lang="en-US" sz="2400" spc="-1" strike="noStrike">
              <a:solidFill>
                <a:srgbClr val="ffffff"/>
              </a:solidFill>
              <a:latin typeface="Arial"/>
            </a:endParaRPr>
          </a:p>
          <a:p>
            <a:pPr marL="660240" indent="-66024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bancos pueden renunciar a convenants y despachar notificaciones para sanear un incumplimi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n su Perspectiva interna….</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izar jurídicamente el tipo de relaciones entre los bancos al interior del consorcio contribuirá a la definición de la naturaleza jurídica del Ag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3e3ff"/>
                </a:solidFill>
                <a:latin typeface="Arial"/>
              </a:rPr>
              <a:t>Default del Agente</a:t>
            </a:r>
            <a:r>
              <a:rPr b="0" lang="es-ES" sz="2800" spc="-1" strike="noStrike">
                <a:solidFill>
                  <a:srgbClr val="e3e3ff"/>
                </a:solidFill>
                <a:latin typeface="Arial"/>
              </a:rPr>
              <a:t>:</a:t>
            </a:r>
            <a:r>
              <a:rPr b="0" lang="es-ES" sz="4400" spc="-1" strike="noStrike">
                <a:solidFill>
                  <a:srgbClr val="e3e3ff"/>
                </a:solidFill>
                <a:latin typeface="Arial"/>
              </a:rPr>
              <a:t> </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 el Agente se vuelve insolvente después que recibe las contribuciones del consorcio y antes de arreglar las cuentas del prestatario o dirige mal los dineros, el consorcio será todavía responsable del préstamo al prestatario; una vez que el prestatario ha pagado al Agente, el prestatario es liberado, aunque el Agente no cumpla con distribuir el pago al consorcio</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lución en el sistema anglosajó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Un  consorcio que desea protegerse contra la insolvencia o el fraude de un agente puede requerir que todos los pagos con respecto al préstamo sean pagados en una cuenta separada a nombre del agente que sea de confianza para los bancos. La teoría es que si el agente liquida los dineros del consorcio, pertenecerán a los bancos y no caerán en el fondo general disponible a los acreedores no garantizados. Alternativamente, si el agente malversa dinero que esté relacionado con el consorcio, los bancos beneficiarios tienen mayor posibilidad para rastrear esos dineros de manos de quien ellos decidan. Por ejemplo donde un síndico mezcle sus propios dineros con dinero de consorcio en la misma cuenta, se cree que él extrajo sus propios dineros prime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emás, estos casos de incumplimiento del Agente, normalmente generan su remoción de las funciones como Banco Agente, dado que en casi todos estos Acuerdos de Crédito Sindicado se establece una cláusula de Remoción, que establecen que la mayoría de los bancos, siempre tienen la facultad de remover al Agente, cuya remoción puede ser con o sin causa, y proceden a nombrar un nuevo Agente, y sólo una vez que  han sido notificados los bancos, el prestatario y el garante de la aceptación del nuevo Agente, queda liberado de sus obligaciones y facultades el Agente removid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s una sociedad mercantil?</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 bien es cierto que existe una reunión de colaboración y dinero destinados a un fin común lucrativ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No se manifiestan                             características típicas de ell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2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existe</a:t>
            </a:r>
            <a:r>
              <a:rPr b="0" lang="es-ES" sz="3200" spc="-1" strike="noStrike">
                <a:solidFill>
                  <a:srgbClr val="ffffff"/>
                </a:solidFill>
                <a:latin typeface="Arial"/>
              </a:rPr>
              <a:t> </a:t>
            </a:r>
            <a:r>
              <a:rPr b="1" i="1" lang="es-ES" sz="3200" spc="-1" strike="noStrike">
                <a:solidFill>
                  <a:srgbClr val="ffffff"/>
                </a:solidFill>
                <a:latin typeface="Arial"/>
              </a:rPr>
              <a:t>Affectio Societatis</a:t>
            </a:r>
            <a:r>
              <a:rPr b="0" lang="es-ES" sz="3200" spc="-1" strike="noStrike">
                <a:solidFill>
                  <a:srgbClr val="ffffff"/>
                </a:solidFill>
                <a:latin typeface="Arial"/>
              </a:rPr>
              <a:t>: cláusulas que independizan a cada entidad acreditante en el devenir del desarrollo del negocio (consideración negocial individualiza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rPr>
              <a:t> </a:t>
            </a:r>
            <a:r>
              <a:rPr b="0" i="1" lang="es-ES" sz="3200" spc="-1" strike="noStrike">
                <a:solidFill>
                  <a:srgbClr val="ffffff"/>
                </a:solidFill>
                <a:latin typeface="Arial"/>
              </a:rPr>
              <a:t>(a) </a:t>
            </a:r>
            <a:r>
              <a:rPr b="0" lang="es-ES" sz="3200" spc="-1" strike="noStrike">
                <a:solidFill>
                  <a:srgbClr val="ffffff"/>
                </a:solidFill>
                <a:latin typeface="Arial"/>
              </a:rPr>
              <a:t>independencia de créditos y de deudas (montos y accio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a:rPr>
              <a:t>(b) </a:t>
            </a:r>
            <a:r>
              <a:rPr b="0" lang="es-ES" sz="3200" spc="-1" strike="noStrike">
                <a:solidFill>
                  <a:srgbClr val="ffffff"/>
                </a:solidFill>
                <a:latin typeface="Arial"/>
              </a:rPr>
              <a:t>Cambio de Circunstancias</a:t>
            </a:r>
            <a:r>
              <a:rPr b="0" i="1" lang="es-ES" sz="3200" spc="-1" strike="noStrike">
                <a:solidFill>
                  <a:srgbClr val="ffffff"/>
                </a:solidFill>
                <a:latin typeface="Arial"/>
              </a:rPr>
              <a:t> </a:t>
            </a:r>
            <a:r>
              <a:rPr b="0" lang="es-ES" sz="3200" spc="-1" strike="noStrike">
                <a:solidFill>
                  <a:srgbClr val="ffffff"/>
                </a:solidFill>
                <a:latin typeface="Arial"/>
              </a:rPr>
              <a:t>(v.gr. Divisas; Encaje Bancari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existe un patrimonio</a:t>
            </a:r>
            <a:r>
              <a:rPr b="0" lang="en-US" sz="3200" spc="-1" strike="noStrike">
                <a:solidFill>
                  <a:srgbClr val="ffffff"/>
                </a:solidFill>
                <a:latin typeface="Arial"/>
              </a:rPr>
              <a:t> </a:t>
            </a:r>
            <a:r>
              <a:rPr b="1" lang="en-US" sz="3200" spc="-1" strike="noStrike">
                <a:solidFill>
                  <a:srgbClr val="ffffff"/>
                </a:solidFill>
                <a:latin typeface="Arial"/>
              </a:rPr>
              <a:t>que sea común y autónomo</a:t>
            </a:r>
            <a:r>
              <a:rPr b="0" lang="en-US" sz="3200" spc="-1" strike="noStrike">
                <a:solidFill>
                  <a:srgbClr val="ffffff"/>
                </a:solidFill>
                <a:latin typeface="Arial"/>
              </a:rPr>
              <a:t>, que revista una titularidad de derechos separable de lo que cada integrante del consorcio aporta: sólo concurren varios aportes por separado, cada uno de los cuales es una cuota de propiedad, disposición y riesgo individ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764640"/>
            <a:ext cx="8229600" cy="500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No se dispone de una acción social para exigir el oportuno aporte</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rtículo 379 C.Co.) “El retardo en la entrega del aporte, sea cual fuere la causa que lo produzca, autoriza </a:t>
            </a:r>
            <a:r>
              <a:rPr b="1" lang="es-ES" sz="3200" spc="-1" strike="noStrike">
                <a:solidFill>
                  <a:srgbClr val="ffffff"/>
                </a:solidFill>
                <a:latin typeface="Arial"/>
              </a:rPr>
              <a:t>a los asociados</a:t>
            </a:r>
            <a:r>
              <a:rPr b="0" lang="es-ES" sz="3200" spc="-1" strike="noStrike">
                <a:solidFill>
                  <a:srgbClr val="ffffff"/>
                </a:solidFill>
                <a:latin typeface="Arial"/>
              </a:rPr>
              <a:t> para excluír de la sociedad al socio moroso o proceder ejecutivamentecontra su persona y bienes para compelerlo al cumplimiento de su obligació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9:06:26Z</dcterms:created>
  <dc:creator>.</dc:creator>
  <dc:description/>
  <dc:language>en-US</dc:language>
  <cp:lastModifiedBy>Facultad de Derecho - Universidad de Chile</cp:lastModifiedBy>
  <dcterms:modified xsi:type="dcterms:W3CDTF">2004-10-21T22:31:07Z</dcterms:modified>
  <cp:revision>39</cp:revision>
  <dc:subject/>
  <dc:title>El Agente de Sindicación Bancaria</dc:title>
</cp:coreProperties>
</file>