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7D8F-EE7C-4763-A7A0-705326E29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8786-6B8F-4606-B46E-C152A286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5215D-C0AC-463F-8328-66F1A6666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030C0-3AD9-4545-A5D7-DC8A0BB78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903B4-002A-44EA-ABE2-F84CCD45E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0522C-7D8C-40C7-B264-DD0E8ACA4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5D40C-FD38-4D6C-9383-31D5DCA82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93C5B-48E1-4241-940B-6434F7FCC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D7F16-F684-49DC-90FF-6DD86BF87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BDBAA-FD76-4ACA-AD03-CD8AA712B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9177A-B85C-42CF-B8DD-784A64AE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85284-B2DB-4523-8B6B-45DB2BFEE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82A7-59F2-4A55-839B-5A14CE91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F4E7C-944D-4728-B4E3-DAFA6BA5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5B9C3-A33B-49D4-8C46-2F0F19F62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F1373-7E2F-46B2-A964-8C8F50129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EBC65-B286-41C7-AF94-685A1C038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6707-0923-474C-B243-232F87DE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D498-4B77-4048-9042-9DBD1E4AD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95F3-E5E0-4A79-8A1A-80F62175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9CD6-448E-4EBE-9EC0-7AADF0DC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6D3E-16F3-4CC1-B516-772AF0D1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9FEF-2606-4DD1-8799-EF8E4BD9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BD1A-7C4F-4B0F-A6E2-2E84F3B5E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6DB6-AF8B-4C72-8121-2F8B2F9F10C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4C52-7ED1-4BBD-BF50-E39A9C8B0C9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onos Convertibles en Acción</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scripción de la Emisió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Solicitu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critura de emisió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ospec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tros anteceden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nscrip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ificadoras de Riesgo</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s Anónimas o de Responsabilidad Limita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o exclusiv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icación obligatoria de Títulos de Deu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t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arg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ego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riterios Básicos de Calificación</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ncia del emis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aldo o garantí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quidez de los Valo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dad de generar util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sgos previsi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ción dispon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o Práctic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sión de Bonos Convertible en acciones de la sociedad Aguas del Campo 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acterísticas de la ofert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to de la emisión:  US$ 100 millo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ajustabilidad: Dólar Observ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eda de pago: Pes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echa de vencimiento : 1 de Marzo de 20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ríodo de Oferta Preferente</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de 23 de noviembre a 23 de diciembre de 200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o en el cual los accionistas de la sociedad tienen el derecho de suscribir bonos antes de ser puestos al mercado, generalmente en condiciones mas favorables, en razón de su derecho de acción prefer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io de Conversión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do en el contrato de emi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azón de Conversión: Corresponde al número de acciones en que se puede canjear el bono convertible. Se obtiene dividiendo el nominal del bono por el precio de convers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sa de Interé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Bono tendrá un cupón base de 6% anual y una tasa semestral del 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terés Adicional o Premio por no Conversión: Se expresará como un valor de amortización final que se pagaría al rescate del bono, a los tenedores de bono que no hayan ejercido su derecho de convertir sus bonos en acciones o al vencimiento de est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echa desde la cual se devengan intereses:</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r de el 23 de diciembre de 2004, en el caso que analiza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Pago de Intereses</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pagos de intereses se efectuarán semestralmente los1° de marzo y 1° de septiembre de cada añ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imer pago de intereses será por el período comprendido entre el 24 de diciembre de 2004 y el día 1° de marzo de 200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dades: Los Bon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ciones para emitir un bo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Bon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mortización</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ago del capital de los bonos o el valor de amortización final, si lo hubiere, se efectuará en una sola cuota que vencerá el 1° de marzo de 2010, a menos que hayan sido convertidos o rescatados anticipadam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versión en acciones.</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enedores de bonos podrán convertirlos en acciones del Emisor, a partir del día siguiente al de término de la oferta preferente y hasta el sexto día anterior a la fecha de vencimiento original o anticipado del bo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Rescate anticipado.</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1° de marzo de 200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lasificación de riesgo</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antander clasificadora de riesgo categoría A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BVA clasificadora de riesgo categoría A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gente colocador y Representante de los tenedores de bono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elfin Corredores de Bol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 Santander Santiag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Bono Convertible de “Aguas del Campo S.A.”</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resente emisión de bonos convertibles de Aguas del Campo S.A., es por un monto equivalente a US$100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ene una tasa de interés anual base de 6%, es reajustable en dólar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ence el primero de marzo de 2010.</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día siguiente al término de oferta preferente, el tenedor del bono tendrá la opción, a su sola voluntad, de convertir este bono en un determinado número de acciones de la compañ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Ejemplo</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través del siguiente ejemplo se muestra la rentabilidad que podría obtener el inversionista en bonos convertibles de Aguas del Campo 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estos efectos se ha supuesto que la inversión asciende a US$100, que se realizará el primero de diciembre de este añ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ecio de mercado de la acción es de $115 (equivalente a US$ 0.2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l tipo de cambio se mantiene constante durante todo el período en US$46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recio de la acció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mercado de la acción al 01/12/04 US$ 0.25 (equiv. A $11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umento promedio anual de la acción  1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la acción supuesto al 23/02/2010 US$ 0.4625 (equiv. a $214)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cione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a unidad de derecho de propiedad de una Sociedad Anónima, con carácter negociable y otorgando a su titular una serie de derech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Acciones: De pago, liberadas, pagadas, ordinarias, preferi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aracterísticas del bono convertibl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or nominal del bono  US$ 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ma de conversión        1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conversión       US$ 0.2875 (equiv. a $ 132,25) (US$ 0,25 x 1.15&gt; 0.287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pón base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6% anual</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zón de conversión       347,8261 acciones por cada bono de US$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mortización</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US$ 10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nálisis de Bonos v/s Bonos Convertibles</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s características y si el inversionista no ha ejercido previamente su derecho a convertir el 25 de febrero de 2010, este podría elegir entre dos alternativas:</a:t>
            </a:r>
            <a:endParaRPr b="0" lang="en-US" sz="3200" spc="-1" strike="noStrike">
              <a:solidFill>
                <a:srgbClr val="ffffff"/>
              </a:solidFill>
              <a:latin typeface="Times New Roman"/>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No convertir el bono en acciones, en este caso el inversionista habría recibido durante la vigencia del bono lo siguiente:</a:t>
            </a:r>
            <a:endParaRPr b="0" lang="en-US" sz="32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6 anuales por concepto de intereses</a:t>
            </a:r>
            <a:endParaRPr b="0" lang="en-US" sz="28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a amortización al final de US$ de 105   </a:t>
            </a:r>
            <a:endParaRPr b="0" lang="en-US" sz="28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 anterior representaría una rentabilidad anual de 6,8% en dólar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Convertir el bono en acciones. El inversionista canjearía su bono convertible por 347 acciones de Aguas de Campo S.A.y recibiría un reembolso por la fracción de acciones que no alcanza para completar un entero, es decir por 0,8261 accion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 esto, los valores que recibiría 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 6 anuales por concepto de interes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ciones de Aguas del Campo S.A. por un valor total de US$161,43. ($214 la acción x 347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embolso por US$0.38 ($214 la acción x 0.8261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 anterior representaría una rentabilidad anual de 13,8% en dóla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 Convertibles en Acción</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quellos títulos o certificados de deuda que representan una obligación contraída por el emisor, el cual entrega un derecho de opción al tenedor para recuperar el importe del bono u adquirir acciones de la empresa emis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sde un punto de vista Jurídico</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 bonos son una de las principales formas que tienen las empresas para el financiamiento de sus activ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n emitidos por lo general por S.A. Abiertas, debido a que tiene mayor facilidad para acceder al mercado de valor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Que ocurre cuando se emite un bono:</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mpresa adquiere una obligación o deu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ual se debe pagar en un determinado plazo y con un determinado interé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ado el plazo pasa del pasivo a un capital aumentado en su val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ón</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bono convertible es una herramienta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 mayores ventajas para el tenedor que las del bono común, razón por la cual su tasa de interés por lo general es men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rcado de Capitale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o de transferencia de recursos financiero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Primario: Emisión y primera vent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erta Públ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ercado Secund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ámites anteriores a la suscripción</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cuerdo para aumentar el capital de la Sociedad. Por la Junta de Accionista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e aumento debe realizarse con el objeto de la emisión de bonos convertibles, y por si estos llegasen a ser acci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de Acción Preferente: Renunciabilidad, oportunidad,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4:38:11Z</dcterms:created>
  <dc:creator>lucarna19</dc:creator>
  <dc:description/>
  <dc:language>en-US</dc:language>
  <cp:lastModifiedBy>Octavio Bofill G.</cp:lastModifiedBy>
  <dcterms:modified xsi:type="dcterms:W3CDTF">2004-10-15T00:34:51Z</dcterms:modified>
  <cp:revision>6</cp:revision>
  <dc:subject/>
  <dc:title>Bonos Convertibles en Acción</dc:title>
</cp:coreProperties>
</file>