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F54AB-F6F7-439D-A075-51AE65B2F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CF120-DA8A-4888-87D4-4D90BB547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01FAB-6E2F-4AE1-BEFD-CD4B4AE35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DDD94-43F7-4DE3-901B-8AEA67411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9E536F-E435-4715-A352-880A90FCEC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B89DE7-E3A3-48C2-86F3-40D8E2F88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129D2-A523-4690-9830-636AE746A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26402-7FCF-42C0-9B96-4ADDE6B6B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A59CC-12AF-4182-8B1C-1D6C32F66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7FDDA-B92A-4699-8367-C621BBF20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3F833-0EE4-4B44-9BCE-401593B9A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90FCB-C5C9-4660-A9A3-0D020566F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0E09D-AABB-4F23-AD90-D0361EED7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1BA6E-6CAD-45AF-A4AA-1077FF152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02C3C-834C-448F-ABAE-6D2C491F8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5E087D-B338-4A2B-A23C-6F2AF7EBB5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EFEF86-F854-4259-BCBB-4E2835AF5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0A431-626B-4BBB-AD24-C9C97E7A3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07080-A5D6-4D48-A7A0-AA6F28821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C7F02-0B73-410F-BD35-A8D29E0DB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BC5F3-158E-4730-8854-BD0DF62F3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48BEC-C858-4E4E-938A-EF82128D1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0B24F-A85F-4307-8FE5-AD4DDF8A0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726A9-DC43-434E-A7FB-5F3728A01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22DD0-FA40-4A70-B49E-450B3FA40AD7}"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0027-10E0-4A19-8936-02A5EF6C5FCC}"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Bonos Convertibles en Acción</a:t>
            </a:r>
            <a:endParaRPr b="1" lang="en-US" sz="5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scripción de la Emisión</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Solicitu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scritura de emisión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Prospect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tros antecedent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2-Inscrip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lificadoras de Riesgo</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iedades Anónimas o de Responsabilidad Limitad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to exclusivo</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ificación obligatoria de Títulos de Deud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orto Plaz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Largo Plaz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tegorí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riterios Básicos de Calificación</a:t>
            </a:r>
            <a:endParaRPr b="1" lang="en-US" sz="44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vencia del emiso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paldo o garantí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quidez de los Valor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pacidad de generar utilidad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iesgos previsibl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ormación dispon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so Práctico</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isión de Bonos Convertible en acciones de la sociedad Aguas del Campo S.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racterísticas de la oferta</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Monto de la emisión:  US$ 100 millon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Reajustabilidad: Dólar Observad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Moneda de pago: Peso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Fecha de vencimiento : 1 de Marzo de 2010</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eríodo de Oferta Preferente</a:t>
            </a:r>
            <a:endParaRPr b="1" lang="en-US" sz="4400" spc="-1" strike="noStrike">
              <a:solidFill>
                <a:srgbClr val="feec94"/>
              </a:solidFill>
              <a:latin typeface="Times New Roman"/>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de 23 de noviembre a 23 de diciembre de 2004</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iodo en el cual los accionistas de la sociedad tienen el derecho de suscribir bonos antes de ser puestos al mercado, generalmente en condiciones mas favorables, en razón de su derecho de acción preferen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recio de Conversión </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Fijado en el contrato de emisió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Razón de Conversión: Corresponde al número de acciones en que se puede canjear el bono convertible. Se obtiene dividiendo el nominal del bono por el precio de convers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asa de Interés</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Bono tendrá un cupón base de 6% anual y una tasa semestral del 3%.</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Interés Adicional o Premio por no Conversión: Se expresará como un valor de amortización final que se pagaría al rescate del bono, a los tenedores de bono que no hayan ejercido su derecho de convertir sus bonos en acciones o al vencimiento de est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Fecha desde la cual se devengan intereses:</a:t>
            </a:r>
            <a:endParaRPr b="1" lang="en-US" sz="40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ontar de el 23 de diciembre de 2004, en el caso que analizam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Pago de Intereses</a:t>
            </a:r>
            <a:endParaRPr b="1" lang="en-US" sz="4400" spc="-1" strike="noStrike">
              <a:solidFill>
                <a:srgbClr val="feec94"/>
              </a:solidFill>
              <a:latin typeface="Times New Roman"/>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os pagos de intereses se efectuarán semestralmente los1° de marzo y 1° de septiembre de cada año.</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primer pago de intereses será por el período comprendido entre el 24 de diciembre de 2004 y el día 1° de marzo de 200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onos</a:t>
            </a:r>
            <a:endParaRPr b="1" lang="en-US" sz="4400" spc="-1" strike="noStrike">
              <a:solidFill>
                <a:srgbClr val="feec94"/>
              </a:solidFill>
              <a:latin typeface="Times New Roman"/>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ralidades: Los Bono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diciones para emitir un bon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es de Bono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Amortización</a:t>
            </a: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pago del capital de los bonos o el valor de amortización final, si lo hubiere, se efectuará en una sola cuota que vencerá el 1° de marzo de 2010, a menos que hayan sido convertidos o rescatados anticipadamen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versión en acciones.</a:t>
            </a:r>
            <a:endParaRPr b="1" lang="en-US" sz="4400" spc="-1" strike="noStrike">
              <a:solidFill>
                <a:srgbClr val="feec94"/>
              </a:solidFill>
              <a:latin typeface="Times New Roman"/>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os tenedores de bonos podrán convertirlos en acciones del Emisor, a partir del día siguiente al de término de la oferta preferente y hasta el sexto día anterior a la fecha de vencimiento original o anticipado del bon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Rescate anticipado.</a:t>
            </a:r>
            <a:endParaRPr b="1" lang="en-US" sz="4400" spc="-1" strike="noStrike">
              <a:solidFill>
                <a:srgbClr val="feec94"/>
              </a:solidFill>
              <a:latin typeface="Times New Roman"/>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partir del 1° de marzo de 2009.</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lasificación de riesgo</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antander clasificadora de riesgo categoría A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BVA clasificadora de riesgo categoría A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Agente colocador y Representante de los tenedores de bonos</a:t>
            </a:r>
            <a:endParaRPr b="1" lang="en-US" sz="4400" spc="-1" strike="noStrike">
              <a:solidFill>
                <a:srgbClr val="feec94"/>
              </a:solidFill>
              <a:latin typeface="Times New Roman"/>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elfin Corredores de Bols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anco Santander Santiago.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Bono Convertible de “Aguas del Campo S.A.”</a:t>
            </a:r>
            <a:endParaRPr b="1" lang="en-US" sz="4400" spc="-1" strike="noStrike">
              <a:solidFill>
                <a:srgbClr val="feec94"/>
              </a:solidFill>
              <a:latin typeface="Times New Roman"/>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presente emisión de bonos convertibles de Aguas del Campo S.A., es por un monto equivalente a US$100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Tiene una tasa de interés anual base de 6%, es reajustable en dólare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Vence el primero de marzo de 2010.</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partir del día siguiente al término de oferta preferente, el tenedor del bono tendrá la opción, a su sola voluntad, de convertir este bono en un determinado número de acciones de la compañí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Ejemplo</a:t>
            </a:r>
            <a:endParaRPr b="1" lang="en-US" sz="4400" spc="-1" strike="noStrike">
              <a:solidFill>
                <a:srgbClr val="feec94"/>
              </a:solidFill>
              <a:latin typeface="Times New Roman"/>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través del siguiente ejemplo se muestra la rentabilidad que podría obtener el inversionista en bonos convertibles de Aguas del Campo S.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Para estos efectos se ha supuesto que la inversión asciende a US$100, que se realizará el primero de diciembre de este añ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precio de mercado de la acción es de $115 (equivalente a US$ 0.25).</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Que el tipo de cambio se mantiene constante durante todo el período en US$460.</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Precio de la acción:</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ecio de mercado de la acción al 01/12/04 US$ 0.25 (equiv. A $115)</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umento promedio anual de la acción  10%</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ecio de la acción supuesto al 23/02/2010 US$ 0.4625 (equiv. a $214) </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cciones</a:t>
            </a:r>
            <a:endParaRPr b="1" lang="en-US" sz="4400" spc="-1" strike="noStrike">
              <a:solidFill>
                <a:srgbClr val="feec94"/>
              </a:solidFill>
              <a:latin typeface="Times New Roman"/>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 una unidad de derecho de propiedad de una Sociedad Anónima, con carácter negociable y otorgando a su titular una serie de derecho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es de Acciones: De pago, liberadas, pagadas, ordinarias, preferid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aracterísticas del bono convertible</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alor nominal del bono  US$ 100</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ima de conversión        15%</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ecio de conversión       US$ 0.2875 (equiv. a $ 132,25) (US$ 0,25 x 1.15&gt; 0.2875)</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pón base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6% anual</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Razón de conversión       347,8261 acciones por cada bono de US$100</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mortización</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US$ 105</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Análisis de Bonos v/s Bonos Convertibles</a:t>
            </a:r>
            <a:endParaRPr b="1" lang="en-US" sz="4400" spc="-1" strike="noStrike">
              <a:solidFill>
                <a:srgbClr val="feec94"/>
              </a:solidFill>
              <a:latin typeface="Times New Roman"/>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ada estas características y si el inversionista no ha ejercido previamente su derecho a convertir el 25 de febrero de 2010, este podría elegir entre dos alternativas:</a:t>
            </a:r>
            <a:endParaRPr b="0" lang="en-US" sz="3200" spc="-1" strike="noStrike">
              <a:solidFill>
                <a:srgbClr val="ffffff"/>
              </a:solidFill>
              <a:latin typeface="Times New Roman"/>
            </a:endParaRPr>
          </a:p>
          <a:p>
            <a:pPr marL="332640" indent="-3326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1.- No convertir el bono en acciones, en este caso el inversionista habría recibido durante la vigencia del bono lo siguiente:</a:t>
            </a:r>
            <a:endParaRPr b="0" lang="en-US" sz="3200" spc="-1" strike="noStrike">
              <a:solidFill>
                <a:srgbClr val="ffffff"/>
              </a:solidFill>
              <a:latin typeface="Times New Roman"/>
            </a:endParaRPr>
          </a:p>
          <a:p>
            <a:pPr lvl="1" marL="720720" indent="-27720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S$6 anuales por concepto de intereses</a:t>
            </a:r>
            <a:endParaRPr b="0" lang="en-US" sz="2800" spc="-1" strike="noStrike">
              <a:solidFill>
                <a:srgbClr val="ffffff"/>
              </a:solidFill>
              <a:latin typeface="Times New Roman"/>
            </a:endParaRPr>
          </a:p>
          <a:p>
            <a:pPr lvl="1" marL="720720" indent="-27720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na amortización al final de US$ de 105   </a:t>
            </a:r>
            <a:endParaRPr b="0" lang="en-US" sz="28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o anterior representaría una rentabilidad anual de 6,8% en dólares.</a:t>
            </a:r>
            <a:endParaRPr b="0" lang="en-US" sz="32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 Convertir el bono en acciones. El inversionista canjearía su bono convertible por 347 acciones de Aguas de Campo S.A.y recibiría un reembolso por la fracción de acciones que no alcanza para completar un entero, es decir por 0,8261 acciones.</a:t>
            </a:r>
            <a:endParaRPr b="0" lang="en-US" sz="32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ada esta esto, los valores que recibiría s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S$ 6 anuales por concepto de interese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cciones de Aguas del Campo S.A. por un valor total de US$161,43. ($214 la acción x 347 acciones / US$460)</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Reembolso por US$0.38 ($214 la acción x 0.8261 acciones / US$460)</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o anterior representaría una rentabilidad anual de 13,8% en dólar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onos Convertibles en Acción</a:t>
            </a:r>
            <a:endParaRPr b="1" lang="en-US" sz="4400" spc="-1" strike="noStrike">
              <a:solidFill>
                <a:srgbClr val="feec94"/>
              </a:solidFill>
              <a:latin typeface="Times New Roman"/>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on aquellos títulos o certificados de deuda que representan una obligación contraída por el emisor, el cual entrega un derecho de opción al tenedor para recuperar el importe del bono u adquirir acciones de la empresa emisor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sde un punto de vista Jurídico</a:t>
            </a:r>
            <a:endParaRPr b="1" lang="en-US" sz="44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 bonos son una de las principales formas que tienen las empresas para el financiamiento de sus actividad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n emitidos por lo general por S.A. Abiertas, debido a que tiene mayor facilidad para acceder al mercado de valor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eec94"/>
                </a:solidFill>
                <a:latin typeface="Times New Roman"/>
              </a:rPr>
              <a:t>Que ocurre cuando se emite un bono:</a:t>
            </a:r>
            <a:br>
              <a:rPr sz="4000"/>
            </a:br>
            <a:endParaRPr b="1" lang="en-US" sz="40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empresa adquiere una obligación o deud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cual se debe pagar en un determinado plazo y con un determinado interé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sado el plazo pasa del pasivo a un capital aumentado en su val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clusión</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 bono convertible es una herramienta de Inversió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 mayores ventajas para el tenedor que las del bono común, razón por la cual su tasa de interés por lo general es men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ercado de Capitales</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o de transferencia de recursos financiero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rcado Primario: Emisión y primera vent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ferta Públic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Mercado Secundar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rámites anteriores a la suscripción</a:t>
            </a:r>
            <a:endParaRPr b="1" lang="en-US" sz="40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Acuerdo para aumentar el capital de la Sociedad. Por la Junta de Accionista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ste aumento debe realizarse con el objeto de la emisión de bonos convertibles, y por si estos llegasen a ser accion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Derecho de Acción Preferente: Renunciabilidad, oportunidad, etc.</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4:38:11Z</dcterms:created>
  <dc:creator>lucarna19</dc:creator>
  <dc:description/>
  <dc:language>en-US</dc:language>
  <cp:lastModifiedBy>Octavio Bofill G.</cp:lastModifiedBy>
  <dcterms:modified xsi:type="dcterms:W3CDTF">2004-10-15T00:34:51Z</dcterms:modified>
  <cp:revision>6</cp:revision>
  <dc:subject/>
  <dc:title>Bonos Convertibles en Acción</dc:title>
</cp:coreProperties>
</file>