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86E-156A-478E-8A0A-73F6CCCA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444-DBC2-4782-98AC-A65B4C8B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A20-472C-4499-B9D8-6658DB1A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472-5B3A-43A8-8C04-3FF7386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6D83-8B31-40CF-8FAA-5D181694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2B7-652D-40D0-A328-FCBD0BE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258D-D445-4CFA-BC4F-86274790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678-01DD-48B7-9E43-7C15E4A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693D-957B-4D5D-AFB5-0E01ADC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69A6-2803-47B3-A5F3-9628739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FFA3-8DB2-4567-9EF3-E5937CC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120-4C12-45C2-AED9-0A7DBCC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7FEC-01FC-43AC-94B9-08C1DEA7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77A-4FD3-4703-9783-57C8F75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378F-D9E9-4D20-91A3-C87AABD9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B2A8-FDF6-498D-AC0D-E62DAC80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48F-2C27-480D-A756-924EE60B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C50-A6E5-4880-86AD-D6F144FB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DAA-5BD3-4742-BE4A-433BE099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812-1847-4464-AC8A-5CE895C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5C9-0942-4F72-94CF-ADDC9741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C9C-4818-4C6A-A2B7-147F501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6D3-9F65-491C-BD07-BCF8075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5E0-D194-408D-AA2F-8BBEBA9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AAD4-3CAE-4647-A79E-AF51BAC9CE3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7DD-5A15-4D3C-8E71-2BA88E25AA7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 Contrato de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términos generales, las operaciones de lease-Back se definen como una fórmula de financiamiento consistente en la venta de un activo de la empresa a una sociedad de leasing, realizando simultáneamente un contrato de arrendamiento financiero sobre el bien vendido. Es decir la titularidad del bien se transmite a la sociedad de leasing, mientras que la empresa vendedora sólo mantiene un derecho de uso sobre el m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Lease-Back como una especie de leasing financi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ción entre leasing financiero y leasing oper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forme a los normas contables existirá un leasing financie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) Se transfiere la propiedad del bien al arrendatario al termin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) El monto de la opción de compra al final del contrato es significativamente inferior al valor de mercado que el bien tendría en ese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) El valor actual o presente de las cuotas de arrendamiento, corresponde a una proporción significativa del valor de mercado del bien al inici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) El contrato cubre una parte significativa de la vida útil del bi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ninguna de la situaciones anteriores se da, sería un leasing oper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operaciones de leasing operativo se contabilizan en forma similar a un contrato normal de arrenda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do por las condiciones económicas de una enajenación, conectada al posterior arrendamiento financiero de los bienes enajenados, se desprende que se trata de un método de financi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ará de baja el valor neto del bien objeto de la operación, reconociéndose simultáneamente y por el mismo importe  el valor inmaterial. Al mismo tiempo deberá reconocerse en el pasivo la deuda total por las cuotas más el importe de la opción de comp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ferencia entre la deuda y la financiación recibida en la operación se contabilizará como gastos a distribuir en varios  ejerc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decir no se registra la venta de un inmovilizado con el resultado que está pueda generar. Se registra una operación de financiación a través de un contrato de arrendamiento financi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el derecho de uso sobre el bien objeto del contrato como un activo inmaterial amortizable( depreciación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aso previo al registro de la operación de financiación debe ser la reclasificación del activo material como activo in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ne como beneficio principal licuar los activos fijos de la empresa, utilizando en el giro del negocio el capital inmovilizado, reestructurar pasivos o financiar distintos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nancia Capital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de financiar hasta el 100% del valor del bien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mite beneficios tributarios, por tratarse de un arriendo, la renta de arrendamiento en su totalidad se considera gasto, disminuyendo la base imponible, con el consiguiente ahorro tributario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s un contrato de arriendo, por lo tanto no constituye deuda y no copa sus líneas de crédito bancarias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Flexibilidad en el pago de las cuotas, se pueden pactar diferenciadas, dependiendo de la estacionalidad y flujos que tenga su activ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- Introduc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as instituciones financieras podrán celebrar aquellos contratos de leasing que importen la prestación de un servicio financiero equivalente al financiamiento a más de un año plazo para la compra de bienes de capital (bienes raíces, maquinarias, equipos, etc.), viviendas y bienes muebles durables susceptibles de ser arrendados bajo la modalidad de leasing financiero (automóviles, computadores personales, equipos de comunicación y otros bienes similares).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os contratos sólo podrán pactarse con personas domiciliadas en Chile y sobre bienes ubicados dentro del territorio nacional. </a:t>
            </a:r>
            <a:br>
              <a:rPr sz="20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 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os bienes para leasing se adquirirán siempre a solicitud de los clientes, no pudiendo mantenerse inventarios para operaciones futuras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as instituciones financieras no podrán contar con instalaciones ni prestar directamente servicios para la mantención y reparación de los bienes que arrienden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 ningún caso las instituciones financieras podrán actuar como sociedades inmobiliarias en los términos señalados en la Ley N° 19.28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algunos el lease-Back sería una retroventa, sin embargo para algunos autores la opción de recomprar la cosa vendida se regiría por las norma de la retroventa( Antonio Ortúz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os puntos de la retroventa que se mencionarán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la estipulación en virtud de la cual el vendedor se reserva la facultad de recobrar la cosa vend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senta el riesgo de que este pacto puede usarse para eludir las normas que prohiben la usura, haciendo pagar un interés superior al máximo permit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pacto debe pactarse en el propio contrato de Comprav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se puede ceder este dere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lazo para ejercer este derecho es de cuatro años contados desde la fecha de celebración del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be dar noticia anticipada del ejercicio de este derecho con al menos seis meses antes del ejercicio efectivo de este derecho, en el caso de los bienes inmuebles, y antes de quince días en el caso de los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- EFECTOS DEL PACT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omprador deberá restituir la cosa vendida junto con sus accesorios naturales. Deberá además, indemnizar al vendedor por todos los deterioros que sufrió la cosa y que le sean imput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vendedor deberá ya sea restituir el precio estipulado a la cantidad acordada, sin reajustar ni intereses si estos no han sido acord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ecto de terceros se aplican las normas de oponibilidad de  la condición de los artículos 1490 y 1491 del Código Civ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- Defini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- Características Gene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Bila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Oner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Conmut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Princip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- Generalmente Consen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- Características Especi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Atíp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Prepa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Financi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De tracto suc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- Elementos Esenc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La c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El pre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La op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- Marco Regul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.- Lex Mercatoria o Costumbre Mercan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.- Normas Tributa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.- ¿Código Civi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- Obligaciones del “Arrendador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onceder el uso y Goce temporal de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spetar la opción (del Arrendatar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- Obligaciones del “Arrendatario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gar la r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Usar la cosa según el destino conve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antener y reparar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Restituir la cosa, en caso de que la opción no sea la de adquirir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Usualmente, se pacta la obligación de contratar un seg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05:43Z</dcterms:created>
  <dc:creator>Facultad de Derecho </dc:creator>
  <dc:description/>
  <dc:language>en-US</dc:language>
  <cp:lastModifiedBy>Octavio Bofill G.</cp:lastModifiedBy>
  <dcterms:modified xsi:type="dcterms:W3CDTF">2004-10-06T12:36:21Z</dcterms:modified>
  <cp:revision>11</cp:revision>
  <dc:subject/>
  <dc:title>El Contrato de Lease-Back</dc:title>
</cp:coreProperties>
</file>