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269F-FF42-4CF5-80AF-D9C9A1FD4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E4E4-5AB6-4C2A-B0CC-9C1B2B3C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A1C0-68C7-4FEA-8722-A4934845C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A261-8B63-4814-BEEB-0FA36E25C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7FF4-8CF4-4FC3-8FFB-B4ABB6FEE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E159-941B-4CF9-B3F4-EC01D881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9478-57A8-414C-8B50-1DC53515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08B3-3439-4990-9A8D-F768746C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E44D-2B4B-4AE0-9B2D-9B61AAB1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464B-CE0A-430C-A207-1C713BCE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E315-AA27-41BA-B518-5D8D9E04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3D27-7406-4D0F-969B-7CFF55E9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EFF8-3648-44C6-96C9-9F8A2A8A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E40D-7194-4084-B647-5A5A4DB6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9F3F-30BD-4B2E-9968-A1A7F5D4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C50F-91B4-455B-ADE1-BE56028B4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1858-9B50-4066-A284-B0A60C605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AAC7-EBB9-4FE4-B27D-30B16E41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EF7A-A1AB-4F1C-93BC-A722F1B9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7A7D-9F0B-4A7A-9768-DB74F2B7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F596-9E42-4DC5-8DE4-1D947CB7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2D6B-5297-428F-B0AC-8B33A3C4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5532-A131-48AC-BF2F-747E32DE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C787-A954-4E4F-8445-797611F8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020A-A05B-4929-BA17-35E89370AF9F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312A-AF2A-47CE-9587-627FC4AC2A4D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Times New Roman"/>
              </a:rPr>
              <a:t>El Contrato de Lease-B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8.- Tratamiento Financiero-Contable del Lease-B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 términos generales, las operaciones de lease-Back se definen como una fórmula de financiamiento consistente en la venta de un activo de la empresa a una sociedad de leasing, realizando simultáneamente un contrato de arrendamiento financiero sobre el bien vendido. Es decir la titularidad del bien se transmite a la sociedad de leasing, mientras que la empresa vendedora sólo mantiene un derecho de uso sobre el mism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8.- Tratamiento Financiero-Contable del Lease-B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Lease-Back como una especie de leasing financier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iferenciación entre leasing financiero y leasing operacion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forme a los normas contables existirá un leasing financier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) Se transfiere la propiedad del bien al arrendatario al termino del contra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8.- Tratamiento Financiero-Contable del Lease-B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) El monto de la opción de compra al final del contrato es significativamente inferior al valor de mercado que el bien tendría en ese momen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) El valor actual o presente de las cuotas de arrendamiento, corresponde a una proporción significativa del valor de mercado del bien al inicio del contra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) El contrato cubre una parte significativa de la vida útil del bi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8.- Tratamiento Financiero-Contable del Lease-B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i ninguna de la situaciones anteriores se da, sería un leasing operativ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s operaciones de leasing operativo se contabilizan en forma similar a un contrato normal de arrendamien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8.- Tratamiento Financiero-Contable del Lease-B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uando por las condiciones económicas de una enajenación, conectada al posterior arrendamiento financiero de los bienes enajenados, se desprende que se trata de un método de financiació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l arrendatario deberá registrar la operación en los términos establecidos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8.- Tratamiento Financiero-Contable del Lease-B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l arrendatario deberá registrar la operación en los términos establecid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dará de baja el valor neto del bien objeto de la operación, reconociéndose simultáneamente y por el mismo importe  el valor inmaterial. Al mismo tiempo deberá reconocerse en el pasivo la deuda total por las cuotas más el importe de la opción de compr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8.- Tratamiento Financiero-Contable del Lease-B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arrendatario deberá registrar la operación en los términos establecid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diferencia entre la deuda y la financiación recibida en la operación se contabilizará como gastos a distribuir en varios  ejerc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decir no se registra la venta de un inmovilizado con el resultado que está pueda generar. Se registra una operación de financiación a través de un contrato de arrendamiento financier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considerar el derecho de uso sobre el bien objeto del contrato como un activo inmaterial amortizable( depreciación)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8.- Tratamiento Financiero-Contable del Lease-B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El arrendatario deberá registrar la operación en los términos establecid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l paso previo al registro de la operación de financiación debe ser la reclasificación del activo material como activo inmateri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8.- Tratamiento Financiero-Contable del Lease-B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BENEFICIOS del contrato de Lease-Back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iene como beneficio principal licuar los activos fijos de la empresa, utilizando en el giro del negocio el capital inmovilizado, reestructurar pasivos o financiar distintos bie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Financia Capital de Trabaj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uede financiar hasta el 100% del valor del bien.</a:t>
            </a:r>
            <a:br>
              <a:rPr sz="2800"/>
            </a:b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8.- Tratamiento Financiero-Contable del Lease-B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BENEFICIOS del contrato de Lease-Back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ermite beneficios tributarios, por tratarse de un arriendo, la renta de arrendamiento en su totalidad se considera gasto, disminuyendo la base imponible, con el consiguiente ahorro tributario. </a:t>
            </a:r>
            <a:br>
              <a:rPr sz="2400"/>
            </a:b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Es un contrato de arriendo, por lo tanto no constituye deuda y no copa sus líneas de crédito bancarias. </a:t>
            </a:r>
            <a:br>
              <a:rPr sz="2400"/>
            </a:b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Flexibilidad en el pago de las cuotas, se pueden pactar diferenciadas, dependiendo de la estacionalidad y flujos que tenga su activida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.- Introducción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9.- Tipo de operaciones autoriza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·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Las instituciones financieras podrán celebrar aquellos contratos de leasing que importen la prestación de un servicio financiero equivalente al financiamiento a más de un año plazo para la compra de bienes de capital (bienes raíces, maquinarias, equipos, etc.), viviendas y bienes muebles durables susceptibles de ser arrendados bajo la modalidad de leasing financiero (automóviles, computadores personales, equipos de comunicación y otros bienes similares). 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·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Los contratos sólo podrán pactarse con personas domiciliadas en Chile y sobre bienes ubicados dentro del territorio nacional. </a:t>
            </a:r>
            <a:br>
              <a:rPr sz="2000"/>
            </a:b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9.- Tipo de operaciones autoriza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·  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Los bienes para leasing se adquirirán siempre a solicitud de los clientes, no pudiendo mantenerse inventarios para operaciones futuras. </a:t>
            </a:r>
            <a:br>
              <a:rPr sz="2400"/>
            </a:b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·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Las instituciones financieras no podrán contar con instalaciones ni prestar directamente servicios para la mantención y reparación de los bienes que arrienden. </a:t>
            </a:r>
            <a:br>
              <a:rPr sz="2400"/>
            </a:b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·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En ningún caso las instituciones financieras podrán actuar como sociedades inmobiliarias en los términos señalados en la Ley N° 19.281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0.- El pacto de retroventa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ara algunos el lease-Back sería una retroventa, sin embargo para algunos autores la opción de recomprar la cosa vendida se regiría por las norma de la retroventa( Antonio Ortúz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lgunos puntos de la retroventa que se mencionarán s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s la estipulación en virtud de la cual el vendedor se reserva la facultad de recobrar la cosa vendi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0.- El pacto de retroven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esenta el riesgo de que este pacto puede usarse para eludir las normas que prohiben la usura, haciendo pagar un interés superior al máximo permiti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te pacto debe pactarse en el propio contrato de Compraven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 se puede ceder este derech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plazo para ejercer este derecho es de cuatro años contados desde la fecha de celebración del contra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debe dar noticia anticipada del ejercicio de este derecho con al menos seis meses antes del ejercicio efectivo de este derecho, en el caso de los bienes inmuebles, y antes de quince días en el caso de los mue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1.- EFECTOS DEL PACTO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comprador deberá restituir la cosa vendida junto con sus accesorios naturales. Deberá además, indemnizar al vendedor por todos los deterioros que sufrió la cosa y que le sean imputa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vendedor deberá ya sea restituir el precio estipulado a la cantidad acordada, sin reajustar ni intereses si estos no han sido acord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ecto de terceros se aplican las normas de oponibilidad de  la condición de los artículos 1490 y 1491 del Código Civi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.- Definición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.- Características Gener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.- Bilate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- Oneros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.- Conmutat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.- Princip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- Generalmente Consens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4.- Características Especial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.- Atíp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- Preparator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.- Financie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.- De tracto suces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5.- Elementos Esenci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.- La co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- El prec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.- La op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6.- Marco Regulato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a.- Lex Mercatoria o Costumbre Mercant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b.- Normas Tributari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.- ¿Código Civil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7.- Efectos del Lease-Back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- Obligaciones del “Arrendador”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Conceder el uso y Goce temporal de la cos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Respetar la opción (del Arrendatario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.- Obligaciones del “Arrendatario”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Pagar la ren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Usar la cosa según el destino conveni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Mantener y reparar la cos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Restituir la cosa, en caso de que la opción no sea la de adquirirl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Usualmente, se pacta la obligación de contratar un segu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7.- Efectos del Lease-Back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20:05:43Z</dcterms:created>
  <dc:creator>Facultad de Derecho </dc:creator>
  <dc:description/>
  <dc:language>en-US</dc:language>
  <cp:lastModifiedBy>Octavio Bofill G.</cp:lastModifiedBy>
  <dcterms:modified xsi:type="dcterms:W3CDTF">2004-10-06T12:36:21Z</dcterms:modified>
  <cp:revision>11</cp:revision>
  <dc:subject/>
  <dc:title>El Contrato de Lease-Back</dc:title>
</cp:coreProperties>
</file>