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2849-3CDF-400B-AB8B-F55CE5A1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95C-88AD-43FE-BA1C-E5920F71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3DC-9BB2-4C16-91EA-E1A1F125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CB9-DF14-4B83-BFED-6DED9F69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91EE-22DB-4916-BEDB-564A49B4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A7AA-679E-426C-88CC-F333B628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DB03-1AE0-4401-B841-E4542A83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78F0-B747-4963-825F-27418BBD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92B7-508A-4CF7-BAE4-EDFE0135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E7C6-5312-4065-BEB7-BFD4416F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42D7-88BF-48BD-9377-9FC2FDF4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05F2-3CB5-4369-B09D-9E9D60CC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542F-370E-465D-86DE-A4904719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1D91-D1C3-48E5-A5AD-F8379D89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2381-6A7B-4448-BB7D-4D076260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804B-2181-4799-99CC-E531C6BD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5580-7916-4A32-9803-BC5BB6CE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D23-C814-4957-A53A-CC14FB74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511-C402-4288-A940-D98269B1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73E-E675-41DB-91D6-86B90995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017-31E6-4C38-BAED-4B2BFB65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D675-B87D-4E9A-B6D6-1EE221A7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D44-0466-44F6-9906-4AF8A66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1C2-6052-4259-A5C6-75B7774A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0EED-010A-44BE-A564-E8C75BC79ADD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82D4-135C-49E0-8F0A-4AD3E7F62FB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El Contrato de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términos generales, las operaciones de lease-Back se definen como una fórmula de financiamiento consistente en la venta de un activo de la empresa a una sociedad de leasing, realizando simultáneamente un contrato de arrendamiento financiero sobre el bien vendido. Es decir la titularidad del bien se transmite a la sociedad de leasing, mientras que la empresa vendedora sólo mantiene un derecho de uso sobre el mis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Lease-Back como una especie de leasing financi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ciación entre leasing financiero y leasing operac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forme a los normas contables existirá un leasing financier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) Se transfiere la propiedad del bien al arrendatario al termino del contra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) El monto de la opción de compra al final del contrato es significativamente inferior al valor de mercado que el bien tendría en ese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) El valor actual o presente de las cuotas de arrendamiento, corresponde a una proporción significativa del valor de mercado del bien al inicio del contra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) El contrato cubre una parte significativa de la vida útil del bi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i ninguna de la situaciones anteriores se da, sería un leasing operati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s operaciones de leasing operativo se contabilizan en forma similar a un contrato normal de arrenda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ndo por las condiciones económicas de una enajenación, conectada al posterior arrendamiento financiero de los bienes enajenados, se desprende que se trata de un método de financiació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dará de baja el valor neto del bien objeto de la operación, reconociéndose simultáneamente y por el mismo importe  el valor inmaterial. Al mismo tiempo deberá reconocerse en el pasivo la deuda total por las cuotas más el importe de la opción de comp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diferencia entre la deuda y la financiación recibida en la operación se contabilizará como gastos a distribuir en varios  ejerc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decir no se registra la venta de un inmovilizado con el resultado que está pueda generar. Se registra una operación de financiación a través de un contrato de arrendamiento financier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considerar el derecho de uso sobre el bien objeto del contrato como un activo inmaterial amortizable( depreciación)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El arrendatario deberá registrar la operación en los términos establecid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paso previo al registro de la operación de financiación debe ser la reclasificación del activo material como activo inmater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</a:rPr>
              <a:t>BENEFICIOS del contrato de Lease-Bac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ne como beneficio principal licuar los activos fijos de la empresa, utilizando en el giro del negocio el capital inmovilizado, reestructurar pasivos o financiar distintos bie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inancia Capital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uede financiar hasta el 100% del valor del bien.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8.- Tratamiento Financiero-Contable del Lease-B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BENEFICIOS del contrato de Lease-Back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rmite beneficios tributarios, por tratarse de un arriendo, la renta de arrendamiento en su totalidad se considera gasto, disminuyendo la base imponible, con el consiguiente ahorro tributario. 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Es un contrato de arriendo, por lo tanto no constituye deuda y no copa sus líneas de crédito bancarias. </a:t>
            </a:r>
            <a:br>
              <a:rPr sz="2400"/>
            </a:b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Flexibilidad en el pago de las cuotas, se pueden pactar diferenciadas, dependiendo de la estacionalidad y flujos que tenga su activida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.- Introducción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.- Tipo de operaciones autoriz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Las instituciones financieras podrán celebrar aquellos contratos de leasing que importen la prestación de un servicio financiero equivalente al financiamiento a más de un año plazo para la compra de bienes de capital (bienes raíces, maquinarias, equipos, etc.), viviendas y bienes muebles durables susceptibles de ser arrendados bajo la modalidad de leasing financiero (automóviles, computadores personales, equipos de comunicación y otros bienes similares).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Los contratos sólo podrán pactarse con personas domiciliadas en Chile y sobre bienes ubicados dentro del territorio nacional. </a:t>
            </a:r>
            <a:br>
              <a:rPr sz="2000"/>
            </a:b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.- Tipo de operaciones autoriz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 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Los bienes para leasing se adquirirán siempre a solicitud de los clientes, no pudiendo mantenerse inventarios para operaciones futuras. 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Las instituciones financieras no podrán contar con instalaciones ni prestar directamente servicios para la mantención y reparación de los bienes que arrienden. 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 En ningún caso las instituciones financieras podrán actuar como sociedades inmobiliarias en los términos señalados en la Ley N° 19.28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- El pacto de retrovent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algunos el lease-Back sería una retroventa, sin embargo para algunos autores la opción de recomprar la cosa vendida se regiría por las norma de la retroventa( Antonio Ortúz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lgunos puntos de la retroventa que se mencionarán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la estipulación en virtud de la cual el vendedor se reserva la facultad de recobrar la cosa vendid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- El pacto de retroven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senta el riesgo de que este pacto puede usarse para eludir las normas que prohiben la usura, haciendo pagar un interés superior al máximo permiti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e pacto debe pactarse en el propio contrato de Comprav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 se puede ceder este derech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plazo para ejercer este derecho es de cuatro años contados desde la fecha de celebración del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debe dar noticia anticipada del ejercicio de este derecho con al menos seis meses antes del ejercicio efectivo de este derecho, en el caso de los bienes inmuebles, y antes de quince días en el caso de los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.- EFECTOS DEL PACTO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comprador deberá restituir la cosa vendida junto con sus accesorios naturales. Deberá además, indemnizar al vendedor por todos los deterioros que sufrió la cosa y que le sean imput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vendedor deberá ya sea restituir el precio estipulado a la cantidad acordada, sin reajustar ni intereses si estos no han sido acord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ecto de terceros se aplican las normas de oponibilidad de  la condición de los artículos 1490 y 1491 del Código Civ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- Definición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.- Características Gener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Bilat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Onero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Conmuta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- Princip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- Generalmente Consens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.- Características Especial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Atíp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Preparato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Financie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- De tracto suces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5.- Elementos Esenci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- La c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- El pre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- La op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- Marco Regulato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.- Lex Mercatoria o Costumbre Mercant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b.- Normas Tributar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.- ¿Código Civi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7.- Efectos del Lease-Bac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- Obligaciones del “Arrendador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Conceder el uso y Goce temporal de la co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Respetar la opción (del Arrendatari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- Obligaciones del “Arrendatario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Pagar la ren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Usar la cosa según el destino conveni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Mantener y reparar la co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Restituir la cosa, en caso de que la opción no sea la de adquirir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Usualmente, se pacta la obligación de contratar un seg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7.- Efectos del Lease-Back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0:05:43Z</dcterms:created>
  <dc:creator>Facultad de Derecho </dc:creator>
  <dc:description/>
  <dc:language>en-US</dc:language>
  <cp:lastModifiedBy>Octavio Bofill G.</cp:lastModifiedBy>
  <dcterms:modified xsi:type="dcterms:W3CDTF">2004-10-06T12:36:21Z</dcterms:modified>
  <cp:revision>11</cp:revision>
  <dc:subject/>
  <dc:title>El Contrato de Lease-Back</dc:title>
</cp:coreProperties>
</file>