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632-024F-4E62-9F15-C135B45B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678-6F26-46E8-97CD-895083E5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177-527E-4506-851D-ACCF4195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2EE-FFDA-48E1-8395-2891C306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2783-EAC6-4BF9-BD13-A7A02913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A046-1D02-43C8-95BA-41DF63EE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200C-E7F2-4D72-B81B-90EC169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11DB-5536-4E47-9F47-C76E0722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2E4E-64FA-4334-A4BC-0977A080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44DC-3F97-4CD9-B928-A0FF556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8737-B3FD-4DC3-B7EA-84A504B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472-416D-4859-A7A9-39DCD0B6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0A9E-7DAF-4D40-996E-0E73E2CB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4FD2-86B9-402B-BEFF-02877FA2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5EE0-A4B4-4F70-94FB-9F68A065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8CC2-F29F-41C1-A7F7-4F265C22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1F34-50BA-4BE7-A208-91507955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F4A-3240-42A4-BE61-BBCBED61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FD4-5AFC-474A-8360-19D842F8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169-795A-42F1-A691-02FB6C41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78A-C0FE-4FD1-B3AE-0BB4A1CD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B25-92D6-4550-AF41-706AED9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D31-A409-4179-BB13-3E31F88B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464-134D-4B55-983C-8CF1F1BE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B5F8-0E31-43AB-BFFF-31C4E52BB52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408C-00FD-4298-B25F-6EF77A34A45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El Contrato de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términos generales, las operaciones de lease-Back se definen como una fórmula de financiamiento consistente en la venta de un activo de la empresa a una sociedad de leasing, realizando simultáneamente un contrato de arrendamiento financiero sobre el bien vendido. Es decir la titularidad del bien se transmite a la sociedad de leasing, mientras que la empresa vendedora sólo mantiene un derecho de uso sobre el mism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Lease-Back como una especie de leasing financi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ciación entre leasing financiero y leasing oper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forme a los normas contables existirá un leasing financie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) Se transfiere la propiedad del bien al arrendatario al termino del contra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) El monto de la opción de compra al final del contrato es significativamente inferior al valor de mercado que el bien tendría en ese mo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) El valor actual o presente de las cuotas de arrendamiento, corresponde a una proporción significativa del valor de mercado del bien al inicio del contra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) El contrato cubre una parte significativa de la vida útil del bi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ninguna de la situaciones anteriores se da, sería un leasing operati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s operaciones de leasing operativo se contabilizan en forma similar a un contrato normal de arrenda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ndo por las condiciones económicas de una enajenación, conectada al posterior arrendamiento financiero de los bienes enajenados, se desprende que se trata de un método de financia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ará de baja el valor neto del bien objeto de la operación, reconociéndose simultáneamente y por el mismo importe  el valor inmaterial. Al mismo tiempo deberá reconocerse en el pasivo la deuda total por las cuotas más el importe de la opción de comp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diferencia entre la deuda y la financiación recibida en la operación se contabilizará como gastos a distribuir en varios  ejerc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decir no se registra la venta de un inmovilizado con el resultado que está pueda generar. Se registra una operación de financiación a través de un contrato de arrendamiento financier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considerar el derecho de uso sobre el bien objeto del contrato como un activo inmaterial amortizable( depreciación)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paso previo al registro de la operación de financiación debe ser la reclasificación del activo material como activo inmater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BENEFICIOS del contrato de Lease-Bac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ne como beneficio principal licuar los activos fijos de la empresa, utilizando en el giro del negocio el capital inmovilizado, reestructurar pasivos o financiar distintos bi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inancia Capital de Tra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uede financiar hasta el 100% del valor del bien.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BENEFICIOS del contrato de Lease-Back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rmite beneficios tributarios, por tratarse de un arriendo, la renta de arrendamiento en su totalidad se considera gasto, disminuyendo la base imponible, con el consiguiente ahorro tributario. 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Es un contrato de arriendo, por lo tanto no constituye deuda y no copa sus líneas de crédito bancarias. 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Flexibilidad en el pago de las cuotas, se pueden pactar diferenciadas, dependiendo de la estacionalidad y flujos que tenga su activida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- Introducción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.- Tipo de operaciones autoriz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Las instituciones financieras podrán celebrar aquellos contratos de leasing que importen la prestación de un servicio financiero equivalente al financiamiento a más de un año plazo para la compra de bienes de capital (bienes raíces, maquinarias, equipos, etc.), viviendas y bienes muebles durables susceptibles de ser arrendados bajo la modalidad de leasing financiero (automóviles, computadores personales, equipos de comunicación y otros bienes similares). 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Los contratos sólo podrán pactarse con personas domiciliadas en Chile y sobre bienes ubicados dentro del territorio nacional. </a:t>
            </a:r>
            <a:br>
              <a:rPr sz="2000"/>
            </a:b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.- Tipo de operaciones autoriz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· 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Los bienes para leasing se adquirirán siempre a solicitud de los clientes, no pudiendo mantenerse inventarios para operaciones futuras. 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Las instituciones financieras no podrán contar con instalaciones ni prestar directamente servicios para la mantención y reparación de los bienes que arrienden. 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En ningún caso las instituciones financieras podrán actuar como sociedades inmobiliarias en los términos señalados en la Ley N° 19.28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- El pacto de retrovent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algunos el lease-Back sería una retroventa, sin embargo para algunos autores la opción de recomprar la cosa vendida se regiría por las norma de la retroventa( Antonio Ortúz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lgunos puntos de la retroventa que se mencionarán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la estipulación en virtud de la cual el vendedor se reserva la facultad de recobrar la cosa vend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- El pacto de retroven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senta el riesgo de que este pacto puede usarse para eludir las normas que prohiben la usura, haciendo pagar un interés superior al máximo permiti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e pacto debe pactarse en el propio contrato de Comprav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se puede ceder este derech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plazo para ejercer este derecho es de cuatro años contados desde la fecha de celebración del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ebe dar noticia anticipada del ejercicio de este derecho con al menos seis meses antes del ejercicio efectivo de este derecho, en el caso de los bienes inmuebles, y antes de quince días en el caso de los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1.- EFECTOS DEL PACT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comprador deberá restituir la cosa vendida junto con sus accesorios naturales. Deberá además, indemnizar al vendedor por todos los deterioros que sufrió la cosa y que le sean imput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vendedor deberá ya sea restituir el precio estipulado a la cantidad acordada, sin reajustar ni intereses si estos no han sido acord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ecto de terceros se aplican las normas de oponibilidad de  la condición de los artículos 1490 y 1491 del Código Civ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- Definición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- Características Gener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- Bilat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- Onero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- Conmuta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- Princip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- Generalmente Consens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- Características Especial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- Atíp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- Preparato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- Financie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- De tracto suces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- Elementos Esenci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- La c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- El pre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- La op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.- Marco Regula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.- Lex Mercatoria o Costumbre Mercant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b.- Normas Tributar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.- ¿Código Civi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7.- Efectos del Lease-Back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- Obligaciones del “Arrendador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Conceder el uso y Goce temporal de la co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spetar la opción (del Arrendatari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- Obligaciones del “Arrendatario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Pagar la ren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Usar la cosa según el destino conven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Mantener y reparar la co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Restituir la cosa, en caso de que la opción no sea la de adquirir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Usualmente, se pacta la obligación de contratar un seg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7.- Efectos del Lease-Back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0:05:43Z</dcterms:created>
  <dc:creator>Facultad de Derecho </dc:creator>
  <dc:description/>
  <dc:language>en-US</dc:language>
  <cp:lastModifiedBy>Octavio Bofill G.</cp:lastModifiedBy>
  <dcterms:modified xsi:type="dcterms:W3CDTF">2004-10-06T12:36:21Z</dcterms:modified>
  <cp:revision>11</cp:revision>
  <dc:subject/>
  <dc:title>El Contrato de Lease-Back</dc:title>
</cp:coreProperties>
</file>