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gunshot.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DA019-5178-4D5D-B72A-266864014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9D62C-F640-445F-A18D-83FF93F83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1DB3C-E421-4843-A447-9A9B04FC7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23A59-BB0C-4549-8ECD-AAFA9EF44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4DBBB-4DB5-4675-AC0C-881CEE133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671B9-1434-4BE9-B8C3-A58A76C8F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6A75A-3BA9-464C-9A00-C86BF0267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FB755-12BB-48F0-BAEE-299A76BCF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41F0D-D611-481B-AB62-59FC28B9F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B1570-C5D8-4125-9674-F974B246F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56C4F-0725-48BB-BE22-24878EE39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49858-BD04-4A5B-B9DC-DC1532851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62FCD-49AF-4902-BB0B-F8AA853F7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66387-E9E1-4DF8-8AAC-F7CD2C431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CBABF-32A6-442B-9F18-3EB4F117F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18513-07EC-4BDD-83FC-79A995C4E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E0CC8-F8E4-49E4-9A85-5719CFFA6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CE1D7-07F8-404A-AA16-85D39661B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C8F9F-27A8-407A-A811-98950309D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0E7A5-9B83-40CD-8542-6B1440B48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ECA6B-0F9F-4D5B-84A9-9160A1B6E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E8C3C-2DEF-4506-887D-73C42C7C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9BAE3-63F0-46A4-97D2-CD593E96F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CC261-60C6-4087-8FC5-DB855757C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FA79-772D-4E0A-B561-0A3125D791A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7BB0-369B-4393-A4CD-90EEBD3B109C}"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audio" Target="../media/gunshot.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09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esión de Bienes al Patrimonio Separado, El Endoso</a:t>
            </a:r>
            <a:endParaRPr b="0" lang="en-US" sz="4400" spc="-1" strike="noStrike">
              <a:solidFill>
                <a:srgbClr val="ffcc66"/>
              </a:solidFill>
              <a:latin typeface="Arial"/>
            </a:endParaRPr>
          </a:p>
        </p:txBody>
      </p:sp>
      <p:sp>
        <p:nvSpPr>
          <p:cNvPr id="89" name="PlaceHolder 2"/>
          <p:cNvSpPr>
            <a:spLocks noGrp="1"/>
          </p:cNvSpPr>
          <p:nvPr>
            <p:ph/>
          </p:nvPr>
        </p:nvSpPr>
        <p:spPr>
          <a:xfrm>
            <a:off x="1371240" y="4723920"/>
            <a:ext cx="7467480" cy="1600200"/>
          </a:xfrm>
          <a:prstGeom prst="rect">
            <a:avLst/>
          </a:prstGeom>
          <a:noFill/>
          <a:ln w="0">
            <a:noFill/>
          </a:ln>
        </p:spPr>
        <p:txBody>
          <a:bodyPr lIns="90000" rIns="90000" tIns="46800" bIns="46800" anchor="t">
            <a:normAutofit fontScale="99000"/>
          </a:bodyPr>
          <a:p>
            <a:pPr marL="339480" indent="-339480" algn="r">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ablo Cabañas</a:t>
            </a:r>
            <a:endParaRPr b="0" lang="en-US" sz="3200" spc="-1" strike="noStrike">
              <a:solidFill>
                <a:srgbClr val="ffffff"/>
              </a:solidFill>
              <a:latin typeface="Times New Roman"/>
            </a:endParaRPr>
          </a:p>
          <a:p>
            <a:pPr marL="339480" indent="-339480" algn="r">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ngel Jara</a:t>
            </a:r>
            <a:endParaRPr b="0" lang="en-US" sz="3200" spc="-1" strike="noStrike">
              <a:solidFill>
                <a:srgbClr val="ffffff"/>
              </a:solidFill>
              <a:latin typeface="Times New Roman"/>
            </a:endParaRPr>
          </a:p>
          <a:p>
            <a:pPr marL="339480" indent="-339480" algn="r">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oberto Sepúlved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ideraciones Previas</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Búsqueda de agiliazción del proceso de securitización.</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creción del principio de la ”venta verdader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eforma introducida por ley 19.623 altera normas sobre transferencias y entrega en garantía de títulos de crédi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Reglas Generales</a:t>
            </a:r>
            <a:endParaRPr b="0" lang="en-US" sz="44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l portador               Mera tradición manual. (Artículo 164 Código de Comerci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 la orden             Endoso. (mismo artícul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artículo 17 de la Ley 18.092 define al endoso como    </a:t>
            </a:r>
            <a:r>
              <a:rPr b="0" lang="es-CL" sz="3200" spc="-1" strike="noStrike">
                <a:solidFill>
                  <a:srgbClr val="ffffff"/>
                </a:solidFill>
                <a:latin typeface="Times New Roman"/>
                <a:ea typeface="Times New Roman"/>
              </a:rPr>
              <a:t>el escrito por el cual el tenedor legítimo transfiere el dominio de la letra, la entrega en cobro o la constituye en prenda.</a:t>
            </a:r>
            <a:r>
              <a:rPr b="0" lang="es-MX"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0" name=""/>
          <p:cNvSpPr/>
          <p:nvPr/>
        </p:nvSpPr>
        <p:spPr>
          <a:xfrm>
            <a:off x="3048120" y="228600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2971800" y="33526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Reglas Generales</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ominativos           </a:t>
            </a:r>
            <a:r>
              <a:rPr b="0" lang="es-CL" sz="2800" spc="-1" strike="noStrike">
                <a:solidFill>
                  <a:srgbClr val="ffffff"/>
                </a:solidFill>
                <a:latin typeface="Times New Roman"/>
                <a:ea typeface="Times New Roman"/>
              </a:rPr>
              <a:t>normas de la cesión de créditos personales, artículos 1901 y siguientes del Código Civil, las que se aplican también a la cesión de créditos nominativos mercantiles por mandato del artículo 162 del Código de Comercio</a:t>
            </a:r>
            <a:r>
              <a:rPr b="0" lang="es-MX"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CCP: </a:t>
            </a:r>
            <a:r>
              <a:rPr b="0" lang="es-CL" sz="2800" spc="-1" strike="noStrike">
                <a:solidFill>
                  <a:srgbClr val="ffffff"/>
                </a:solidFill>
                <a:latin typeface="Times New Roman"/>
                <a:ea typeface="Times New Roman"/>
              </a:rPr>
              <a:t>convención mediante la cual el tenedor legítimo del título lo transfiere a un tercero que pasa a ocupar su lugar jurídico (su posición de acreedor).</a:t>
            </a:r>
            <a:endParaRPr b="0" lang="en-US" sz="2800" spc="-1" strike="noStrike">
              <a:solidFill>
                <a:srgbClr val="ffffff"/>
              </a:solidFill>
              <a:latin typeface="Times New Roman"/>
            </a:endParaRPr>
          </a:p>
        </p:txBody>
      </p:sp>
      <p:sp>
        <p:nvSpPr>
          <p:cNvPr id="114" name=""/>
          <p:cNvSpPr/>
          <p:nvPr/>
        </p:nvSpPr>
        <p:spPr>
          <a:xfrm>
            <a:off x="3276720" y="22860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Modificación a  LMV por ley 19.623</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rtículo 135 permite el endoso de los créditos  nominativo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 le  fin de adquirirlos, transferirlos o constituirlos en garantí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cualesquiera fuere la forma en que se hubieran extendido originalmente...” (referencia al artículo 18 de Ley 18.09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Modificación a  LMV por ley 19.623</a:t>
            </a:r>
            <a:endParaRPr b="0" lang="en-US" sz="4400" spc="-1" strike="noStrike">
              <a:solidFill>
                <a:srgbClr val="ffcc66"/>
              </a:solidFill>
              <a:latin typeface="Arial"/>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plicación, en lo compatible de las normas sobre endoso de la ley 18.092 (Artículos 17 a 32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a:t>
            </a:r>
            <a:r>
              <a:rPr b="0" lang="es-MX" sz="4400" spc="-1" strike="noStrike">
                <a:solidFill>
                  <a:srgbClr val="ffcc66"/>
                </a:solidFill>
                <a:latin typeface="Arial"/>
              </a:rPr>
              <a:t>	</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giliza la securitización.</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horran costos de notificación y exhibición del título.</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horran costos de transacción en negociación entre originador y securitizador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Mayor volumen de créditos securitizad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a:t>
            </a:r>
            <a:r>
              <a:rPr b="0" lang="es-MX" sz="4400" spc="-1" strike="noStrike">
                <a:solidFill>
                  <a:srgbClr val="ffcc66"/>
                </a:solidFill>
                <a:latin typeface="Arial"/>
              </a:rPr>
              <a:t>	</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especto a la securitización, los títulos se clasifican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 Al portad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B) Endosables. Entendiendo aquí todos los que no son al portador.</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rtículo 1908 del Código Civil.</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rtículo 135, inciso 3° LMV establece oponibilidad de endoso a deudores desde fecha de la escritura (pública) de contrato de emisión con formación de patrimonio separado o de las escrituras complementar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26"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vío de copia(s) de la(s) escritura(s)  a SVS (art. 137 LMV) no constituye formalidad equivalente a las contenidas en los artículos 1903 y 2389 del Código Civi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Falta de previsión del legislad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osible solución vía contractual: que en el contrato de compraventa se establezca que el originador es mandatario para el cobro de los créditos nominativo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olución anterior, No acorde a los fines de agilizar y disminuir costos de opera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Qué se entiende por Patrimonio Separado?</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finición doctrinaria: “Un estado jurídico destinado a asegurar la conservación de ciertos bienes consagrados a un fin”. </a:t>
            </a:r>
            <a:endParaRPr b="0" lang="en-US" sz="2800" spc="-1" strike="noStrike">
              <a:solidFill>
                <a:srgbClr val="ffffff"/>
              </a:solidFill>
              <a:latin typeface="Times New Roman"/>
            </a:endParaRPr>
          </a:p>
          <a:p>
            <a:pPr marL="325800" indent="-3258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Como está conformado desde el punto de vista de una operación de securitización: queda integrado de pleno derecho por los activos que se determinen de manera individual en la escritura de emisión, o, si son enunciados genéricamente, son luego especificados en escrituras complementarias; también por el pasivo que genera el contrato de emisión de títulos de deuda</a:t>
            </a:r>
            <a:r>
              <a:rPr b="0" lang="es-MX"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LMV sólo se refiere a la oponibilidad  respecto del deud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Terceros acreedores del endosante podrían ejercer su derecho de prenda general sobre ese crédito?.Artículo 1905 Código Civil.</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Norma excepecional, aplicación restriciti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plicación de normas de la Ley de Letra de Cambio y Pagaré</a:t>
            </a:r>
            <a:endParaRPr b="0" lang="en-US" sz="4400" spc="-1" strike="noStrike">
              <a:solidFill>
                <a:srgbClr val="ffcc66"/>
              </a:solidFill>
              <a:latin typeface="Arial"/>
            </a:endParaRPr>
          </a:p>
        </p:txBody>
      </p:sp>
      <p:sp>
        <p:nvSpPr>
          <p:cNvPr id="13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plica el párrafo 2° del Título I.</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Frase que se contiene en el artículo 135 “...cualesquiera fuere la forma en que se hubiere extendido originalmente...”</a:t>
            </a:r>
            <a:r>
              <a:rPr b="0" lang="es-ES" sz="3200" spc="-1" strike="noStrike">
                <a:solidFill>
                  <a:srgbClr val="ffffff"/>
                </a:solidFill>
                <a:latin typeface="Times New Roman"/>
              </a:rPr>
              <a:t> </a:t>
            </a:r>
            <a:r>
              <a:rPr b="0" lang="es-MX" sz="3200" spc="-1" strike="noStrike">
                <a:solidFill>
                  <a:srgbClr val="ffffff"/>
                </a:solidFill>
                <a:latin typeface="Times New Roman"/>
              </a:rPr>
              <a:t>, en relación con el art. 18 de ley 18.092.</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ey no especifica de que manera debe realizarse se el endos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plicación de normas de la Ley de Letra de Cambio y Pagaré</a:t>
            </a:r>
            <a:endParaRPr b="0" lang="en-US" sz="4400" spc="-1" strike="noStrike">
              <a:solidFill>
                <a:srgbClr val="ffcc66"/>
              </a:solidFill>
              <a:latin typeface="Arial"/>
            </a:endParaRPr>
          </a:p>
        </p:txBody>
      </p:sp>
      <p:sp>
        <p:nvSpPr>
          <p:cNvPr id="134"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esponsabilidad por el pago del crédito (Art. 1907 CC y art. 25 L. 18.092)</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xcepciones que puede oponer el deudor al endosatario (art. 135 inciso 3° LMV, en relación arts. 28 LLCP y 163 C. Comercio).</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DERECHOS Y CREDITOS NO TRANSFERIBLES</a:t>
            </a:r>
            <a:r>
              <a:rPr b="0" lang="es-ES_tradnl" sz="4400" spc="-1" strike="noStrike">
                <a:solidFill>
                  <a:srgbClr val="ffcc66"/>
                </a:solidFill>
                <a:latin typeface="Arial"/>
              </a:rPr>
              <a:t>	</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Arial"/>
              </a:rPr>
              <a:t>“</a:t>
            </a:r>
            <a:r>
              <a:rPr b="1" lang="es-ES" sz="2700" spc="-1" strike="noStrike">
                <a:solidFill>
                  <a:srgbClr val="ffffff"/>
                </a:solidFill>
                <a:latin typeface="Arial"/>
              </a:rPr>
              <a:t>y otros créditos y derechos </a:t>
            </a:r>
            <a:r>
              <a:rPr b="1" lang="es-ES_tradnl" sz="2700" spc="-1" strike="noStrike">
                <a:solidFill>
                  <a:srgbClr val="ffffff"/>
                </a:solidFill>
                <a:latin typeface="Arial"/>
              </a:rPr>
              <a:t>......... </a:t>
            </a:r>
            <a:r>
              <a:rPr b="1" lang="es-ES" sz="2700" spc="-1" strike="noStrike">
                <a:solidFill>
                  <a:srgbClr val="ffffff"/>
                </a:solidFill>
                <a:latin typeface="Arial"/>
              </a:rPr>
              <a:t>y que tengan el carácter de transferibles</a:t>
            </a:r>
            <a:r>
              <a:rPr b="1" lang="es-ES_tradnl" sz="2700" spc="-1" strike="noStrike">
                <a:solidFill>
                  <a:srgbClr val="ffffff"/>
                </a:solidFill>
                <a:latin typeface="Arial"/>
              </a:rPr>
              <a:t>” Art. 135 LMV</a:t>
            </a:r>
            <a:endParaRPr b="0" lang="en-US" sz="2700" spc="-1" strike="noStrike">
              <a:solidFill>
                <a:srgbClr val="ffffff"/>
              </a:solidFill>
              <a:latin typeface="Times New Roman"/>
            </a:endParaRPr>
          </a:p>
          <a:p>
            <a:pPr marL="609480" indent="-609480">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Estos serian los “activos no securitizables”</a:t>
            </a:r>
            <a:endParaRPr b="0" lang="en-US" sz="2700" spc="-1" strike="noStrike">
              <a:solidFill>
                <a:srgbClr val="ffffff"/>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Pero ¿qué debemos entender por la palabra transferible?</a:t>
            </a:r>
            <a:endParaRPr b="0" lang="en-US" sz="2700" spc="-1" strike="noStrike">
              <a:solidFill>
                <a:srgbClr val="ffffff"/>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iterate type="wd">
                                    <p:tmAbs val="300"/>
                                  </p:iterate>
                                  <p:childTnLst>
                                    <p:audio isNarration="0">
                                      <p:cMediaNode showWhenStopped="1">
                                        <p:cTn/>
                                        <p:tgtEl>
                                          <p:sndTgt r:embed="rId1" name="whoosh.wav"/>
                                        </p:tgtEl>
                                      </p:cMediaNode>
                                    </p:audio>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3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iterate type="wd">
                                    <p:tmAbs val="300"/>
                                  </p:iterate>
                                  <p:childTnLst>
                                    <p:audio isNarration="0">
                                      <p:cMediaNode showWhenStopped="1">
                                        <p:cTn/>
                                        <p:tgtEl>
                                          <p:sndTgt r:embed="rId2" name="whoosh.wav"/>
                                        </p:tgtEl>
                                      </p:cMediaNode>
                                    </p:audio>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3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iterate type="wd">
                                    <p:tmAbs val="300"/>
                                  </p:iterate>
                                  <p:childTnLst>
                                    <p:audio isNarration="0">
                                      <p:cMediaNode showWhenStopped="1">
                                        <p:cTn/>
                                        <p:tgtEl>
                                          <p:sndTgt r:embed="rId3" name="whoosh.wav"/>
                                        </p:tgtEl>
                                      </p:cMediaNode>
                                    </p:audio>
                                    <p:set>
                                      <p:cBhvr>
                                        <p:cTn id="16"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7" dur="3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ransferibles y no Transferibles</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legislador ha ocupado una expresión que no tiene una definición explicita en la ley, ni una enumeración sistematizada.</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qué deberemos entender?</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enemos las siguentes alternativa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sas incomerciables o inapropiabl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ienes comunes a toda la Humanidad.</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rechos y creditos emanados de Actos y contratos que adolezcan de Objeto Ilicito</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lo enajenaciones del articulo 1464 del Codigo Civil.</a:t>
            </a:r>
            <a:endParaRPr b="0" lang="en-US" sz="2400" spc="-1" strike="noStrike">
              <a:solidFill>
                <a:srgbClr val="ffffff"/>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iterate type="wd">
                                    <p:tmAbs val="0.900000035762787"/>
                                  </p:iterate>
                                  <p:childTnLst>
                                    <p:audio isNarration="0">
                                      <p:cMediaNode showWhenStopped="1">
                                        <p:cTn/>
                                        <p:tgtEl>
                                          <p:sndTgt r:embed="rId1" name="gunshot.wav"/>
                                        </p:tgtEl>
                                      </p:cMediaNode>
                                    </p:audio>
                                    <p:set>
                                      <p:cBhvr>
                                        <p:cTn id="23" dur="1" fill="hold">
                                          <p:stCondLst>
                                            <p:cond delay="299"/>
                                          </p:stCondLst>
                                        </p:cTn>
                                        <p:tgtEl>
                                          <p:spTgt spid="138">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iterate type="wd">
                                    <p:tmAbs val="0.900000035762787"/>
                                  </p:iterate>
                                  <p:childTnLst>
                                    <p:audio isNarration="0">
                                      <p:cMediaNode showWhenStopped="1">
                                        <p:cTn/>
                                        <p:tgtEl>
                                          <p:sndTgt r:embed="rId2" name="gunshot.wav"/>
                                        </p:tgtEl>
                                      </p:cMediaNode>
                                    </p:audio>
                                    <p:set>
                                      <p:cBhvr>
                                        <p:cTn id="27" dur="1" fill="hold">
                                          <p:stCondLst>
                                            <p:cond delay="299"/>
                                          </p:stCondLst>
                                        </p:cTn>
                                        <p:tgtEl>
                                          <p:spTgt spid="138">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audio isNarration="0">
                                      <p:cMediaNode showWhenStopped="1">
                                        <p:cTn/>
                                        <p:tgtEl>
                                          <p:sndTgt r:embed="rId3" name="gunshot.wav"/>
                                        </p:tgtEl>
                                      </p:cMediaNode>
                                    </p:audio>
                                    <p:set>
                                      <p:cBhvr>
                                        <p:cTn id="31" dur="1" fill="hold">
                                          <p:stCondLst>
                                            <p:cond delay="299"/>
                                          </p:stCondLst>
                                        </p:cTn>
                                        <p:tgtEl>
                                          <p:spTgt spid="138">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iterate type="wd">
                                    <p:tmAbs val="0.900000035762787"/>
                                  </p:iterate>
                                  <p:childTnLst>
                                    <p:audio isNarration="0">
                                      <p:cMediaNode showWhenStopped="1">
                                        <p:cTn/>
                                        <p:tgtEl>
                                          <p:sndTgt r:embed="rId4" name="gunshot.wav"/>
                                        </p:tgtEl>
                                      </p:cMediaNode>
                                    </p:audio>
                                    <p:set>
                                      <p:cBhvr>
                                        <p:cTn id="35" dur="1" fill="hold">
                                          <p:stCondLst>
                                            <p:cond delay="299"/>
                                          </p:stCondLst>
                                        </p:cTn>
                                        <p:tgtEl>
                                          <p:spTgt spid="138">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iterate type="wd">
                                    <p:tmAbs val="0.900000035762787"/>
                                  </p:iterate>
                                  <p:childTnLst>
                                    <p:audio isNarration="0">
                                      <p:cMediaNode showWhenStopped="1">
                                        <p:cTn/>
                                        <p:tgtEl>
                                          <p:sndTgt r:embed="rId5" name="gunshot.wav"/>
                                        </p:tgtEl>
                                      </p:cMediaNode>
                                    </p:audio>
                                    <p:set>
                                      <p:cBhvr>
                                        <p:cTn id="39" dur="1" fill="hold">
                                          <p:stCondLst>
                                            <p:cond delay="299"/>
                                          </p:stCondLst>
                                        </p:cTn>
                                        <p:tgtEl>
                                          <p:spTgt spid="138">
                                            <p:txEl>
                                              <p:pRg st="4" end="4"/>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iterate type="wd">
                                    <p:tmAbs val="0.900000035762787"/>
                                  </p:iterate>
                                  <p:childTnLst>
                                    <p:audio isNarration="0">
                                      <p:cMediaNode showWhenStopped="1">
                                        <p:cTn/>
                                        <p:tgtEl>
                                          <p:sndTgt r:embed="rId6" name="gunshot.wav"/>
                                        </p:tgtEl>
                                      </p:cMediaNode>
                                    </p:audio>
                                    <p:set>
                                      <p:cBhvr>
                                        <p:cTn id="43" dur="1" fill="hold">
                                          <p:stCondLst>
                                            <p:cond delay="299"/>
                                          </p:stCondLst>
                                        </p:cTn>
                                        <p:tgtEl>
                                          <p:spTgt spid="138">
                                            <p:txEl>
                                              <p:pRg st="5" end="5"/>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iterate type="wd">
                                    <p:tmAbs val="0.900000035762787"/>
                                  </p:iterate>
                                  <p:childTnLst>
                                    <p:audio isNarration="0">
                                      <p:cMediaNode showWhenStopped="1">
                                        <p:cTn/>
                                        <p:tgtEl>
                                          <p:sndTgt r:embed="rId7" name="gunshot.wav"/>
                                        </p:tgtEl>
                                      </p:cMediaNode>
                                    </p:audio>
                                    <p:set>
                                      <p:cBhvr>
                                        <p:cTn id="47" dur="1" fill="hold">
                                          <p:stCondLst>
                                            <p:cond delay="299"/>
                                          </p:stCondLst>
                                        </p:cTn>
                                        <p:tgtEl>
                                          <p:spTgt spid="1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cc66"/>
                </a:solidFill>
                <a:latin typeface="Arial"/>
              </a:rPr>
              <a:t>ACTOS Y CONTRATOS QUE ADOLECEN DE OBJETO ILICITO </a:t>
            </a:r>
            <a:r>
              <a:rPr b="0" lang="es-ES_tradnl" sz="3000" spc="-1" strike="noStrike">
                <a:solidFill>
                  <a:srgbClr val="ffcc66"/>
                </a:solidFill>
                <a:latin typeface="Arial"/>
              </a:rPr>
              <a:t>	</a:t>
            </a:r>
            <a:endParaRPr b="0" lang="en-US" sz="3000" spc="-1" strike="noStrike">
              <a:solidFill>
                <a:srgbClr val="ffcc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rticulos 1462, 1463, 1465 y 1466.</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travención al Derecho Público Chileno.</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udas contraidas por Juegos de Aza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enta de Laminas Obscenas, libros abusivos de la libertad de prensa, etc.</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tratos prohibidos por la Le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ctos sobre sucesión Futura.</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cc66"/>
                </a:solidFill>
                <a:latin typeface="Arial"/>
              </a:rPr>
              <a:t>ACTOS Y CONTRATOS QUE ADOLECEN DE OBJETO ILICITO </a:t>
            </a:r>
            <a:r>
              <a:rPr b="0" lang="es-ES_tradnl" sz="3000" spc="-1" strike="noStrike">
                <a:solidFill>
                  <a:srgbClr val="ffcc66"/>
                </a:solidFill>
                <a:latin typeface="Arial"/>
              </a:rPr>
              <a:t>	</a:t>
            </a:r>
            <a:endParaRPr b="0" lang="en-US" sz="3000" spc="-1" strike="noStrike">
              <a:solidFill>
                <a:srgbClr val="ffcc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todos estos casos, no debe confundirse la transferibilidad del titulo de que emanan los Creditos y Derechos con la Validez de es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n embargo, se debe tener presente la racionalidad jurídica como economica a la hora de Securitizar un activo.</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RTICULO 1464 </a:t>
            </a:r>
            <a:endParaRPr b="0" lang="en-US" sz="4400" spc="-1" strike="noStrike">
              <a:solidFill>
                <a:srgbClr val="ffcc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Nº1. </a:t>
            </a:r>
            <a:r>
              <a:rPr b="1" lang="es-ES" sz="3200" spc="-1" strike="noStrike">
                <a:solidFill>
                  <a:srgbClr val="ffffff"/>
                </a:solidFill>
                <a:latin typeface="Times New Roman"/>
                <a:ea typeface="Times New Roman"/>
              </a:rPr>
              <a:t>Cosas Incomerciables</a:t>
            </a:r>
            <a:r>
              <a:rPr b="1" lang="es-ES_tradnl"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pueden ser objeto de relaciones jurícas.</a:t>
            </a: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º2 </a:t>
            </a:r>
            <a:r>
              <a:rPr b="1" lang="es-ES" sz="3200" spc="-1" strike="noStrike">
                <a:solidFill>
                  <a:srgbClr val="ffffff"/>
                </a:solidFill>
                <a:latin typeface="Times New Roman"/>
                <a:ea typeface="Times New Roman"/>
              </a:rPr>
              <a:t>Derechos y Privilegios que no pueden transferirse</a:t>
            </a:r>
            <a:r>
              <a:rPr b="1" lang="es-ES_tradnl"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o y Habitación (Art. 819).</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_tradnl" sz="2800" spc="-1" strike="noStrike">
                <a:solidFill>
                  <a:srgbClr val="ffffff"/>
                </a:solidFill>
                <a:latin typeface="Times New Roman"/>
              </a:rPr>
              <a:t>Derecho de Pedir Alimentos (Art.334).</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rechos de conotación economica nacidos de las relaciones de familia.</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93840" y="762120"/>
            <a:ext cx="7772400" cy="4038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RT. 1464 Nº1 Y 2 </a:t>
            </a:r>
            <a:br>
              <a:rPr sz="4400"/>
            </a:br>
            <a:r>
              <a:rPr b="0" lang="es-ES_tradnl" sz="4400" spc="-1" strike="noStrike">
                <a:solidFill>
                  <a:srgbClr val="ffcc66"/>
                </a:solidFill>
                <a:latin typeface="Arial"/>
              </a:rPr>
              <a:t>ESTOS CASOS POR SU NATURALEZA JURÍDICA INTRINSECA NO PUEDEN SER OBJETO DE UNA TRANSFERENCIA</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RTICULO 1464</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Nº3: </a:t>
            </a:r>
            <a:r>
              <a:rPr b="1" lang="es-ES" sz="3200" spc="-1" strike="noStrike">
                <a:solidFill>
                  <a:srgbClr val="ffffff"/>
                </a:solidFill>
                <a:latin typeface="Times New Roman"/>
                <a:ea typeface="Times New Roman"/>
              </a:rPr>
              <a:t>Cosas embargadas sin autorización del juez o consentimiento del acreedor</a:t>
            </a:r>
            <a:r>
              <a:rPr b="1" lang="es-ES_tradnl"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Nº4: </a:t>
            </a:r>
            <a:r>
              <a:rPr b="1" lang="es-ES" sz="3200" spc="-1" strike="noStrike">
                <a:solidFill>
                  <a:srgbClr val="ffffff"/>
                </a:solidFill>
                <a:latin typeface="Times New Roman"/>
                <a:ea typeface="Times New Roman"/>
              </a:rPr>
              <a:t>Cosas cuya propiedad de litiga sin permiso del juez</a:t>
            </a:r>
            <a:r>
              <a:rPr b="1" lang="es-ES_tradnl"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735480" indent="-28296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Normas Imoerativas de requisitos.</a:t>
            </a:r>
            <a:endParaRPr b="0" lang="en-US" sz="2800" spc="-1" strike="noStrike">
              <a:solidFill>
                <a:srgbClr val="ffffff"/>
              </a:solidFill>
              <a:latin typeface="Times New Roman"/>
            </a:endParaRPr>
          </a:p>
          <a:p>
            <a:pPr lvl="1" marL="735480" indent="-28296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La transferibilidad no debe confundirse con la validez.</a:t>
            </a:r>
            <a:endParaRPr b="0" lang="en-US" sz="2800" spc="-1" strike="noStrike">
              <a:solidFill>
                <a:srgbClr val="ffffff"/>
              </a:solidFill>
              <a:latin typeface="Times New Roman"/>
            </a:endParaRPr>
          </a:p>
          <a:p>
            <a:pPr lvl="1" marL="735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Sustitución de </a:t>
            </a:r>
            <a:r>
              <a:rPr b="0" lang="es-MX" sz="4400" spc="-1" strike="noStrike">
                <a:solidFill>
                  <a:srgbClr val="ffcc66"/>
                </a:solidFill>
                <a:latin typeface="Arial"/>
                <a:ea typeface="Times New Roman"/>
              </a:rPr>
              <a:t>A</a:t>
            </a:r>
            <a:r>
              <a:rPr b="0" lang="es-ES" sz="4400" spc="-1" strike="noStrike">
                <a:solidFill>
                  <a:srgbClr val="ffcc66"/>
                </a:solidFill>
                <a:latin typeface="Arial"/>
                <a:ea typeface="Times New Roman"/>
              </a:rPr>
              <a:t>ctivos y Principio de la Inmutabilidad</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Concepto de mejoramiento crediticio o aporte adicional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Requisito básico: Similar naturaleza fundamentalmente en cuanto al riesgo (Art 137 y 137 bis de Ley de Mercado de Valores).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Opciones frente a la facultad que posee la empresa securitizadora de enajenar o gravar bines del activo del Patrimonio Separado durante su vigencia.  </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4114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cc66"/>
                </a:solidFill>
                <a:latin typeface="Arial"/>
              </a:rPr>
              <a:t> </a:t>
            </a:r>
            <a:r>
              <a:rPr b="1" i="1" lang="es-ES_tradnl" sz="3000" spc="-1" strike="noStrike">
                <a:solidFill>
                  <a:srgbClr val="ffffff"/>
                </a:solidFill>
                <a:latin typeface="Arial"/>
              </a:rPr>
              <a:t>SIN EMBARGO </a:t>
            </a:r>
            <a:r>
              <a:rPr b="1" i="1" lang="es-ES" sz="3000" spc="-1" strike="noStrike">
                <a:solidFill>
                  <a:srgbClr val="ffffff"/>
                </a:solidFill>
                <a:latin typeface="Arial"/>
                <a:ea typeface="Arial"/>
              </a:rPr>
              <a:t>EL REQUISITO BÁSICO PARA LA SECURITIZACIÓN ES QUE EN EL ACTO EN QUE SE TRANSFIERAN LOS ACTIVOS (FLUJOS) A SECURITIZAR, ÉSTOS NO DEBEN ESTAR AFECTOS A EMBARGOS, GRAVÁMENES O PROHIBICIONES DE NINGÚN TIPO, COMO TAMPOCO DE MEDIDAS JUDICIALES RESTRICTIVAS DEL DOMINIO.</a:t>
            </a:r>
            <a:endParaRPr b="0" lang="en-US" sz="3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5105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cc66"/>
                </a:solidFill>
                <a:latin typeface="Arial"/>
                <a:ea typeface="Times New Roman"/>
              </a:rPr>
              <a:t>COMO CONCLUSIÓN, PODEMOS AFIRMAR QUE LOS CRÉDITOS Y DERECHOS QUE TIENEN EL CARÁCTER DE INTRANSFERIBLES A EFECTOS DEL ARTICULO 1º, INC. 1 DE LA  LEY DE MERCADO DE VALORES, SON POR SU PROPIA NATURALEZA, LOS SEÑALADOS EN EL ARTICULO 1464, NºS 1 Y 2, O QUE RECAIGAN EN LAS COSAS ALUDIDAS, Y POR CAUSAS EXOGENAS, LOS SEÑALADOS EN EL NºS3 Y 4 DEL MISMO ARTÍCULO, Y DE LA MISMA FORMA.</a:t>
            </a:r>
            <a:r>
              <a:rPr b="0" lang="es-ES" sz="4400" spc="-1" strike="noStrike">
                <a:solidFill>
                  <a:srgbClr val="ffcc66"/>
                </a:solidFill>
                <a:latin typeface="Arial"/>
              </a:rPr>
              <a:t> </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Arial"/>
              </a:rPr>
              <a:t>“</a:t>
            </a:r>
            <a:r>
              <a:rPr b="0" lang="es-ES" sz="4400" spc="-1" strike="noStrike">
                <a:solidFill>
                  <a:srgbClr val="ffcc66"/>
                </a:solidFill>
                <a:latin typeface="Arial"/>
                <a:ea typeface="Arial"/>
              </a:rPr>
              <a:t>Venta Verdadera”</a:t>
            </a:r>
            <a:br>
              <a:rPr sz="4400"/>
            </a:b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finición: “Traspaso de bienes a título oneroso en cuya virtud los créditos transferidos se radican en el patrimonio del adquirente, es decir, no vuelven a radicarse en el patrimonio del originador por la existencia de un pacto entre éste y el adquirente (entidad de propósito exclusivo), en mejores condiciones de venta o en virtud de preferencias distintas a la que cualquier tercero interesado en adquirir los créditos pudiera tener</a:t>
            </a:r>
            <a:r>
              <a:rPr b="0" lang="es-MX"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Arial"/>
              </a:rPr>
              <a:t>“</a:t>
            </a:r>
            <a:r>
              <a:rPr b="0" lang="es-ES" sz="4400" spc="-1" strike="noStrike">
                <a:solidFill>
                  <a:srgbClr val="ffcc66"/>
                </a:solidFill>
                <a:latin typeface="Arial"/>
                <a:ea typeface="Arial"/>
              </a:rPr>
              <a:t>Venta Verdadera”</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todo lo cual importa que el precio de venta se sujete al mercado), y que asimismo, en caso de falencia de una de las partes, el traspaso de los activos no sea impugnado, dado que la operación se concretó con antelación evitando que los tenedores de títulos adquiriesen toda garantía constituida sobre los activo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Arial"/>
              </a:rPr>
              <a:t>“</a:t>
            </a:r>
            <a:r>
              <a:rPr b="0" lang="es-ES" sz="4400" spc="-1" strike="noStrike">
                <a:solidFill>
                  <a:srgbClr val="ffcc66"/>
                </a:solidFill>
                <a:latin typeface="Arial"/>
                <a:ea typeface="Arial"/>
              </a:rPr>
              <a:t>Venta Verdadera”</a:t>
            </a:r>
            <a:endParaRPr b="0" lang="en-US" sz="4400" spc="-1" strike="noStrike">
              <a:solidFill>
                <a:srgbClr val="ffcc66"/>
              </a:solidFill>
              <a:latin typeface="Arial"/>
            </a:endParaRPr>
          </a:p>
        </p:txBody>
      </p:sp>
      <p:sp>
        <p:nvSpPr>
          <p:cNvPr id="99"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alificación del acto: Voluntad real de las partes como requisito básico</a:t>
            </a:r>
            <a:r>
              <a:rPr b="0" lang="es-MX"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Caso de los créditos nominativos</a:t>
            </a:r>
            <a:r>
              <a:rPr b="0"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Rol del representante de los títulos de deuda</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Importancia de la exigencia relativa al entero del Patrimonio Separado: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a:t>
            </a:r>
            <a:r>
              <a:rPr b="0" lang="es-MX" sz="2800" spc="-1" strike="noStrike">
                <a:solidFill>
                  <a:srgbClr val="ffffff"/>
                </a:solidFill>
                <a:latin typeface="Times New Roman"/>
                <a:ea typeface="Times New Roman"/>
              </a:rPr>
              <a:t> Q</a:t>
            </a:r>
            <a:r>
              <a:rPr b="0" lang="es-ES" sz="2800" spc="-1" strike="noStrike">
                <a:solidFill>
                  <a:srgbClr val="ffffff"/>
                </a:solidFill>
                <a:latin typeface="Times New Roman"/>
                <a:ea typeface="Times New Roman"/>
              </a:rPr>
              <a:t>ué entidad tiene derecho a cobrar y percibir el pago de los títulos de deuda que se emitieron y función del certificado y</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b)</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Función del certificado que debe emitir el representant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Facultades más relevantes del representante (3)</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cc66"/>
                </a:solidFill>
                <a:latin typeface="Arial"/>
                <a:ea typeface="Arial"/>
              </a:rPr>
              <a:t>Administración del Patrimonio Separado</a:t>
            </a:r>
            <a:br>
              <a:rPr sz="4400"/>
            </a:b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Quienes la pueden ejercer (4)</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Importancia de la norma desde el punto de vista económico y operativo</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19160"/>
            <a:ext cx="76960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c66"/>
                </a:solidFill>
                <a:latin typeface="Arial"/>
                <a:ea typeface="Times New Roman"/>
              </a:rPr>
              <a:t>El Endoso de títulos nominativos como forma de cesión de bienes al Patrimonio Separado</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914400" y="5029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13:17:26Z</dcterms:created>
  <dc:creator>Roberto J Sepúlveda Núñez</dc:creator>
  <dc:description/>
  <dc:language>en-US</dc:language>
  <cp:lastModifiedBy>Octavio Bofill G.</cp:lastModifiedBy>
  <dcterms:modified xsi:type="dcterms:W3CDTF">2004-10-01T00:34:56Z</dcterms:modified>
  <cp:revision>35</cp:revision>
  <dc:subject/>
  <dc:title>Cesión de Bienes al Patrimonio Separado, El Endoso</dc:title>
</cp:coreProperties>
</file>