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97975"/>
</p:presentation>
</file>

<file path=ppt/commentAuthors.xml><?xml version="1.0" encoding="utf-8"?>
<p:cmAuthorLst xmlns:p="http://schemas.openxmlformats.org/presentationml/2006/main">
  <p:cmAuthor id="0" name="lucarna15" initials="l"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Relationship Id="rId32" Type="http://schemas.openxmlformats.org/officeDocument/2006/relationships/commentAuthors" Target="commentAuthors.xml"/>
</Relationships>
</file>

<file path=ppt/comments/comment13.xml><?xml version="1.0" encoding="utf-8"?>
<p:cmLst xmlns:p="http://schemas.openxmlformats.org/presentationml/2006/main">
  <p:cm authorId="0" dt="2004-09-27T18:56:40.890000000" idx="1">
    <p:pos x="5323" y="2107"/>
    <p:text>En la Obra Publica, el Estado encarga la construccion de un inmueble a una empresa particular, de la cual se generan pagos periodicos por la obra, ya sea por plazo, por meta cumplida, etc. 
Estos son los flujos securitizables para la empresa constructora</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938C0-9AF6-4CC1-9A90-F88FF67FF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DE581-5C60-40C9-9012-F2CBBA6FC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E9612-DF90-49E5-85F5-F4478BEA5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057FA-2A34-4AE3-BBC7-7CE0E9D98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EBC12-4CFF-41DF-9E07-CDF8C46D01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062B5-7CA2-4812-B6B3-C408BA638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DA4D4-44EA-4332-89FA-E59689C42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8C2649-3366-4A6B-92C7-BEBA0092A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E44ED-A2AB-419B-90CC-47E6EB9DE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1160D-AE2A-4224-8748-35B925AF9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AB966-A841-4F55-A841-949BB5895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7F130-6D4C-4363-949D-1F696B08D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0EF1A-BEE7-45C6-AC10-4D8C682F3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C1E95-ADEB-4955-AFE1-3D8009889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DC24E-03AF-4127-A644-9AA433102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6FD0A1-ADA5-4A3D-A7E9-36DA57F85B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14394B-1026-435A-BCC8-B1DC48A016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F78F8-D826-4AD7-86D5-701C02515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BD362-771E-4715-9E67-9D2027FFF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A0D19-3B7D-434C-9631-DAAEB770D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FF20F-2272-450D-946E-BD2323A24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40E1F-4977-43AB-ADD5-342B9A02C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2DFD5-F25A-4FC9-B371-9008B4E46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9975A-A4F7-49AB-9001-29AF96E28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914E9-59CC-45F5-8F3E-F5A5C3436EA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AF3B0-20FF-40D7-A381-6D6376BCDD1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comments" Target="../comments/commen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792080"/>
            <a:ext cx="8229600" cy="14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Arial"/>
              </a:rPr>
              <a:t>Derechos Sobre Flujos de Pago.</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rlos Jofre</a:t>
            </a:r>
            <a:endParaRPr b="0" lang="en-US" sz="2400" spc="-1" strike="noStrike">
              <a:solidFill>
                <a:srgbClr val="ffffff"/>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briel Lizama</a:t>
            </a:r>
            <a:endParaRPr b="0" lang="en-US" sz="2400" spc="-1" strike="noStrike">
              <a:solidFill>
                <a:srgbClr val="ffffff"/>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atalia Nuñez</a:t>
            </a:r>
            <a:endParaRPr b="0" lang="en-US" sz="2400" spc="-1" strike="noStrike">
              <a:solidFill>
                <a:srgbClr val="ffffff"/>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Joaquin Urra</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686800" y="-547416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ff"/>
              </a:solidFill>
              <a:latin typeface="Arial"/>
            </a:endParaRPr>
          </a:p>
        </p:txBody>
      </p:sp>
      <p:sp>
        <p:nvSpPr>
          <p:cNvPr id="181"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mportancia de la distinción:</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Como activos intangibles, los derechos sobre flujos de pago, tal vez asimilables al derecho de llaves o a una marca, sólo han sido consagrados expresamente como medio de financiamiento por la vía de la securitización, a diferencia de los créditos que por su certidumbre tienen un espectro más amplio para servir a tal fin. V.gr: factoring, cesión de créditos, descuento, etc. </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1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ff"/>
              </a:solidFill>
              <a:latin typeface="Arial"/>
            </a:endParaRPr>
          </a:p>
        </p:txBody>
      </p:sp>
      <p:sp>
        <p:nvSpPr>
          <p:cNvPr id="183" name="PlaceHolder 2"/>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ecuritización de flujos futuro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14300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Venta </a:t>
            </a:r>
            <a:r>
              <a:rPr b="0" i="1" lang="es-ES" sz="2800" spc="-1" strike="noStrike">
                <a:solidFill>
                  <a:srgbClr val="ffffff"/>
                </a:solidFill>
                <a:latin typeface="Arial"/>
              </a:rPr>
              <a:t>forward </a:t>
            </a:r>
            <a:r>
              <a:rPr b="0" lang="es-ES" sz="2800" spc="-1" strike="noStrike">
                <a:solidFill>
                  <a:srgbClr val="ffffff"/>
                </a:solidFill>
                <a:latin typeface="Arial"/>
              </a:rPr>
              <a:t>de cuentas por cobrar en moneda dura, que se espera serán generadas en el futuro, a través de las operaciones normales del negocio”.</a:t>
            </a:r>
            <a:endParaRPr b="0"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Steven Gandy y Jerome F. Festa.</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erechos sobre flujos de pago</a:t>
            </a:r>
            <a:endParaRPr b="0" lang="en-US" sz="18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lujos de Pago en la LMV</a:t>
            </a:r>
            <a:endParaRPr b="0" lang="en-US" sz="36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 132:  Toda obligación existente o que se genere en el futuro de pagar una o mas sumas de dinero por la adquisición o el uso de bienes o por la prestación de servici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tre los activos securitizables se señal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Creditos y derechos sobre flujos de pago emanados d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Obra publica constructora</a:t>
            </a:r>
            <a:endParaRPr b="0" lang="en-US" sz="3200" spc="-1" strike="noStrike">
              <a:solidFill>
                <a:srgbClr val="ffffff"/>
              </a:solidFill>
              <a:latin typeface="Arial"/>
            </a:endParaRPr>
          </a:p>
          <a:p>
            <a:pPr marL="343080" indent="-3430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Obra de infraestructura publica</a:t>
            </a:r>
            <a:endParaRPr b="0" lang="en-US" sz="3200" spc="-1" strike="noStrike">
              <a:solidFill>
                <a:srgbClr val="ffffff"/>
              </a:solidFill>
              <a:latin typeface="Arial"/>
            </a:endParaRPr>
          </a:p>
          <a:p>
            <a:pPr marL="343080" indent="-3430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Bienes nacionales de uso publico</a:t>
            </a:r>
            <a:endParaRPr b="0" lang="en-US" sz="3200" spc="-1" strike="noStrike">
              <a:solidFill>
                <a:srgbClr val="ffffff"/>
              </a:solidFill>
              <a:latin typeface="Arial"/>
            </a:endParaRPr>
          </a:p>
          <a:p>
            <a:pPr marL="343080" indent="-3430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cesiones de estos bienes u obra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endParaRPr b="0" lang="en-US" sz="20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la Obra Publica, el Estado encarga la construcción de un inmueble a una empresa particular, de la cual se generan pagos periódicos por la obra, ya sea por plazo, por meta cumplida, etc.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stos son los flujos securitizables para la empres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 entenderá incluido dentro de la expresión “flujo de pago” todo </a:t>
            </a:r>
            <a:r>
              <a:rPr b="0" lang="en-US" sz="2800" spc="-1" strike="noStrike" u="sng">
                <a:solidFill>
                  <a:srgbClr val="ffffff"/>
                </a:solidFill>
                <a:uFillTx/>
                <a:latin typeface="Arial"/>
              </a:rPr>
              <a:t>flujo de caja</a:t>
            </a:r>
            <a:r>
              <a:rPr b="0" lang="en-US" sz="2800" spc="-1" strike="noStrike">
                <a:solidFill>
                  <a:srgbClr val="ffffff"/>
                </a:solidFill>
                <a:latin typeface="Arial"/>
              </a:rPr>
              <a:t> proveniente de:</a:t>
            </a: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jes  futuro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greso mínimo garantizado</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venciones</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rechos emanados de las garantías cambiarias o de cobro</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ros flujos inherentes al contrato de concesión de obra publica, que se cree en el futur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enen la calidad de transferibles (art 135 inc. 2º)…</a:t>
            </a: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tos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rechos</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éditos</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qué la ley distingue aquí entre “derechos” y “credito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 los provenientes de fuentes distintas al contrat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e necesaria la diferenciación? Art 132. se refiere a “toda obligacion” sin referirse a su fuent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servaciones</a:t>
            </a:r>
            <a:endParaRPr b="0" lang="en-US" sz="4400" spc="-1" strike="noStrike">
              <a:solidFill>
                <a:srgbClr val="ffffff"/>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y LMV hace clasificaciones y esquemas que son odiosas, distinguiendo de los créditos y los derechos de los flujos, cuando económicamente TODOS GENERAN FLUJOS</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emos que la distinción se hace en cuanto a la determinación de la obligación</a:t>
            </a:r>
            <a:endParaRPr b="0" lang="en-US" sz="2400" spc="-1" strike="noStrike">
              <a:solidFill>
                <a:srgbClr val="ffffff"/>
              </a:solidFill>
              <a:latin typeface="Arial"/>
            </a:endParaRPr>
          </a:p>
        </p:txBody>
      </p:sp>
      <p:sp>
        <p:nvSpPr>
          <p:cNvPr id="19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 que importa en si es el flujo de pago, sea este presente o futuro, cuya </a:t>
            </a:r>
            <a:r>
              <a:rPr b="0" lang="en-US" sz="2400" spc="-1" strike="noStrike" u="sng">
                <a:solidFill>
                  <a:srgbClr val="ffffff"/>
                </a:solidFill>
                <a:uFillTx/>
                <a:latin typeface="Arial"/>
              </a:rPr>
              <a:t>expectativa sea fundada</a:t>
            </a:r>
            <a:r>
              <a:rPr b="0" lang="en-US" sz="2400" spc="-1" strike="noStrike">
                <a:solidFill>
                  <a:srgbClr val="ffffff"/>
                </a:solidFill>
                <a:latin typeface="Arial"/>
              </a:rPr>
              <a:t> económicamente, ya que jurídicamente no  ofrece seguridad alguna de existencia</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mpra de cosa futura?: bajo condición de que exista o se entiende por la naturaleza del contrato que se compra la suerte?.  Art 1813 CC</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SECURITIZACION NO ES VIABLE SI SE ENTIENDE QUE SE REALIZA BAJO CONDICION DE ENTERAR EL FLUJO ESTIMA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ujos de pago en los siguientes cas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to de conces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to de suministro: </a:t>
            </a:r>
            <a:r>
              <a:rPr b="0" lang="en-US" sz="3200" spc="-1" strike="noStrike">
                <a:solidFill>
                  <a:srgbClr val="ffffff"/>
                </a:solidFill>
                <a:latin typeface="Arial"/>
              </a:rPr>
              <a:t>	</a:t>
            </a:r>
            <a:r>
              <a:rPr b="0" lang="en-US" sz="3200" spc="-1" strike="noStrike">
                <a:solidFill>
                  <a:srgbClr val="ffffff"/>
                </a:solidFill>
                <a:latin typeface="Arial"/>
              </a:rPr>
              <a:t>Servicios básic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Crédito proveed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to de franquic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68360"/>
            <a:ext cx="77724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4000" spc="-1" strike="noStrike">
                <a:solidFill>
                  <a:srgbClr val="ffffff"/>
                </a:solidFill>
                <a:latin typeface="Arial"/>
              </a:rPr>
              <a:t>Definición de Flujos de Pago.</a:t>
            </a:r>
            <a:br>
              <a:rPr sz="4000"/>
            </a:br>
            <a:r>
              <a:rPr b="0" lang="es-ES_tradnl" sz="4000" spc="-1" strike="noStrike">
                <a:solidFill>
                  <a:srgbClr val="ffffff"/>
                </a:solidFill>
                <a:latin typeface="Arial"/>
              </a:rPr>
              <a:t>Concepto económico:</a:t>
            </a:r>
            <a:endParaRPr b="0" lang="en-US" sz="4000" spc="-1" strike="noStrike">
              <a:solidFill>
                <a:srgbClr val="ffffff"/>
              </a:solidFill>
              <a:latin typeface="Arial"/>
            </a:endParaRPr>
          </a:p>
        </p:txBody>
      </p:sp>
      <p:sp>
        <p:nvSpPr>
          <p:cNvPr id="165" name="PlaceHolder 2"/>
          <p:cNvSpPr>
            <a:spLocks noGrp="1"/>
          </p:cNvSpPr>
          <p:nvPr>
            <p:ph/>
          </p:nvPr>
        </p:nvSpPr>
        <p:spPr>
          <a:xfrm>
            <a:off x="456840" y="2244600"/>
            <a:ext cx="7745400" cy="2959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t>
            </a:r>
            <a:r>
              <a:rPr b="0" lang="es-ES_tradnl" sz="3200" spc="-1" strike="noStrike">
                <a:solidFill>
                  <a:srgbClr val="ffffff"/>
                </a:solidFill>
                <a:latin typeface="Arial"/>
              </a:rPr>
              <a:t>Efectivo neto y real que se genera en una empresa durante un período de tiempo específico, como consecuencia de sus operaciones normale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aracterísticas  Comun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estación indeterminada en cuanto a:</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udor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ont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itulo es antecedente remoto de la prestación securitizad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trato de Suministr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rt 2º Ley 19886:  es el que tiene por objeto la compra o el arrendamiento, incluso con opción de compra, de productos o bienes mueble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Qué y por que se securitiz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pagos periódicos que generan.</a:t>
            </a:r>
            <a:endParaRPr b="0" lang="en-US" sz="2800" spc="-1" strike="noStrike">
              <a:solidFill>
                <a:srgbClr val="ffffff"/>
              </a:solidFill>
              <a:latin typeface="Arial"/>
            </a:endParaRPr>
          </a:p>
          <a:p>
            <a:pPr marL="343080" indent="-343080">
              <a:spcBef>
                <a:spcPts val="7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eguridad que otorga el Estado como deudor</a:t>
            </a:r>
            <a:endParaRPr b="0" lang="en-US" sz="2800" spc="-1" strike="noStrike">
              <a:solidFill>
                <a:srgbClr val="ffffff"/>
              </a:solidFill>
              <a:latin typeface="Arial"/>
            </a:endParaRPr>
          </a:p>
          <a:p>
            <a:pPr marL="343080" indent="-343080">
              <a:spcBef>
                <a:spcPts val="7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rasos en sus pag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Franquici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s un proceso en el que existe una colaboracion conjunto entre empresas, donde se comercializan productos, servicio y/o tecnologías</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trato de Franquicia</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s el documento donde constan las obligaciones del franquiciador y el franquiciante</a:t>
            </a:r>
            <a:endParaRPr b="0" lang="en-US" sz="3200" spc="-1" strike="noStrike">
              <a:solidFill>
                <a:srgbClr val="ffffff"/>
              </a:solidFill>
              <a:latin typeface="Arial"/>
            </a:endParaRPr>
          </a:p>
        </p:txBody>
      </p:sp>
      <p:sp>
        <p:nvSpPr>
          <p:cNvPr id="207" name=""/>
          <p:cNvSpPr/>
          <p:nvPr/>
        </p:nvSpPr>
        <p:spPr>
          <a:xfrm>
            <a:off x="853920" y="4957920"/>
            <a:ext cx="438480" cy="57924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JEMPLO:  Locales de Fast Foo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El franquiciante, entre sus obligaciones, debe pagar un porcentaje de sus ventas al franquiciador.  El porcentaje es variable, con ciertos márgen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s securitizable según la LMV?</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to de concesión</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 39 DFL MOP nº 164 de 1991</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e entendera por obra publica fiscal a cualquier bien inmueble construido, reparado o conservado a cambio de la concesion temporal de su explotacion o sobre bienes nacionales de uso publico o fiscales destinados a desarrollar areas de servicio”</a:t>
            </a: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ecuritizacion de Ventas al Retai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215" name="PlaceHolder 2"/>
          <p:cNvSpPr>
            <a:spLocks noGrp="1"/>
          </p:cNvSpPr>
          <p:nvPr>
            <p:ph/>
          </p:nvPr>
        </p:nvSpPr>
        <p:spPr>
          <a:xfrm>
            <a:off x="457200" y="1599840"/>
            <a:ext cx="807552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ecuritizacion de Matricula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aso de la Universidad de Concepció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ctivos:  Derechos sobre flujos de pago de matriculas y aporte fiscal directo (af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ementos a considerar en cuanto a los flujos</a:t>
            </a:r>
            <a:endParaRPr b="0" lang="en-US" sz="2400" spc="-1" strike="noStrike">
              <a:solidFill>
                <a:srgbClr val="ffffff"/>
              </a:solidFill>
              <a:latin typeface="Arial"/>
            </a:endParaRPr>
          </a:p>
          <a:p>
            <a:pPr marL="343080" indent="-343080">
              <a:lnSpc>
                <a:spcPct val="90000"/>
              </a:lnSpc>
              <a:spcBef>
                <a:spcPts val="349"/>
              </a:spcBef>
              <a:buSzPct val="21168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nsideración de la Universidad</a:t>
            </a:r>
            <a:endParaRPr b="0" lang="en-US" sz="1400" spc="-1" strike="noStrike">
              <a:solidFill>
                <a:srgbClr val="ffffff"/>
              </a:solidFill>
              <a:latin typeface="Arial"/>
            </a:endParaRPr>
          </a:p>
          <a:p>
            <a:pPr marL="343080" indent="-343080">
              <a:lnSpc>
                <a:spcPct val="90000"/>
              </a:lnSpc>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umento de alumnos</a:t>
            </a:r>
            <a:endParaRPr b="0" lang="en-US" sz="1400" spc="-1" strike="noStrike">
              <a:solidFill>
                <a:srgbClr val="ffffff"/>
              </a:solidFill>
              <a:latin typeface="Arial"/>
            </a:endParaRPr>
          </a:p>
          <a:p>
            <a:pPr marL="343080" indent="-343080">
              <a:lnSpc>
                <a:spcPct val="90000"/>
              </a:lnSpc>
              <a:spcBef>
                <a:spcPts val="349"/>
              </a:spcBef>
              <a:buSzPct val="21168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umento AFD</a:t>
            </a:r>
            <a:endParaRPr b="0" lang="en-US" sz="1400" spc="-1" strike="noStrike">
              <a:solidFill>
                <a:srgbClr val="ffffff"/>
              </a:solidFill>
              <a:latin typeface="Arial"/>
            </a:endParaRPr>
          </a:p>
          <a:p>
            <a:pPr marL="343080" indent="-343080">
              <a:lnSpc>
                <a:spcPct val="90000"/>
              </a:lnSpc>
              <a:spcBef>
                <a:spcPts val="349"/>
              </a:spcBef>
              <a:buSzPct val="21168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ticipacion en el mercado Universitario</a:t>
            </a:r>
            <a:endParaRPr b="0" lang="en-US" sz="1400" spc="-1" strike="noStrike">
              <a:solidFill>
                <a:srgbClr val="ffffff"/>
              </a:solidFill>
              <a:latin typeface="Arial"/>
            </a:endParaRPr>
          </a:p>
          <a:p>
            <a:pPr marL="343080" indent="-343080">
              <a:lnSpc>
                <a:spcPct val="90000"/>
              </a:lnSpc>
              <a:spcBef>
                <a:spcPts val="349"/>
              </a:spcBef>
              <a:buSzPct val="21168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Respaldo Lotería de Concepción</a:t>
            </a:r>
            <a:endParaRPr b="0" lang="en-US" sz="1400" spc="-1" strike="noStrike">
              <a:solidFill>
                <a:srgbClr val="ffffff"/>
              </a:solidFill>
              <a:latin typeface="Arial"/>
            </a:endParaRPr>
          </a:p>
          <a:p>
            <a:pPr marL="343080" indent="-343080">
              <a:lnSpc>
                <a:spcPct val="90000"/>
              </a:lnSpc>
              <a:spcBef>
                <a:spcPts val="349"/>
              </a:spcBef>
              <a:buSzPct val="21168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stados Financieros</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oblemas: Aunque económicamente puede ser viable la securitizacion, jurídicamente es discutible su procedencia, en relación con los activos securitizables que señala la LMV, ya que no tiene un titulo que lo sustente como antecedente, es la expectativa mas incierta de todos los casos que hemos vis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Originadores de flujos de pago.</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réditos hipotecario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ntratos de arrendamiento Leasing.</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uentas por cobrar.</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ntratos de concesió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ranquicia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t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591400" y="-5172480"/>
            <a:ext cx="684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ff"/>
              </a:solidFill>
              <a:latin typeface="Arial"/>
            </a:endParaRPr>
          </a:p>
        </p:txBody>
      </p:sp>
      <p:sp>
        <p:nvSpPr>
          <p:cNvPr id="169"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El legislador al definir el concepto de flujos de pago utiliza un concepto amplio, abarcando tanto el concepto de crédito como el de flujos de pago “indeterminado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Flujos de pago (art. 132 L.M.V.)</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Toda obligación existente o que se genere en el futuro, de pagar una o más sumas de dinero por la adquisición o uso de bienes o por la prestación de servicios”.</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ff"/>
              </a:solidFill>
              <a:latin typeface="Arial"/>
            </a:endParaRPr>
          </a:p>
        </p:txBody>
      </p:sp>
      <p:sp>
        <p:nvSpPr>
          <p:cNvPr id="171"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r oposición tenemos otro concepto que la ley distingue del ya señalado:</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édito (art. 578 C. Civil)</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recho personal o crédito son los que sólo pueden reclamarse de ciertas personas que, por un hecho suyo o la sola disposición de la ley, han contraído las obligaciones correlativas;como el que tiene el prestamista contra su deudor por el dinero prestado, o el hijo contra su padre por alimentos. De estos derechos nacen las acciones personales”. </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89308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ff"/>
              </a:solidFill>
              <a:latin typeface="Arial"/>
            </a:endParaRPr>
          </a:p>
        </p:txBody>
      </p:sp>
      <p:sp>
        <p:nvSpPr>
          <p:cNvPr id="173"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rt. 135, inc. Primero, L.M.V.</a:t>
            </a:r>
            <a:endParaRPr b="0" lang="en-US" sz="3200" spc="-1" strike="noStrike">
              <a:solidFill>
                <a:srgbClr val="ffffff"/>
              </a:solidFill>
              <a:latin typeface="Arial"/>
            </a:endParaRPr>
          </a:p>
          <a:p>
            <a:pPr marL="343080" indent="-3430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Para los efectos de este título se entenderán incluidos dentro de la expresión flujos de pagos, todo flujo de caja proveniente de peajes futuros, del ingreso mínimo garantizado, de las subvenciones, de los derechos emanados de las garantías cambiarias o de cobro; y todo otro flujo de pago inherente al contrato de concesión de obra pública…”</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567280" y="-5185800"/>
            <a:ext cx="63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ff"/>
              </a:solidFill>
              <a:latin typeface="Arial"/>
            </a:endParaRPr>
          </a:p>
        </p:txBody>
      </p:sp>
      <p:sp>
        <p:nvSpPr>
          <p:cNvPr id="175" name="PlaceHolder 2"/>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álisis de los contratos en cuanto a su certidumbre, es decir, a factores como: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to exigibilidad,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jeto pasivo y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rantías de las que responde el acreedor ced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459280" y="-5438160"/>
            <a:ext cx="227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ff"/>
              </a:solidFill>
              <a:latin typeface="Arial"/>
            </a:endParaRPr>
          </a:p>
        </p:txBody>
      </p:sp>
      <p:sp>
        <p:nvSpPr>
          <p:cNvPr id="177"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tos reale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tos de tracto sucesivo</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tos de ejecución diferid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n flujos de pag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quicias</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venciones </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gresos mínimos garantizad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n flujos de pago?</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686440" y="-5438160"/>
            <a:ext cx="206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ff"/>
              </a:solidFill>
              <a:latin typeface="Arial"/>
            </a:endParaRPr>
          </a:p>
        </p:txBody>
      </p:sp>
      <p:sp>
        <p:nvSpPr>
          <p:cNvPr id="179"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istinción entre los flujos de pag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réditos (rtas. de arrend., mutuo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lujos de caja futuros (franquicia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lujos de caja eventuales ( matrícula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16:30:36Z</dcterms:created>
  <dc:creator>lucarna11</dc:creator>
  <dc:description/>
  <dc:language>en-US</dc:language>
  <cp:lastModifiedBy>Octavio Bofill G.</cp:lastModifiedBy>
  <dcterms:modified xsi:type="dcterms:W3CDTF">2004-09-29T00:31:49Z</dcterms:modified>
  <cp:revision>9</cp:revision>
  <dc:subject/>
  <dc:title>Diapositiva 1</dc:title>
</cp:coreProperties>
</file>