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800BA9-96F8-476D-9F2D-2901764F2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3DCE77-9209-4B36-9F59-B74C600E2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E07A29-81D3-433C-8C1A-768735701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95BCECF-7347-4191-B135-59BB94CF0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B57E1-E748-41C7-8280-0F95784D3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61D15-A0B8-49CA-A508-EC025A74E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50F7A-A780-41E1-9CE6-4276CC9A8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AF633-7193-4D7E-BCBC-16930A1C9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6FCC8-6DAA-4530-83FA-26306EBD5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8A629-850F-444D-B513-56D0B33A0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FF16-F87B-41E5-B618-9EE38E8B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DF7A12-D3E3-4948-91B8-105B509BC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9FDE3-D7D5-484A-915E-9F2429AF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F48CF-BBA2-4D96-BE29-FDA75FE6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02F7A-86B4-4AE4-8CB8-677888C34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DA3E8-2F4C-41BB-A318-21F11F9DF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49184-0BBF-460B-999E-208B660BE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F1672D-E712-4FDD-84F2-6CD6222B8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AB3B6E-95FE-4531-9E7A-046AD916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8DF1ED-7D03-41FD-B775-AFFCA4A6F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4AE470-A99A-4AE1-80F7-0AA02E870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749F0D-592A-492C-8118-19F1ABE9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0AFE6E-8392-46A6-80C2-582E598F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E59622-2E75-4159-B8BB-1F710AC5A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4FB6-ABC6-47B9-BFCC-382E73C91B8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CBA5-2855-4A33-B6C2-14E875869A4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68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Teoría del Levantamiento del Velo Corporativ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xplicaciones Generales y aplicación práctica en Chile</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9471B89E-2C6B-44E6-B19C-D8E9DF80EB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Caso Fraile/ Maya. Sentencia de 12 de junio de 1996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4° Juzgado Civil de Santiago.</a:t>
            </a:r>
            <a:br>
              <a:rPr sz="2400"/>
            </a:b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FD61BA7-57CD-4B92-8B9A-6DE0E3860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 Caso Vargas y otros/ Antuco. Sentencia de 9 de noviembre de 1998 </a:t>
            </a:r>
            <a:br>
              <a:rPr sz="2400"/>
            </a:br>
            <a:r>
              <a:rPr b="0" lang="es-ES_tradnl" sz="2400" spc="-1" strike="noStrike">
                <a:solidFill>
                  <a:srgbClr val="ffffff"/>
                </a:solidFill>
                <a:latin typeface="Arial"/>
              </a:rPr>
              <a:t> 1° Juzgado Civil de Concepción.</a:t>
            </a:r>
            <a:br>
              <a:rPr sz="2400"/>
            </a:br>
            <a:r>
              <a:rPr b="0" lang="es-ES_tradnl" sz="2400" spc="-1" strike="noStrike">
                <a:solidFill>
                  <a:srgbClr val="ffffff"/>
                </a:solidFill>
                <a:latin typeface="Arial"/>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F06B2047-D3C0-4D87-8B94-621693B2E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INOPONIBILIDAD DE LA PERSONA JURÍDICA</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D498B7C4-D6BF-4E00-A8AE-D1BA56EDD2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CEPTO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rumento para evitar el fraude e impedir que, a través de un mecanismo formalmente correcto, se produzca un resultado materialmente antijurídico”. Embid Iruj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itución de verdad material asociada a la defensa de los principios jurídicos fundamentales tales como el principio de prohibición de la clandestinidad en el ejercicio del comercio y el principio de trasparencia patrimonial o de prohibición de confusión de patrimonios”.  Alvarez de Toled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 sz="1800" spc="-1" strike="noStrike">
                <a:solidFill>
                  <a:srgbClr val="ffffff"/>
                </a:solidFill>
                <a:latin typeface="Arial"/>
              </a:rPr>
              <a:t> “Doctrina jurisprudencial acerca de la penetración en la realidad económica de la personalidad jurídica en pos de aflorar “ad extra” la verdad material subyacente cuando la misma se encuentre con el formalismo de ficción de la apariencia societaria”. Sala Primera del Tribunal Supremo de España.</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A459D51A-0920-48B9-8691-B222FB7BB5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IGEN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USA.</a:t>
            </a:r>
            <a:endParaRPr b="0" lang="en-US" sz="4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EORÍAS:</a:t>
            </a:r>
            <a:endParaRPr b="0" lang="en-US" sz="36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 EGO</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HAM TO PERPETUATE A FRAUD</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ALITY</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DENTITY</a:t>
            </a:r>
            <a:endParaRPr b="0" lang="en-US" sz="2400" spc="-1" strike="noStrike">
              <a:solidFill>
                <a:srgbClr val="ffffff"/>
              </a:solidFill>
              <a:latin typeface="Garamond"/>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6722097-9DD0-45DF-851F-2E07F47903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PAÑ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U.K.  </a:t>
            </a:r>
            <a:endParaRPr b="0" lang="en-US" sz="32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GENCY</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LTER EGO (Instrumentality rule)</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97259F58-ED82-407B-86FB-54DD968BA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LTER EGO</a:t>
            </a:r>
            <a:endParaRPr b="0" lang="en-US" sz="32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REGIST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ECCIÓN DE DIRECTORE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MISIÓN DE ACCIONES </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FUSIÓN PATRIMONIAL</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DENTITY)</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5A31807-6D91-49AC-B53E-9A9CA873D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HAM TO PERPETUATE A FRAU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SO , ABUSO  O MANIPULACIÓN DE ESTRUCTURA CORPORATIVA</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ERJUICIO A TERCE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NSTRUMENTALITY)</a:t>
            </a: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20BCD93-83E5-4009-B902-9336DA6871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étodos clásicos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Inexistenci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Nulidad absolut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Declaración de simulación del acto constitutivo de  la persona jurídic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d. Revocación del acto constitutivo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005C1BA5-BD19-402D-A373-D74C3F058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ficiencia de estos métodos </a:t>
            </a:r>
            <a:br>
              <a:rPr sz="1800"/>
            </a:br>
            <a:r>
              <a:rPr b="0" lang="es-CL" sz="1800" spc="-1" strike="noStrike">
                <a:solidFill>
                  <a:srgbClr val="ffffff"/>
                </a:solidFill>
                <a:latin typeface="Arial"/>
              </a:rPr>
              <a:t> Elementos presentes en el derecho chileno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minente infracción del imperativo de transparencia  en el tráfico jurídico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oponibilidad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E3636EAF-5EF5-4A99-AFFB-D8B69BBA4D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1. </a:t>
            </a:r>
            <a:r>
              <a:rPr b="0" lang="es-ES_tradnl" sz="2400" spc="-1" strike="noStrike">
                <a:solidFill>
                  <a:srgbClr val="ffffff"/>
                </a:solidFill>
                <a:latin typeface="Arial"/>
              </a:rPr>
              <a:t>Caso Clínica Las Condes/ Vera Vera. sentencia de 25 de abril de 2000 </a:t>
            </a:r>
            <a:endParaRPr b="0" lang="en-US" sz="2400" spc="-1" strike="noStrike">
              <a:solidFill>
                <a:srgbClr val="ffffff"/>
              </a:solidFill>
              <a:latin typeface="Garamond"/>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17° Juzgado Civil de Santiago</a:t>
            </a:r>
            <a:br>
              <a:rPr sz="2400"/>
            </a:br>
            <a:br>
              <a:rPr sz="2400"/>
            </a:b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04CDDA1-0CC6-4F49-BA67-8141BD7A1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5:28:51Z</dcterms:created>
  <dc:creator>lucarna21</dc:creator>
  <dc:description/>
  <dc:language>en-US</dc:language>
  <cp:lastModifiedBy>Octavio Bofill G.</cp:lastModifiedBy>
  <dcterms:modified xsi:type="dcterms:W3CDTF">2004-09-23T12:22:15Z</dcterms:modified>
  <cp:revision>5</cp:revision>
  <dc:subject/>
  <dc:title>Teoría del Levantamiento del Velo Corporativo</dc:title>
</cp:coreProperties>
</file>