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0BA6F-4C23-4564-9F14-D4AEA114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C3FAC-C338-427F-96C9-49CB4D0E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8F93B-7E2D-4284-A5F9-F18C97BE3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30B94-CD68-4C18-9488-736A0D45D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8D6A4-62D6-4782-B255-6F61FF143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4E4D0-0EAF-415D-BACA-7D42A446C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8AAA6-38DB-48A2-AC5B-F7F1E6F65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E46D8-37FA-4976-862B-D38438B0E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AE517-DD52-452B-BBB9-223EA4EDC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B5FD5-675E-4407-BB5B-50192B850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08045-506A-4D81-8FDC-31A24A44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E1117-59AF-47E5-8951-741D683E7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70271-E492-4654-BCBD-60E82BA20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A5F24-E21F-4773-BFF4-BB7EAD1D1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086A8-106B-4A51-A17E-393555EBF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FC6C1-46BF-42E7-B4AD-7C1186704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77756-CB6A-44E6-B6E5-A0AE57B82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A74F3-7020-47E3-A1FA-006E71C2E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E2FB5-ECB1-48D9-A713-EFF6DD7F3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722C5-975D-431E-AFBA-4E76049E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3B96D-5358-411D-A51A-8E28F61D5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BB4A1-12D1-4C2F-8855-C1F19C6F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C8C9-8BF9-4B20-9D09-B2A523AC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2F3F-9FD8-4341-93DC-469814566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DADC-CF1C-42A6-BCA6-71D4F225566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4179-3842-49FA-9745-3AD6B442414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00000" y="1774440"/>
            <a:ext cx="737712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istóricamente y con distintas denominaciones ha existido un documento, extendido entre comerciantes, que da cuenta de las obligaciones esenciales del contrato de compraventa, consistentes en la entrega de la cosa vendida por parte del vendedor, y el pago total o parcial del precio, por parte del comprador.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Aun cuando nuestro ordenamiento jurídico regula la emisión de la factura, no la define. </a:t>
            </a:r>
            <a:r>
              <a:rPr b="0" lang="es-CL" sz="1800" spc="-1" strike="noStrike">
                <a:solidFill>
                  <a:srgbClr val="ffffff"/>
                </a:solidFill>
                <a:latin typeface="Tahoma"/>
              </a:rPr>
              <a:t>	</a:t>
            </a:r>
            <a:r>
              <a:rPr b="0" lang="es-CL" sz="1800" spc="-1" strike="noStrike">
                <a:solidFill>
                  <a:srgbClr val="ffffff"/>
                </a:solidFill>
                <a:latin typeface="Tahoma"/>
              </a:rPr>
              <a:t> La factura es </a:t>
            </a:r>
            <a:r>
              <a:rPr b="0" lang="es-ES" sz="1800" spc="-1" strike="noStrike">
                <a:solidFill>
                  <a:srgbClr val="ffffff"/>
                </a:solidFill>
                <a:latin typeface="Tahoma"/>
              </a:rPr>
              <a:t>un documento que detalla los bienes o servicios vendidos o prestados por una parte a otra, con indicación de cantidades y precios.  Por lo general, </a:t>
            </a:r>
            <a:r>
              <a:rPr b="0" lang="es-CL" sz="1800" spc="-1" strike="noStrike">
                <a:solidFill>
                  <a:srgbClr val="ffffff"/>
                </a:solidFill>
                <a:latin typeface="Tahoma"/>
              </a:rPr>
              <a:t>es el único documento que refleja estos actos y las obligaciones cuyo pago se encuentra pendiente. Por su evidente importancia tributaria, comercial y contractual, distintas legislaciones le han otorgado el carácter de  título de crédito. </a:t>
            </a:r>
            <a:endParaRPr b="0" lang="en-US" sz="1800" spc="-1" strike="noStrike">
              <a:solidFill>
                <a:srgbClr val="ffffff"/>
              </a:solidFill>
              <a:latin typeface="Arial"/>
            </a:endParaRPr>
          </a:p>
          <a:p>
            <a:pPr algn="just">
              <a:lnSpc>
                <a:spcPct val="100000"/>
              </a:lnSpc>
              <a:tabLst>
                <a:tab algn="l" pos="0"/>
                <a:tab algn="l" pos="17780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3" name=""/>
          <p:cNvSpPr/>
          <p:nvPr/>
        </p:nvSpPr>
        <p:spPr>
          <a:xfrm>
            <a:off x="2521080" y="835920"/>
            <a:ext cx="4146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MÉRITO EJECUTIVO DE LA FACTU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26920" y="444240"/>
            <a:ext cx="74818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PROYECTO DE LEY QUE REGULA LA TRANSFERENCIA Y OTORGA MÉRITO EJECUTIVO A LA COPIA DE LA FACTUR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Primero: Impone al emisor de la factura la obligación de emitir una copia adicional de la misma, sin valor tributario, con el fin de transferirla a terceros o de cobrarla ejecutivament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gundo: Dispone la obligación de pago del saldo insoluto contenida en la factura deberá ser cumplida en alguno de los momentos en que la misma ley establec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Tercero: dispone que la aceptación de la factura adquirirá carácter irrevocable si no se deduce reclamo en contra de su contenido, en alguna de las formas que describ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Cuarto: Establece las condiciones que debe reunir la copia de la factura, para ser cedida dentro del marco jurídico del proyecto de le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32000" y="981000"/>
            <a:ext cx="67690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Quinto: Establece que la copia de la factura tendrá mérito ejecutivo para su cobro si, junto con cumplir las condiciones señaladas en el artículo anterior, además reúne las que enumera el presente artí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exto: También es cesible la copia de la factura extendida por 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Séptimo: Su inciso segundo señala que la cesión deberá ser notificada al obligado al pago de la factura. (Notario u Oficial del Registro Civil).</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Octavo: Permite entregar en cobranza a un tercer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Noveno: Presunción de representación del comprador o beneficiario del servici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476360" y="2009880"/>
            <a:ext cx="63356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Hace aplicable las normas del proyecto a la factura electrónic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Primero: En su inciso primero señala que las disposiciones establecidas en el Título XXV del Libro Cuarto del Código Civil tienen carácter supletorio respecto de la cesión de factur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ículo Décimo Segundo: Entrada en vigencia de la le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647360" y="333360"/>
            <a:ext cx="65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Realidad Económica de la Pequeña, y Mediana Empresa.</a:t>
            </a:r>
            <a:endParaRPr b="0" lang="en-US" sz="1800" spc="-1" strike="noStrike">
              <a:solidFill>
                <a:srgbClr val="ffffff"/>
              </a:solidFill>
              <a:latin typeface="Arial"/>
            </a:endParaRPr>
          </a:p>
        </p:txBody>
      </p:sp>
      <p:sp>
        <p:nvSpPr>
          <p:cNvPr id="99" name=""/>
          <p:cNvSpPr/>
          <p:nvPr/>
        </p:nvSpPr>
        <p:spPr>
          <a:xfrm>
            <a:off x="1887480" y="1500120"/>
            <a:ext cx="614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468360" y="1268280"/>
            <a:ext cx="8136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CONFEDECH (Confederación del Comercio Detallista y Turismo de Chile), son 700.000 las micro, pequeñas y medianas empresas, las que proveen a grandes empresas, al Estado y a las Municipalidade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	</a:t>
            </a:r>
            <a:r>
              <a:rPr b="0" lang="en-US" sz="1800" spc="-1" strike="noStrike">
                <a:solidFill>
                  <a:srgbClr val="ffffff"/>
                </a:solidFill>
                <a:latin typeface="Tahoma"/>
              </a:rPr>
              <a:t>Según cifras entregadas por la SOFOFA (Sociedad de Fomento Fabril), son 120.000 las pequeñas y medianas empresas, que dan trabajo aproximadamente al 22% de la fuerza laboral de Chile, que son proveedoras de bienes y servicios a empresas que compiten con la producción importada o directamente en los mercados internacion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47640" y="907920"/>
            <a:ext cx="612144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Desequilibrio entre las PYMES y Grandes empresas. Son estas las que fijan las condiciones de los contratos desde una posición dominante, que se refleja e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ecios de Compr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lazos de Pag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0" lang="es-ES" sz="1800" spc="-1" strike="noStrike">
                <a:solidFill>
                  <a:srgbClr val="ffffff"/>
                </a:solidFill>
                <a:latin typeface="Tahoma"/>
              </a:rPr>
              <a:t>	</a:t>
            </a:r>
            <a:r>
              <a:rPr b="0" lang="es-ES" sz="1800" spc="-1" strike="noStrike">
                <a:solidFill>
                  <a:srgbClr val="ffffff"/>
                </a:solidFill>
                <a:latin typeface="Tahoma"/>
              </a:rPr>
              <a:t>Prohibiciones (Liquidar facturas en Factoring)</a:t>
            </a:r>
            <a:endParaRPr b="0" lang="en-US" sz="1800" spc="-1" strike="noStrike">
              <a:solidFill>
                <a:srgbClr val="ffffff"/>
              </a:solidFill>
              <a:latin typeface="Arial"/>
            </a:endParaRPr>
          </a:p>
        </p:txBody>
      </p:sp>
      <p:sp>
        <p:nvSpPr>
          <p:cNvPr id="102" name=""/>
          <p:cNvSpPr/>
          <p:nvPr/>
        </p:nvSpPr>
        <p:spPr>
          <a:xfrm>
            <a:off x="1258920" y="3573720"/>
            <a:ext cx="65530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s PYMES han sufrido problemas de financiamiento, producto de la falta de liquidez, dificultando el cumplimiento de sus compromisos financieros. A pesar de los programas que se han estructurado para refinanciar las deudas o reprogramarlas, por la carencia de garantías de estas empres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55640" y="1724040"/>
            <a:ext cx="750564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PYMES no han podido optar por el factoring debido a que las tasas de interés en estas operaciones son superiores a las de la banca, por:</a:t>
            </a:r>
            <a:br>
              <a:rPr sz="1800"/>
            </a:b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lto costo administrativo de la cesión.</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Necesidad de constituir provisiones mayores que las del pagare, debido a los riesgos de que la factura no sea un titulo de crédito y no tenga merito ejecutivo para su cobro judi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26920" y="779760"/>
            <a:ext cx="74520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 dar merito ejecutivo a la factura y permitir su transferencia se producirá el efecto de reducción en las tasas de interés que cobran las empresas de factoring por tres razone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La cesión de crédito en la forma que se pretende regular baja sustancialmente los costos administrativos.</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Al otorgar merito ejecutivo a la factura para su cobro judicial, se le confiere mayor seguridad y se evita que las compañías de factoring tengan que efectuar las provisiones de recursos que hoy deben hacer.</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Por la mayor seguridad del titulo, necesariamente debe activar este mercado y por lo tanto debe haber un aumento en la competenc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1332000" y="779760"/>
            <a:ext cx="64641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cceso que las PYMES tengan a esta forma de financiamiento, producto de las bajas de interés permitirá:</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Que las PYMES dispongan de un instrumento de financiamiento del capital de trabajo</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Garantía suficiente para acceder a financiamiento de la banca (consecuencia del flujo de caja)</a:t>
            </a: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El aumento del  mercado de factoring, dará lugar a que entren empresas no bancarias, esto implica que el acceso del publico a diferentes segmentos del mercado financierota dependerá del riesgo financiero que presenten y las tasas de interés del financiamiento obtenido en el sistema bancari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332000" y="1700280"/>
            <a:ext cx="66960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tráfico comercial y su ingente desarrollo han impulsado a empresarios y comerciantes a realizar actos y contratos para vender, ceder y transferir toda clase de crédito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s así como, con el fin de obtener liquidez, el acreedor puede ceder sus cuentas por cobrar, a cambio de un precio determinado, presumiblemente menor que el señalado en el títul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619280" y="1989000"/>
            <a:ext cx="6192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NCEPTO: Modalidad financiera que consiste en la venta contractual de las cuentas por cobrar, que provienen de la explotación normal del giro de una determinada empresa, a una institución especializada denominada factor, con el fin de obtener el pago en efectivo antes del vencimiento del crédito cedido al factor. Este último, que actúa como cesionario, asume la  responsabilidad de la cobranza y el acreedor, que tiene el rol de cedente, se libera de la responsabilidad por la insolvencia del deudor cedi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86" name=""/>
          <p:cNvSpPr/>
          <p:nvPr/>
        </p:nvSpPr>
        <p:spPr>
          <a:xfrm>
            <a:off x="3036600" y="1268280"/>
            <a:ext cx="320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NTRATO DE FACTOR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187280" y="1413000"/>
            <a:ext cx="6769440" cy="424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n perjuicio de la definición anterior, el contrato de factoring tiene modalidades de operación que superan las definiciones doctrinarias, distinguiéndose entre factoring con o sin  responsabilidad o recurso.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con responsabilidad o recurso: el cedente responde por la solvencia futura del deudor original, y el no pago del crédito, a su vencimiento, habilita al factor para dirigirse en contra del cedente o, a veces indistintamente, también contra el deudor original del crédito. </a:t>
            </a: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Factoring sin responsabilidad o sin recurso: el cedente no responde por la insolvencia del deudor cedid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116000" y="1125360"/>
            <a:ext cx="6842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os créditos que constan en una factura han adquirido mayor importancia como consecuencia del creciente desarrollo del factoring. En efecto, los saldos de precios regularmente no constan de los  títulos de crédito generados para garantizar su pago y, frecuentemente, la deuda sólo consta de la factura.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factura, en cuanto documento que da cuenta de un crédito nominativo personal, se rige por lo dispuesto en el artículo 1.901 del Código Civil, en virtud del cual la cesión de créditos no produce efecto contra el deudor ni contra terceros, mientras no sea notificada por el cesionario al deudor o aceptada por éste. En consecuencia, se debe comunicar la cesión formalmente al deud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1341360"/>
            <a:ext cx="74170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Hoy la factura no tiene el carácter de titulo de crédito ejecutivo. Los instrumentos que tienen ese la calidad de ser títulos ejecutivos están numerados taxativamente por el artículo 434 del C.P.C., y entre ellos la factura no tiene tratamiento especial, por lo que se le aplica la regla general de los instrumentos privados, que para ser considerados títulos ejecutivos deben ser reconocidos judicialmente, o mandados a tener por reconocidos según lo dispuesto en el numeral 4º del mismo articul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a que la factura tenga el carácter de título ejecutivo, es necesario preparar la vía ejecutiva, que consiste en obtener la confesión del deudor o reconocimiento de la deu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2419560" y="40464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COBRO DE FACTURAS EN LA ACTUALID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1332000" y="620640"/>
            <a:ext cx="640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sde un punto de vista del contrato de factoring, en el evento en que el factor tenga una factura impaga y quiera hacer efectiva las obligaciones del deudor en los tribunales, tiene dos vías:</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 Intentar transformar la factura en título ejecutivo para luego iniciar la demand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2.- Iniciar Juicio Ordinario por cobro de pes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
        <p:nvSpPr>
          <p:cNvPr id="92" name=""/>
          <p:cNvSpPr/>
          <p:nvPr/>
        </p:nvSpPr>
        <p:spPr>
          <a:xfrm>
            <a:off x="1403280" y="3573360"/>
            <a:ext cx="648036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r los problemas que nacen a partir de lo anterior es que se requiere fortalecer a la factura, como documento que acompaña la mayor parte de las transacciones u operaciones de compraventa y de prestación de servicios que se celebran, de manera que su transferencia implique el cumplimiento de formalidades que no retrasen sustancialmente el desarrollo de la operación, a la vez que permita que su cobro sea ejecutable mediante un procedimiento expedi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116000" y="838440"/>
            <a:ext cx="72756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FUNDAMENTOS DE LA INICIATIV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 proyecto se funda en la necesidad de consagrar en forma específica un sistema de cesión del crédito contenido en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Se otorga a las facturas la calidad de “cedibles”, mediante la emisión de una copia adicional, sin valor tributario, que indique expresamente esta calidad con la mención “CEDIBL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Se otorga a la copia adicional de una factura la calidad de título ejecutivo, siempre que no se haya reclamado disconformidad.</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Se permite que la copia adicional sea endosada en cobranz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Se aplica a la factura electrónica, siempre que se utilice firma electrónic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332000" y="1341360"/>
            <a:ext cx="676908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 la finalidad de alcanzar los objetivos señalados, se propone lo siguiente:</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buClr>
                <a:srgbClr val="ffffff"/>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emisión de una copia adicional de la factura. Art. 1.</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 La constancia en la factura del recibo conforme de los bienes o servicios adquiridos por parte del deudor. Art. 3.</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 Procedimiento para reclamar el contenido de la factura.</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 Cesión de los derechos o créditos que contiene la factura. Art. 4, 6, 7 y 8.</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 Preparación de la vía ejecutiva. Ar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8:20:36Z</dcterms:created>
  <dc:creator>Facultad de Derecho </dc:creator>
  <dc:description/>
  <dc:language>en-US</dc:language>
  <cp:lastModifiedBy>Octavio Bofill G.</cp:lastModifiedBy>
  <dcterms:modified xsi:type="dcterms:W3CDTF">2004-09-21T23:21:06Z</dcterms:modified>
  <cp:revision>3</cp:revision>
  <dc:subject/>
  <dc:title>Diapositiva 1</dc:title>
</cp:coreProperties>
</file>