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5D6-0DE9-46CE-8D64-507696B5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551-23AE-45F9-AAAE-B42CD84F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5BD-038F-4931-9DDA-159841EA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5D2-F0C4-4BBB-94A2-74A48563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64E-1C42-4E97-A0C9-78E93CBB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D09-D068-4028-88E5-2E649A4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7EC-B44F-4A0C-BD9F-C5FFF81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DAF-7F2F-4CDD-8528-0DC8D4A0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CA2-7474-4CB7-8B01-C0EEF66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1EC-B80E-4001-B18F-2AF64E4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30D-B831-4C67-86D1-A217EA5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287-F634-404D-AE89-B13C53C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C505-F69E-4841-8FA0-4270FCA08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341360"/>
            <a:ext cx="8315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4656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7080" y="2060640"/>
            <a:ext cx="36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080" y="366876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78400" y="4246560"/>
            <a:ext cx="7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51760" y="2060640"/>
            <a:ext cx="41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880" y="36687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86400" y="4246560"/>
            <a:ext cx="30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9-06T13:33:57Z</dcterms:modified>
  <cp:revision>68</cp:revision>
  <dc:subject/>
  <dc:title>Sin título de diapositiva</dc:title>
</cp:coreProperties>
</file>