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39F8-E130-4FD8-9291-AB78069AF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1EE2-1090-442B-B2A1-8A00715C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9E5F-859D-4ACF-957E-8B6F3BED3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A146-6D93-49C7-8DB1-FF814B6C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6C91-67C1-42B4-9193-160F2D52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6A4E-CFC5-4C19-BF04-484B3695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54D7-3BC6-4A25-998D-AFE98E48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1DC3-CD7E-45AD-AB1F-95CC7321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D2E7-8AF0-4BEC-B6FC-E6FD3E18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8CE0-8781-4AC1-8364-D3C52A52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B5EF-CA62-4650-94A9-EFD3BF25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1DFE-CDCB-4A2F-8FE7-0DA71970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C894-772D-4EF1-9B77-4DD167A47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17760" y="3124080"/>
            <a:ext cx="26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La Empre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836640"/>
            <a:ext cx="619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Financiamiento de Empres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1280" y="5229360"/>
            <a:ext cx="295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Electivo Derecho Comer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2° semestre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derecho.uchile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50280" y="711360"/>
            <a:ext cx="63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Representación financiera del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637560" y="19162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1280" y="234936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ircul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4440" y="27813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89320" y="32130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358800" y="18828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73480" y="2349360"/>
            <a:ext cx="24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Larg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75640" y="2781360"/>
            <a:ext cx="240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Cort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85720" y="342900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trimonio N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82840" y="3932280"/>
            <a:ext cx="21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Pag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tilidades / Pérdi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er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valoriz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61200" y="2492280"/>
            <a:ext cx="18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 EXIG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1280" y="141300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Balance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Fotografía, estático - Patrimo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339080" y="5229360"/>
            <a:ext cx="23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O DEL A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03800" y="5191200"/>
            <a:ext cx="24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258920" y="5877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125892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3560" y="6021360"/>
            <a:ext cx="21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cuación de Suma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979640" y="6021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5435640" y="558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84360" y="191628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940360" y="24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84720" y="2421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5940000" y="306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15320" y="2022480"/>
            <a:ext cx="36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y obligaciones recípro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30360" y="2637000"/>
            <a:ext cx="791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existencia determina la capacidad de la empresa de desarrollar su activid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inexistencia es un límite a la misma capac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26920" y="3495600"/>
            <a:ext cx="76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svinculación del patrimonio del empresario, de hecho la inversión que hace el      empresario en la empresa es parte del activo del empresar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185840" y="38624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23480" y="69228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inanc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24440" y="1557360"/>
            <a:ext cx="437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independencia respecto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26920" y="42163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registran en el pasivo del balance de la empresa (la empresa siempre está en deuda con ell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38120" y="5253120"/>
            <a:ext cx="41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iénes son: capitalistas y prestam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12440" y="2492280"/>
            <a:ext cx="429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ueños de la propiedad sobr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26920" y="2924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een la capacidad de disponer, usar y gozar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69432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26920" y="33577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son los dueños de los activos de la empresa. La empresa en cuanto sujeto y obj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55840" y="1724040"/>
            <a:ext cx="18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capitalis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26920" y="4005360"/>
            <a:ext cx="749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een derechos económicos y polí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6920" y="43657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n los primeros administradores de la empresa y sus activos; la representan en la contratación de sus pa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26920" y="55897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n responsables subsidiarios por los pasivos de la empresa; limitaciones y ficciones leg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26920" y="5084640"/>
            <a:ext cx="749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de riesgo, últimos en la prelación de pa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480" y="1341360"/>
            <a:ext cx="8315640" cy="59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utonomía patrimonial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erceros contratantes ejercen sus derechos sobre los bienes de la empres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 abstracción del patrimonio de los capita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ponsabilidad de los capitalist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bsidiaria 2095 C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recta 370 C 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limi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imi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personales de un capitali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recen de derechos sobre bienes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sobre dividendos y remanente del capitalista 380 C 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comparten posiciones con los acreedores de la empresa, se subordin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 é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bordinación de los derechos del capitalista 404, 413 C 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hibición de extraer montos mayores a los estipul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hibición de repartir bienes antes de satisfacer a prestam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69756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97240" y="155736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7600" y="2060640"/>
            <a:ext cx="6149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presentación contable del derecho de los capita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tiene correlativo en 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mportancia en el nacimiento y en la extinción de la empres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manencia en el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ntido impropio de garantía a los acreedores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69432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80680" y="1557360"/>
            <a:ext cx="132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l Capit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9720" y="3668760"/>
            <a:ext cx="295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incipios que lo inform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14040" y="4246560"/>
            <a:ext cx="274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term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be ser ú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st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umento y re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47080" y="2060640"/>
            <a:ext cx="363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592440" y="69228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Prestam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2640" y="1557360"/>
            <a:ext cx="44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31080" y="3668760"/>
            <a:ext cx="3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78400" y="4246560"/>
            <a:ext cx="767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51760" y="2060640"/>
            <a:ext cx="416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2640" y="1557360"/>
            <a:ext cx="44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51880" y="3668760"/>
            <a:ext cx="44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986400" y="4246560"/>
            <a:ext cx="30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155736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Concepto jurídico o económico?  Importa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54936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00400" y="2060640"/>
            <a:ext cx="433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n duda nace como concepto econó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3240" y="2421000"/>
            <a:ext cx="52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conjunción de bienes, personas y 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7680" y="2852640"/>
            <a:ext cx="241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organ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7480" y="3284640"/>
            <a:ext cx="226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fin de luc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2760" y="3860640"/>
            <a:ext cx="201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Unidad jurídic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4240" y="4437000"/>
            <a:ext cx="819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ibilidad de encontrar 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criterio único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que permita delimitar el 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xacto alc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la “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mpresa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200" y="5157720"/>
            <a:ext cx="70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mplos en la transferencia, gravamen, patrimonio de afect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8600" y="5661000"/>
            <a:ext cx="59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iciones frente al “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criterio unificador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” de la empres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8840" y="1916280"/>
            <a:ext cx="63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sonalidad jurídica              ficción técnica arbitraria (EIR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87280" y="549360"/>
            <a:ext cx="687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275600" y="61977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05600" y="4076640"/>
            <a:ext cx="8428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rgan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rasciende a los bienes, valores no se  condicen necesariamente con los biene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no con el elemento volitivo que los organi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1989000"/>
            <a:ext cx="431640" cy="144720"/>
          </a:xfrm>
          <a:custGeom>
            <a:avLst/>
            <a:gdLst>
              <a:gd name="textAreaLeft" fmla="*/ 67320 w 431640"/>
              <a:gd name="textAreaRight" fmla="*/ 378000 w 43164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9120" y="25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4840" y="2532240"/>
            <a:ext cx="74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 separado               argumento circular, dónde empieza y term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2637000"/>
            <a:ext cx="380880" cy="144360"/>
          </a:xfrm>
          <a:custGeom>
            <a:avLst/>
            <a:gdLst>
              <a:gd name="textAreaLeft" fmla="*/ 59400 w 380880"/>
              <a:gd name="textAreaRight" fmla="*/ 333360 w 3808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8960" y="306864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nivers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3573360"/>
            <a:ext cx="114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6520" y="1916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177156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 mercantil y Empresa se yuxtapo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54360" y="2454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6840" y="4005360"/>
            <a:ext cx="11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0600" y="2408400"/>
            <a:ext cx="123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54360" y="238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54360" y="25970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54360" y="26701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54360" y="252576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96720" y="2421000"/>
            <a:ext cx="53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 de comercio o establecimiento, (manifest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54360" y="2813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54360" y="2814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54360" y="29574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54360" y="30304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54360" y="288612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4360" y="3247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54360" y="3174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54360" y="33908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54360" y="34639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54360" y="331956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61520" y="2852640"/>
            <a:ext cx="60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ciedad            ente jurídico per se, (empresario, no empres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38360" y="2957400"/>
            <a:ext cx="432000" cy="111240"/>
          </a:xfrm>
          <a:prstGeom prst="rightArrow">
            <a:avLst>
              <a:gd name="adj1" fmla="val 50000"/>
              <a:gd name="adj2" fmla="val 970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38480" y="3284640"/>
            <a:ext cx="66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IRL             creación jurídica que presupone al concepto económico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distorsión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79800" y="3389400"/>
            <a:ext cx="431640" cy="110880"/>
          </a:xfrm>
          <a:prstGeom prst="rightArrow">
            <a:avLst>
              <a:gd name="adj1" fmla="val 50000"/>
              <a:gd name="adj2" fmla="val 9732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9080" y="4508640"/>
            <a:ext cx="41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rcicio profesional (medio de susten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0280" y="5013360"/>
            <a:ext cx="48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actividad económica (que proporciona lucr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0560" y="5516640"/>
            <a:ext cx="77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sistente en la producción, intermediación, prestación de bienes o serv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5661000"/>
            <a:ext cx="276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9440" y="2022480"/>
            <a:ext cx="443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rganización de los factores de la 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7680" y="2637000"/>
            <a:ext cx="43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rmonía y proporcionalidad entre fac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2640" y="3357720"/>
            <a:ext cx="47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svinculación del patrimonio del empresario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91720" y="3613320"/>
            <a:ext cx="601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       desvinculación responsabilidad            elemento jurídico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27640" y="3718080"/>
            <a:ext cx="431640" cy="142560"/>
          </a:xfrm>
          <a:prstGeom prst="rightArrow">
            <a:avLst>
              <a:gd name="adj1" fmla="val 50000"/>
              <a:gd name="adj2" fmla="val 756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85840" y="3789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85840" y="38624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85840" y="371808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1360" y="1557360"/>
            <a:ext cx="11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206064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ividad organizadora del Empres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23080" y="152388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le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2640" y="2492280"/>
            <a:ext cx="60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organizan elementos materiales, inmateriales y hum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1880" y="2886120"/>
            <a:ext cx="28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una actuación diná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6880" y="3246480"/>
            <a:ext cx="48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cia una actividad económica determinada 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2920" y="3678120"/>
            <a:ext cx="420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e intenta obtener la máxima gana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98960" y="4437000"/>
            <a:ext cx="14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6280" y="4869000"/>
            <a:ext cx="725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sas corporales (dinero, inventario, bienes de producción, mercaderí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1960" y="5268960"/>
            <a:ext cx="629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sas incorporales (propiedad industrial, créditos, inversio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0200" y="5661000"/>
            <a:ext cx="244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udas y oblig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206064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laciones incorpó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646560" y="2603520"/>
            <a:ext cx="113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liente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200" y="2997360"/>
            <a:ext cx="24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pectativas (Chanc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8200" y="1628640"/>
            <a:ext cx="1676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46320" y="164304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64080" y="1652760"/>
            <a:ext cx="2279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Financi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55720" y="4317840"/>
            <a:ext cx="13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Ga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19640" y="3500280"/>
            <a:ext cx="1511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gr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37160" y="3236760"/>
            <a:ext cx="100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R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37160" y="3813120"/>
            <a:ext cx="202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55720" y="266076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ver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5720" y="3525840"/>
            <a:ext cx="13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00800" y="2660760"/>
            <a:ext cx="10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2320" y="609480"/>
            <a:ext cx="215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El 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flipH="1">
            <a:off x="2655720" y="1844640"/>
            <a:ext cx="2563920" cy="2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59280" y="4653000"/>
            <a:ext cx="2447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reación d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00080" y="5541840"/>
            <a:ext cx="3427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resentación Dinámic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20800" y="208584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20800" y="30211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20800" y="38862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6084720" y="242100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79560" y="437976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(Pérdid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00720" y="5516640"/>
            <a:ext cx="34272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Estátic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27280" y="2852640"/>
            <a:ext cx="792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268360" y="3715920"/>
            <a:ext cx="115128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211640" y="386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80000" y="486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9640" y="1628640"/>
            <a:ext cx="20876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48000" y="1628640"/>
            <a:ext cx="2016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restam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300720" y="1700280"/>
            <a:ext cx="201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Financ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44800" y="609480"/>
            <a:ext cx="47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Estructura del 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547640" y="2133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43280" y="184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87640" y="1700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51640" y="184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51640" y="198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08720" y="2131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18560" y="2708280"/>
            <a:ext cx="147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piet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5640" y="3141720"/>
            <a:ext cx="132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cion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52400" y="3573360"/>
            <a:ext cx="91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40160" y="4005360"/>
            <a:ext cx="129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iesgo 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ego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28280" y="4581360"/>
            <a:ext cx="16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nta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6760" y="5013360"/>
            <a:ext cx="153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ting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exigi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41960" y="2674800"/>
            <a:ext cx="189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utuantes, etc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63920" y="3141720"/>
            <a:ext cx="13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57440" y="3573360"/>
            <a:ext cx="209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igibles, efe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52760" y="443700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financi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Proveedo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56360" y="5084640"/>
            <a:ext cx="231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istas (cuen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soci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509160" y="2762280"/>
            <a:ext cx="1605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porcion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 la Empres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an 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65720" y="4005360"/>
            <a:ext cx="13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356000" y="2131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ctavio Bofill G.</cp:lastModifiedBy>
  <dcterms:modified xsi:type="dcterms:W3CDTF">2004-09-06T13:33:57Z</dcterms:modified>
  <cp:revision>68</cp:revision>
  <dc:subject/>
  <dc:title>Sin título de diapositiva</dc:title>
</cp:coreProperties>
</file>