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750-1963-4089-93BE-3CAA9C0E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9D9-F9ED-4298-9E84-DB899B3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6E7-7B53-4E83-A76E-B794D9CA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4BD-9F65-45D1-BB19-0FB7CCC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AE6-1BAE-47D9-B55D-2C9A8344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17C-B0BD-42E0-BD2D-99F5E1F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C51-544C-4C9F-841A-31B44D6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CFE-0BFF-42C7-A356-E19B2FED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C2E-0011-49AE-995B-9EEA44A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202-9A78-479F-8A1A-C6EBFD7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926-87E2-4C94-81D6-4E39135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996-BBC5-4F7F-9326-42C150E2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0552-9B58-4394-A50E-59710D7A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95240"/>
            <a:ext cx="8894880" cy="82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IAGRAM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E U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EXPORTAC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0600" y="6281640"/>
            <a:ext cx="28436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JOSÉ LUIS LÓPEZ BL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ANTIAG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760" y="6284880"/>
            <a:ext cx="340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scripción I.S.B.N. 956.291-172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xto de est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149640" y="4800600"/>
          <a:ext cx="1727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4800600"/>
                    <a:ext cx="1727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49640" y="4743360"/>
            <a:ext cx="2031840" cy="102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223440" descr=""/>
          <p:cNvPicPr/>
          <p:nvPr/>
        </p:nvPicPr>
        <p:blipFill>
          <a:blip r:embed="rId3"/>
          <a:stretch/>
        </p:blipFill>
        <p:spPr>
          <a:xfrm>
            <a:off x="3860640" y="3943440"/>
            <a:ext cx="91440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243240" y="2914560"/>
          <a:ext cx="765360" cy="69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3240" y="2914560"/>
                    <a:ext cx="7653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22360" y="5086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433880" y="2162880"/>
            <a:ext cx="57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2360" y="371484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422360" y="37148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040400">
            <a:off x="2719080" y="3200040"/>
            <a:ext cx="531720" cy="222120"/>
          </a:xfrm>
          <a:custGeom>
            <a:avLst/>
            <a:gdLst>
              <a:gd name="textAreaLeft" fmla="*/ 92880 w 531720"/>
              <a:gd name="textAreaRight" fmla="*/ 385560 w 531720"/>
              <a:gd name="textAreaTop" fmla="*/ 29520 h 222120"/>
              <a:gd name="textAreaBottom" fmla="*/ 1926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321000">
            <a:off x="3352320" y="3028680"/>
            <a:ext cx="615960" cy="174600"/>
          </a:xfrm>
          <a:custGeom>
            <a:avLst/>
            <a:gdLst>
              <a:gd name="textAreaLeft" fmla="*/ 107640 w 615960"/>
              <a:gd name="textAreaRight" fmla="*/ 446760 w 615960"/>
              <a:gd name="textAreaTop" fmla="*/ 23400 h 174600"/>
              <a:gd name="textAreaBottom" fmla="*/ 151200 h 17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1160" y="354348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57600" y="2571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775240" y="187344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23470" descr=""/>
          <p:cNvPicPr/>
          <p:nvPr/>
        </p:nvPicPr>
        <p:blipFill>
          <a:blip r:embed="rId6"/>
          <a:stretch/>
        </p:blipFill>
        <p:spPr>
          <a:xfrm>
            <a:off x="2844720" y="331920"/>
            <a:ext cx="1625760" cy="92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91120" y="1144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71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44002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77400">
            <a:off x="3144960" y="4800600"/>
            <a:ext cx="614160" cy="169920"/>
          </a:xfrm>
          <a:custGeom>
            <a:avLst/>
            <a:gdLst>
              <a:gd name="textAreaLeft" fmla="*/ 107280 w 614160"/>
              <a:gd name="textAreaRight" fmla="*/ 445320 w 614160"/>
              <a:gd name="textAreaTop" fmla="*/ 22680 h 169920"/>
              <a:gd name="textAreaBottom" fmla="*/ 147240 h 169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1541200">
            <a:off x="3147840" y="5315040"/>
            <a:ext cx="611280" cy="228600"/>
          </a:xfrm>
          <a:custGeom>
            <a:avLst/>
            <a:gdLst>
              <a:gd name="textAreaLeft" fmla="*/ 106920 w 611280"/>
              <a:gd name="textAreaRight" fmla="*/ 443160 w 611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2880" y="5543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64480" y="588636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46240" y="4251240"/>
            <a:ext cx="11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600" y="66294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73960" y="668664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657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5657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6114960"/>
            <a:ext cx="101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80060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18160" y="4708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840" y="48006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908400" y="4915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1600" y="482292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673160" y="491508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0480" y="5086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50864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32440" y="499428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507996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15200" y="3543120"/>
            <a:ext cx="0" cy="74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6510600" y="290448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23160" y="3600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684840" y="270936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534520" y="360000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7426440" y="273276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534520" y="17143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31520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82316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8480" y="59364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57600" y="12574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9880" y="142884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735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78440" y="15426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8440" y="15429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54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741120" y="19656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6368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4040" y="28000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8440" y="137160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5040" y="13716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962520" y="131436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3143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73520" y="1085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3520" y="108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4400" y="74304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02320" y="108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1520" y="2400480"/>
          <a:ext cx="1320840" cy="108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520" y="2400480"/>
                    <a:ext cx="1320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284436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2600" y="280044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520" y="29718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434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405720" y="42663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8578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800280"/>
            <a:ext cx="1523880" cy="108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8120" y="2800440"/>
            <a:ext cx="2031840" cy="102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048120" y="14860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4360" y="148608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43280" y="1371600"/>
            <a:ext cx="120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25760" y="1486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800" y="5429160"/>
          <a:ext cx="993960" cy="1236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00" y="5429160"/>
                    <a:ext cx="9939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01120" y="5429160"/>
          <a:ext cx="993600" cy="123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701120" y="5429160"/>
                    <a:ext cx="9936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45320" y="4229280"/>
          <a:ext cx="1079640" cy="85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45320" y="422928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543800" y="743040"/>
          <a:ext cx="1079640" cy="850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43800" y="74304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0472400">
            <a:off x="3961800" y="4686120"/>
            <a:ext cx="610920" cy="228600"/>
          </a:xfrm>
          <a:custGeom>
            <a:avLst/>
            <a:gdLst>
              <a:gd name="textAreaLeft" fmla="*/ 106920 w 610920"/>
              <a:gd name="textAreaRight" fmla="*/ 443160 w 6109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7591400">
            <a:off x="4680000" y="5257080"/>
            <a:ext cx="459000" cy="344520"/>
          </a:xfrm>
          <a:custGeom>
            <a:avLst/>
            <a:gdLst>
              <a:gd name="textAreaLeft" fmla="*/ 80280 w 459000"/>
              <a:gd name="textAreaRight" fmla="*/ 333000 w 45900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r00074_" descr=""/>
          <p:cNvPicPr/>
          <p:nvPr/>
        </p:nvPicPr>
        <p:blipFill>
          <a:blip r:embed="rId18"/>
          <a:stretch/>
        </p:blipFill>
        <p:spPr>
          <a:xfrm>
            <a:off x="3048120" y="6172200"/>
            <a:ext cx="1523880" cy="40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30320" y="651528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515280"/>
            <a:ext cx="254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90960" y="65419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LB</cp:lastModifiedBy>
  <cp:lastPrinted>2000-11-15T14:09:20Z</cp:lastPrinted>
  <dcterms:modified xsi:type="dcterms:W3CDTF">2004-08-06T17:14:47Z</dcterms:modified>
  <cp:revision>6</cp:revision>
  <dc:subject/>
  <dc:title>Presentación de PowerPoint</dc:title>
</cp:coreProperties>
</file>