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22C1-B1ED-4AB2-9B9F-9DB313DC0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5567-2329-4212-ACE5-FDE89A6D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88AA-FAD2-4510-988D-BBDD54C76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C04F-40B3-4EF8-A918-4C63B3ABD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792E-1E3B-4D71-B341-84CD9252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B09C-9887-413F-A070-E1CF2C14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AE16-2F2E-456B-8CE0-F707FD06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160F-3D45-4F1A-9656-3F0C380D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F925-2BB5-4859-B24E-932F58CB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5925-D3E6-4F74-AA5F-78E37AB2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F21F-FE51-4808-8458-CDB6722E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24E1-D165-4E43-A2AC-C99EF2CE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BC01-3C31-40F4-84D8-1E802C283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png"/><Relationship Id="rId9" Type="http://schemas.openxmlformats.org/officeDocument/2006/relationships/image" Target="../media/image6.jpe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7.png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8.png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8.png"/><Relationship Id="rId18" Type="http://schemas.openxmlformats.org/officeDocument/2006/relationships/image" Target="../media/image9.wmf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95240"/>
            <a:ext cx="8894880" cy="82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r>
              <a:rPr b="1" lang="es-CL" sz="6000" spc="-1" strike="noStrike">
                <a:solidFill>
                  <a:srgbClr val="3333cc"/>
                </a:solidFill>
                <a:latin typeface="Arial"/>
                <a:ea typeface="Arial"/>
              </a:rPr>
              <a:t>DIAGRAMA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r>
              <a:rPr b="1" lang="es-CL" sz="6000" spc="-1" strike="noStrike">
                <a:solidFill>
                  <a:srgbClr val="3333cc"/>
                </a:solidFill>
                <a:latin typeface="Arial"/>
                <a:ea typeface="Arial"/>
              </a:rPr>
              <a:t>DE UN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r>
              <a:rPr b="1" lang="es-CL" sz="6000" spc="-1" strike="noStrike">
                <a:solidFill>
                  <a:srgbClr val="3333cc"/>
                </a:solidFill>
                <a:latin typeface="Arial"/>
                <a:ea typeface="Arial"/>
              </a:rPr>
              <a:t>EXPORTAC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150600" y="6281640"/>
            <a:ext cx="2843640" cy="7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JOSÉ LUIS LÓPEZ BLAN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SANTIAGO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1760" y="6284880"/>
            <a:ext cx="340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Inscripción I.S.B.N. 956.291-172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Texto de estu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149640" y="4800600"/>
          <a:ext cx="172728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9640" y="4800600"/>
                    <a:ext cx="172728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49640" y="4743360"/>
            <a:ext cx="2031840" cy="102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j0223440" descr=""/>
          <p:cNvPicPr/>
          <p:nvPr/>
        </p:nvPicPr>
        <p:blipFill>
          <a:blip r:embed="rId3"/>
          <a:stretch/>
        </p:blipFill>
        <p:spPr>
          <a:xfrm>
            <a:off x="3860640" y="3943440"/>
            <a:ext cx="914400" cy="62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3243240" y="2914560"/>
          <a:ext cx="765360" cy="69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43240" y="2914560"/>
                    <a:ext cx="76536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30492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422360" y="50864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-1433880" y="2162880"/>
            <a:ext cx="571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Documentos de embar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22360" y="3714840"/>
            <a:ext cx="1930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422360" y="371484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0040400">
            <a:off x="2719080" y="3200040"/>
            <a:ext cx="531720" cy="222120"/>
          </a:xfrm>
          <a:custGeom>
            <a:avLst/>
            <a:gdLst>
              <a:gd name="textAreaLeft" fmla="*/ 92880 w 531720"/>
              <a:gd name="textAreaRight" fmla="*/ 385560 w 531720"/>
              <a:gd name="textAreaTop" fmla="*/ 29520 h 222120"/>
              <a:gd name="textAreaBottom" fmla="*/ 19260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1321000">
            <a:off x="3352320" y="3028680"/>
            <a:ext cx="615960" cy="174600"/>
          </a:xfrm>
          <a:custGeom>
            <a:avLst/>
            <a:gdLst>
              <a:gd name="textAreaLeft" fmla="*/ 107640 w 615960"/>
              <a:gd name="textAreaRight" fmla="*/ 446760 w 615960"/>
              <a:gd name="textAreaTop" fmla="*/ 23400 h 174600"/>
              <a:gd name="textAreaBottom" fmla="*/ 151200 h 174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51160" y="3543480"/>
            <a:ext cx="13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Export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657600" y="257184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2775240" y="1873440"/>
            <a:ext cx="163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Registro de expor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j0223470" descr=""/>
          <p:cNvPicPr/>
          <p:nvPr/>
        </p:nvPicPr>
        <p:blipFill>
          <a:blip r:embed="rId6"/>
          <a:stretch/>
        </p:blipFill>
        <p:spPr>
          <a:xfrm>
            <a:off x="2844720" y="331920"/>
            <a:ext cx="1625760" cy="925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291120" y="114480"/>
            <a:ext cx="83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ADU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37148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267080" y="440028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77400">
            <a:off x="3144960" y="4800600"/>
            <a:ext cx="614160" cy="169920"/>
          </a:xfrm>
          <a:custGeom>
            <a:avLst/>
            <a:gdLst>
              <a:gd name="textAreaLeft" fmla="*/ 107280 w 614160"/>
              <a:gd name="textAreaRight" fmla="*/ 445320 w 614160"/>
              <a:gd name="textAreaTop" fmla="*/ 22680 h 169920"/>
              <a:gd name="textAreaBottom" fmla="*/ 147240 h 169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21541200">
            <a:off x="3147840" y="5315040"/>
            <a:ext cx="611280" cy="228600"/>
          </a:xfrm>
          <a:custGeom>
            <a:avLst/>
            <a:gdLst>
              <a:gd name="textAreaLeft" fmla="*/ 106920 w 611280"/>
              <a:gd name="textAreaRight" fmla="*/ 443160 w 61128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02880" y="5543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Import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64480" y="5886360"/>
            <a:ext cx="122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Descarga y reti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De pue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46240" y="4251240"/>
            <a:ext cx="11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ontr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9600" y="662940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uerto embar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73960" y="6686640"/>
            <a:ext cx="10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uerto dest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6400" y="56577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56577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6114960"/>
            <a:ext cx="1016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76920" y="4800600"/>
            <a:ext cx="50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18160" y="4708440"/>
            <a:ext cx="89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Solicita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03840" y="4800600"/>
            <a:ext cx="40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908400" y="4915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41600" y="4822920"/>
            <a:ext cx="154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ntrega docum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673160" y="4915080"/>
            <a:ext cx="40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70480" y="5086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05720" y="5086440"/>
            <a:ext cx="507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32440" y="4994280"/>
            <a:ext cx="151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aga docum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15200" y="507996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Banco comercial extranj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315200" y="3543120"/>
            <a:ext cx="0" cy="74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6510600" y="290448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onfirma y avisa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23160" y="36003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6200000">
            <a:off x="6684840" y="2709360"/>
            <a:ext cx="214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Remite doumentos de embar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8534520" y="3600000"/>
            <a:ext cx="0" cy="62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7426440" y="2732760"/>
            <a:ext cx="20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aga documentos de embae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8534520" y="171432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315200" y="1600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782316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98480" y="593640"/>
            <a:ext cx="16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Banco comercial chile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657600" y="125748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266720" y="2971800"/>
            <a:ext cx="40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9880" y="1428840"/>
            <a:ext cx="92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Notifica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7352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978440" y="1542600"/>
            <a:ext cx="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78440" y="1542960"/>
            <a:ext cx="20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15429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3741120" y="1965600"/>
            <a:ext cx="193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Solicita credito preembar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06368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4040" y="280008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78440" y="1371600"/>
            <a:ext cx="1930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75040" y="1371600"/>
            <a:ext cx="20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962520" y="1314360"/>
            <a:ext cx="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1314360"/>
            <a:ext cx="71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673520" y="1085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73520" y="10857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44400" y="743040"/>
            <a:ext cx="1508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resenta document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mbarque. Cobra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y paga credito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reembar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02320" y="1085760"/>
            <a:ext cx="40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1520" y="2400480"/>
          <a:ext cx="1320840" cy="1085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1520" y="2400480"/>
                    <a:ext cx="132084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 flipH="1">
            <a:off x="2844360" y="2971800"/>
            <a:ext cx="40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2600" y="280044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ago fae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Frio embal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523520" y="2971800"/>
            <a:ext cx="20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54348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-405720" y="4266360"/>
            <a:ext cx="137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Transporte a pue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485784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h02827j" descr=""/>
          <p:cNvPicPr/>
          <p:nvPr/>
        </p:nvPicPr>
        <p:blipFill>
          <a:blip r:embed="rId9">
            <a:lum contrast="18000"/>
          </a:blip>
          <a:stretch/>
        </p:blipFill>
        <p:spPr>
          <a:xfrm>
            <a:off x="0" y="800280"/>
            <a:ext cx="1523880" cy="1085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048120" y="2800440"/>
            <a:ext cx="2031840" cy="1028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048120" y="1486080"/>
            <a:ext cx="0" cy="12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844360" y="1486080"/>
            <a:ext cx="20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43280" y="1371600"/>
            <a:ext cx="1206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ago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roduct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625760" y="1486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50800" y="5429160"/>
          <a:ext cx="993960" cy="1236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50800" y="5429160"/>
                    <a:ext cx="99396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7701120" y="5429160"/>
          <a:ext cx="993600" cy="12366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701120" y="5429160"/>
                    <a:ext cx="99360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7645320" y="4229280"/>
          <a:ext cx="1079640" cy="8506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645320" y="4229280"/>
                    <a:ext cx="107964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7543800" y="743040"/>
          <a:ext cx="1079640" cy="8506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543800" y="743040"/>
                    <a:ext cx="107964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 rot="10472400">
            <a:off x="3961800" y="4686120"/>
            <a:ext cx="610920" cy="228600"/>
          </a:xfrm>
          <a:custGeom>
            <a:avLst/>
            <a:gdLst>
              <a:gd name="textAreaLeft" fmla="*/ 106920 w 610920"/>
              <a:gd name="textAreaRight" fmla="*/ 443160 w 6109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7591400">
            <a:off x="4680000" y="5257080"/>
            <a:ext cx="459000" cy="344520"/>
          </a:xfrm>
          <a:custGeom>
            <a:avLst/>
            <a:gdLst>
              <a:gd name="textAreaLeft" fmla="*/ 80280 w 459000"/>
              <a:gd name="textAreaRight" fmla="*/ 333000 w 459000"/>
              <a:gd name="textAreaTop" fmla="*/ 46080 h 344520"/>
              <a:gd name="textAreaBottom" fmla="*/ 298440 h 34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tr00074_" descr=""/>
          <p:cNvPicPr/>
          <p:nvPr/>
        </p:nvPicPr>
        <p:blipFill>
          <a:blip r:embed="rId18"/>
          <a:stretch/>
        </p:blipFill>
        <p:spPr>
          <a:xfrm>
            <a:off x="3048120" y="6172200"/>
            <a:ext cx="1523880" cy="403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930320" y="6515280"/>
            <a:ext cx="101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6515280"/>
            <a:ext cx="2540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90960" y="654192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Transporte maríti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2T16:17:55Z</dcterms:created>
  <dc:creator>López Reitze</dc:creator>
  <dc:description/>
  <dc:language>en-US</dc:language>
  <cp:lastModifiedBy>JLLLB</cp:lastModifiedBy>
  <cp:lastPrinted>2000-11-15T14:09:20Z</cp:lastPrinted>
  <dcterms:modified xsi:type="dcterms:W3CDTF">2004-08-06T17:14:47Z</dcterms:modified>
  <cp:revision>6</cp:revision>
  <dc:subject/>
  <dc:title>Presentación de PowerPoint</dc:title>
</cp:coreProperties>
</file>