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862-E7C1-47EC-8D98-EF54D0BC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479-C073-48FF-B487-4E771730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ED9-FE43-4850-AFA3-0699DAD4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B7A-AED9-468E-B216-77DDBD02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D39-7BA0-4DE2-8D1B-EBED404A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F9D-CDF1-4DDA-A73C-C73B5CB1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3C2-CDDE-45A1-9905-D3423F41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419-D60C-4AE4-A314-73BD25B7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863-42DB-40AD-B3B5-30206D72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945-E649-4114-90F8-CD2DCE4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4B6-61CC-47DE-9A1F-A4230979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A3C-6AED-42A0-9632-741E77B2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9D5E-B2B7-4EBF-8C01-FE1FABE08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8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95240"/>
            <a:ext cx="8894880" cy="82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6000" spc="-1" strike="noStrike">
                <a:solidFill>
                  <a:srgbClr val="3333cc"/>
                </a:solidFill>
                <a:latin typeface="Arial"/>
                <a:ea typeface="Arial"/>
              </a:rPr>
              <a:t>DIAGRAM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6000" spc="-1" strike="noStrike">
                <a:solidFill>
                  <a:srgbClr val="3333cc"/>
                </a:solidFill>
                <a:latin typeface="Arial"/>
                <a:ea typeface="Arial"/>
              </a:rPr>
              <a:t>DE U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6000" spc="-1" strike="noStrike">
                <a:solidFill>
                  <a:srgbClr val="3333cc"/>
                </a:solidFill>
                <a:latin typeface="Arial"/>
                <a:ea typeface="Arial"/>
              </a:rPr>
              <a:t>EXPORTAC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50600" y="6281640"/>
            <a:ext cx="284364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JOSÉ LUIS LÓPEZ BLAN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ANTIAGO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1760" y="6284880"/>
            <a:ext cx="340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scripción I.S.B.N. 956.291-172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xto de est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149640" y="4800600"/>
          <a:ext cx="1727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9640" y="4800600"/>
                    <a:ext cx="1727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49640" y="4743360"/>
            <a:ext cx="2031840" cy="102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0223440" descr=""/>
          <p:cNvPicPr/>
          <p:nvPr/>
        </p:nvPicPr>
        <p:blipFill>
          <a:blip r:embed="rId3"/>
          <a:stretch/>
        </p:blipFill>
        <p:spPr>
          <a:xfrm>
            <a:off x="3860640" y="3943440"/>
            <a:ext cx="91440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243240" y="2914560"/>
          <a:ext cx="765360" cy="69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3240" y="2914560"/>
                    <a:ext cx="7653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0492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422360" y="5086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1433880" y="2162880"/>
            <a:ext cx="571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Documentos de embar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22360" y="3714840"/>
            <a:ext cx="193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422360" y="37148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040400">
            <a:off x="2719080" y="3200040"/>
            <a:ext cx="531720" cy="222120"/>
          </a:xfrm>
          <a:custGeom>
            <a:avLst/>
            <a:gdLst>
              <a:gd name="textAreaLeft" fmla="*/ 92880 w 531720"/>
              <a:gd name="textAreaRight" fmla="*/ 385560 w 531720"/>
              <a:gd name="textAreaTop" fmla="*/ 29520 h 222120"/>
              <a:gd name="textAreaBottom" fmla="*/ 1926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1321000">
            <a:off x="3352320" y="3028680"/>
            <a:ext cx="615960" cy="174600"/>
          </a:xfrm>
          <a:custGeom>
            <a:avLst/>
            <a:gdLst>
              <a:gd name="textAreaLeft" fmla="*/ 107640 w 615960"/>
              <a:gd name="textAreaRight" fmla="*/ 446760 w 615960"/>
              <a:gd name="textAreaTop" fmla="*/ 23400 h 174600"/>
              <a:gd name="textAreaBottom" fmla="*/ 151200 h 17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51160" y="354348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Ex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657600" y="25718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2775240" y="187344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gistro de expor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223470" descr=""/>
          <p:cNvPicPr/>
          <p:nvPr/>
        </p:nvPicPr>
        <p:blipFill>
          <a:blip r:embed="rId6"/>
          <a:stretch/>
        </p:blipFill>
        <p:spPr>
          <a:xfrm>
            <a:off x="2844720" y="331920"/>
            <a:ext cx="1625760" cy="925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91120" y="1144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D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3714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267080" y="440028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77400">
            <a:off x="3144960" y="4800600"/>
            <a:ext cx="614160" cy="169920"/>
          </a:xfrm>
          <a:custGeom>
            <a:avLst/>
            <a:gdLst>
              <a:gd name="textAreaLeft" fmla="*/ 107280 w 614160"/>
              <a:gd name="textAreaRight" fmla="*/ 445320 w 614160"/>
              <a:gd name="textAreaTop" fmla="*/ 22680 h 169920"/>
              <a:gd name="textAreaBottom" fmla="*/ 147240 h 169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1541200">
            <a:off x="3147840" y="5315040"/>
            <a:ext cx="611280" cy="228600"/>
          </a:xfrm>
          <a:custGeom>
            <a:avLst/>
            <a:gdLst>
              <a:gd name="textAreaLeft" fmla="*/ 106920 w 611280"/>
              <a:gd name="textAreaRight" fmla="*/ 443160 w 6112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02880" y="5543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m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64480" y="5886360"/>
            <a:ext cx="122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scarga y ret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46240" y="4251240"/>
            <a:ext cx="11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tr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9600" y="66294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73960" y="668664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6577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5657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6114960"/>
            <a:ext cx="101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480060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18160" y="470844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840" y="48006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908400" y="4915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1600" y="482292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tre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673160" y="491508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70480" y="5086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50864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32440" y="499428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507996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extranj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315200" y="3543120"/>
            <a:ext cx="0" cy="74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6510600" y="290448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firma y avis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23160" y="3600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6684840" y="270936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mite doumentos de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534520" y="3600000"/>
            <a:ext cx="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7426440" y="273276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 de embae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534520" y="171432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31520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82316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98480" y="59364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chil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657600" y="12574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66720" y="29718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9880" y="142884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Notific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7352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78440" y="154260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78440" y="15429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1542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741120" y="19656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redito 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06368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4040" y="28000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78440" y="1371600"/>
            <a:ext cx="193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75040" y="13716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962520" y="131436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13143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673520" y="1085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73520" y="1085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44400" y="743040"/>
            <a:ext cx="150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senta documen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mbarque. Cobr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y paga credi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02320" y="108576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1520" y="2400480"/>
          <a:ext cx="1320840" cy="108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1520" y="2400480"/>
                    <a:ext cx="1320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flipH="1">
            <a:off x="2844360" y="29718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2600" y="280044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fae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Frio emba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23520" y="29718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4348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405720" y="426636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a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8578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h02827j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0" y="800280"/>
            <a:ext cx="1523880" cy="1085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8120" y="2800440"/>
            <a:ext cx="2031840" cy="102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048120" y="148608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44360" y="148608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43280" y="1371600"/>
            <a:ext cx="120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625760" y="1486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50800" y="5429160"/>
          <a:ext cx="993960" cy="1236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00" y="5429160"/>
                    <a:ext cx="99396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701120" y="5429160"/>
          <a:ext cx="993600" cy="1236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701120" y="5429160"/>
                    <a:ext cx="99360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45320" y="4229280"/>
          <a:ext cx="1079640" cy="850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645320" y="4229280"/>
                    <a:ext cx="10796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543800" y="743040"/>
          <a:ext cx="1079640" cy="850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543800" y="743040"/>
                    <a:ext cx="10796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0472400">
            <a:off x="3961800" y="4686120"/>
            <a:ext cx="610920" cy="228600"/>
          </a:xfrm>
          <a:custGeom>
            <a:avLst/>
            <a:gdLst>
              <a:gd name="textAreaLeft" fmla="*/ 106920 w 610920"/>
              <a:gd name="textAreaRight" fmla="*/ 443160 w 6109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7591400">
            <a:off x="4680000" y="5257080"/>
            <a:ext cx="459000" cy="344520"/>
          </a:xfrm>
          <a:custGeom>
            <a:avLst/>
            <a:gdLst>
              <a:gd name="textAreaLeft" fmla="*/ 80280 w 459000"/>
              <a:gd name="textAreaRight" fmla="*/ 333000 w 459000"/>
              <a:gd name="textAreaTop" fmla="*/ 46080 h 344520"/>
              <a:gd name="textAreaBottom" fmla="*/ 29844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r00074_" descr=""/>
          <p:cNvPicPr/>
          <p:nvPr/>
        </p:nvPicPr>
        <p:blipFill>
          <a:blip r:embed="rId18"/>
          <a:stretch/>
        </p:blipFill>
        <p:spPr>
          <a:xfrm>
            <a:off x="3048120" y="6172200"/>
            <a:ext cx="1523880" cy="403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30320" y="651528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6515280"/>
            <a:ext cx="254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90960" y="654192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marít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6:17:55Z</dcterms:created>
  <dc:creator>López Reitze</dc:creator>
  <dc:description/>
  <dc:language>en-US</dc:language>
  <cp:lastModifiedBy>JLLLB</cp:lastModifiedBy>
  <cp:lastPrinted>2000-11-15T14:09:20Z</cp:lastPrinted>
  <dcterms:modified xsi:type="dcterms:W3CDTF">2004-08-06T17:14:47Z</dcterms:modified>
  <cp:revision>6</cp:revision>
  <dc:subject/>
  <dc:title>Presentación de PowerPoint</dc:title>
</cp:coreProperties>
</file>