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7E3-29E8-457E-B5CE-86A3D54B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0A7-AB97-42C5-BCDB-D3B2AFFB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CDE-8C48-4F3B-99EC-D9C8D398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49D-8BDD-42CA-8E6E-C2E71663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0C6-FC2B-4D77-9D76-4A30056A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19E-4C7C-4BCF-8056-92370B04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18B-8875-43A6-8CE7-DD9ED774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34C-ADF0-42D0-808E-184A4ABA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614-D3F5-4E1A-A035-2D2300C3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14F-1116-4304-99D7-990C5F58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006-E966-4B71-BDFA-62F3CE68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7C6-69EB-4554-B7FB-2B620D31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9B19-EDA7-4EFE-9FC7-5C0C545CA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7160" y="200160"/>
            <a:ext cx="45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recho Comercia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ofesor Sr. José Luis López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24000" y="5157720"/>
            <a:ext cx="83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LACIONES ENTRE DERECHO Y ECONO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LAS NORMAS JURI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125360"/>
            <a:ext cx="75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A) En derecho público cabe destacar, en lo pertinente a esta materia, las siguientes norm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844640"/>
            <a:ext cx="691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principio de la igualdad ante la ley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a la libertad personal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a la libertad de enseñanza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libertad de emitir opiniones sin censura previa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a asociarse sin permiso previo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libertad de trabajo y su protección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igual repartición de los tributes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a desarrollar cualquiera actividad económica respetando las normas legales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no discriminación arbitraria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de propiedad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 Art. 19 CP N°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86900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Todas estas garantías constitucionales reconocen la libertad individual, el derecho a realizar cualquier actividad comercial dentro del sistema legal, a obtener beneficios para el empresario, y recibir un trato justo e igualitario por parte del Est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stas garantías tienen protección jurisdiccional.  La Ley Orgánica del Banco Central de Chile que es una ley orgánica constitucional permite importar y exportar librement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consecuencia, cualquier persona natural o jurídica, puede realizar libremente operaciones de comercio internacional, las que reciben también el resguardo y protección de las garantías recién cit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Además, los tratados suscritos por Chile se orientan en el mismo senti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B) En derecho privado deben destacarse los siguientes concep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LAS NORMAS JURI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4032360"/>
            <a:ext cx="691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s personas naturales o jurídicas tienen derecho a pactar libremente sus contratos dentro del principio de autonomía de la volunt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uego, todo contrato legalmente celebrado es una ley para los contrata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os contratos onerosos tienen por objeto la utilidad de ambos contrata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los contratos que además de ser onerosos sean conmutativos, cada una de las partes se obliga a dar o hacer una cosa que se mira como equivalente o que la otra parte debe dar o hacer a su v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LGUNOS PRINCIPIOS ECONO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el Tratado de Economía del Premio Nobel Paul Samuelson figura la siguiente cita del economista Francis Hacket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1916280"/>
            <a:ext cx="669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Creo en todos los resultados de un saludable materialismo:  la buena cocina, casas secas, alcantarillado, cañerías, agua caliente, baños, luz eléctrica, automóviles, buenas carreteras, ideas nuevas.  Creo en todo eso para t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213000"/>
            <a:ext cx="7632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libertad económica permite que las personas se organicen y se asocien y resuelvan libremente tratar de producir y vender algunos de estos bie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Una economía que utilice satisfactoriamente todas su capacidades productivas permite obtener con eficiencia elevados rendimientos productiv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stos productos se venden en el país y en el extranj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economía en plena producción se denomina también economía de pleno emple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587700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os que están en condiciones de trabajar, encuentran empl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nivel de cesantía es ba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las economías de pleno empleo funciona adecuadamente la igualdad económi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Comic Sans MS"/>
              </a:rPr>
              <a:t>P = G =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las economías de pleno empleo se produce también la iguald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Costo marginal = Ingreso mar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lo quiere decir, que los costos sociales en una economía de pleno empleo y plena producción tienden a igualarse con los beneficios soc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LGUNOS PRINCIPIOS ECONO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xportaciones</a:t>
            </a: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:  Son ventas de mercaderías al extranjero y que producen un ingreso en divisas.  El efecto neto de las exportaciones es aumentar la capacidad de pago total en un pa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Importaciones:</a:t>
            </a: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   Son compras de mercaderías en el extranjero que se pagan con divisas.  El efecto neto de las importaciones es aumentar el bienestar de los ciudadanos de un país:  equipos médicos, remedios, elementos de educación, material de cultura, materiales de construcción, automóviles, refrigeradores, televisores, maquinarias productiva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libertad de comercio permite un aumento del bienestar general de un país.  Las restricciones al comercio limitan dicho bienest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L COMERCIO INTER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DERECHO COMERCIAL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5964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2:47:01Z</dcterms:created>
  <dc:creator>Ureta</dc:creator>
  <dc:description/>
  <dc:language>en-US</dc:language>
  <cp:lastModifiedBy>JLLLB</cp:lastModifiedBy>
  <dcterms:modified xsi:type="dcterms:W3CDTF">2004-08-10T15:30:38Z</dcterms:modified>
  <cp:revision>97</cp:revision>
  <dc:subject/>
  <dc:title>PowerPoint Presentation</dc:title>
</cp:coreProperties>
</file>