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545B-E5A0-44EC-9100-5B04D7B7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8AE5-B7AB-4149-8962-FF89F562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2B70-7F61-441D-8D05-0CD8BBE9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3D08-8748-49D9-A1EE-7AA61736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1A95-C70F-4200-A5E7-87FC4935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19FF-2ADF-4E74-8AC0-4242A41F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DC05-672A-4550-A673-CC3FD155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4F26-F31A-458F-92F0-857C1F18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FADB-02D8-41DE-8496-9BFB9ADD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BB23-CA2E-439D-A71E-337ECA59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4F64-9369-4215-9815-5029BE35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E2E7-3AD8-4ED1-B990-0A468247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D47F-2659-4910-AF72-17F984920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7160" y="200160"/>
            <a:ext cx="453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erecho Comercial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ofesor Sr. José Luis López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24000" y="5157720"/>
            <a:ext cx="83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LACIONES ENTRE DERECHO Y ECONO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LAS NORMAS JURID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125360"/>
            <a:ext cx="755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A) En derecho público cabe destacar, en lo pertinente a esta materia, las siguientes norma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1844640"/>
            <a:ext cx="6912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l principio de la igualdad ante la ley.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(Art. 19 CP N°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l derecho a la libertad personal.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(Art. 19 CP N°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l derecho a la libertad de enseñanza.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(Art. 19 CP N°1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La libertad de emitir opiniones sin censura previa.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(Art. 19 CP N°1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l derecho a asociarse sin permiso previo.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(Art. 19 CP N°1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La libertad de trabajo y su protección.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(Art. 19 CP N°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La igual repartición de los tributes.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(Art. 19 CP N°2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l derecho a desarrollar cualquiera actividad económica respetando las normas legales.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(Art. 19 CP N°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La no discriminación arbitraria.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(Art. 19 CP N°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l derecho de propiedad.  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( Art. 19 CP N°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4869000"/>
            <a:ext cx="763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Todas estas garantías constitucionales reconocen la libertad individual, el derecho a realizar cualquier actividad comercial dentro del sistema legal, a obtener beneficios para el empresario, y recibir un trato justo e igualitario por parte del Esta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97000"/>
            <a:ext cx="7632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stas garantías tienen protección jurisdiccional.  La Ley Orgánica del Banco Central de Chile que es una ley orgánica constitucional permite importar y exportar libremente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n consecuencia, cualquier persona natural o jurídica, puede realizar libremente operaciones de comercio internacional, las que reciben también el resguardo y protección de las garantías recién citad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Además, los tratados suscritos por Chile se orientan en el mismo senti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B) En derecho privado deben destacarse los siguientes concept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LAS NORMAS JURID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4032360"/>
            <a:ext cx="6912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Las personas naturales o jurídicas tienen derecho a pactar libremente sus contratos dentro del principio de autonomía de la volunt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Luego, todo contrato legalmente celebrado es una ley para los contrata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Los contratos onerosos tienen por objeto la utilidad de ambos contrata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n los contratos que además de ser onerosos sean conmutativos, cada una de las partes se obliga a dar o hacer una cosa que se mira como equivalente o que la otra parte debe dar o hacer a su ve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s-ES" sz="1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LGUNOS PRINCIPIOS ECONO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19700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n el Tratado de Economía del Premio Nobel Paul Samuelson figura la siguiente cita del economista Francis Hacket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1916280"/>
            <a:ext cx="669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Creo en todos los resultados de un saludable materialismo:  la buena cocina, casas secas, alcantarillado, cañerías, agua caliente, baños, luz eléctrica, automóviles, buenas carreteras, ideas nuevas.  Creo en todo eso para tod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3213000"/>
            <a:ext cx="7632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La libertad económica permite que las personas se organicen y se asocien y resuelvan libremente tratar de producir y vender algunos de estos bie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Una economía que utilice satisfactoriamente todas su capacidades productivas permite obtener con eficiencia elevados rendimientos productiv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stos productos se venden en el país y en el extranjer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La economía en plena producción se denomina también economía de pleno emple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587700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Los que están en condiciones de trabajar, encuentran emple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l nivel de cesantía es baj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197000"/>
            <a:ext cx="763272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n las economías de pleno empleo funciona adecuadamente la igualdad económic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600" spc="-1" strike="noStrike">
                <a:solidFill>
                  <a:srgbClr val="ffff00"/>
                </a:solidFill>
                <a:latin typeface="Comic Sans MS"/>
              </a:rPr>
              <a:t>P = G =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n las economías de pleno empleo se produce también la igualda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Costo marginal = Ingreso marg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Ello quiere decir, que los costos sociales en una economía de pleno empleo y plena producción tienden a igualarse con los beneficios soci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s-ES" sz="1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LGUNOS PRINCIPIOS ECONO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197000"/>
            <a:ext cx="7632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Exportaciones</a:t>
            </a: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:  Son ventas de mercaderías al extranjero y que producen un ingreso en divisas.  El efecto neto de las exportaciones es aumentar la capacidad de pago total en un paí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Importaciones:</a:t>
            </a: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   Son compras de mercaderías en el extranjero que se pagan con divisas.  El efecto neto de las importaciones es aumentar el bienestar de los ciudadanos de un país:  equipos médicos, remedios, elementos de educación, material de cultura, materiales de construcción, automóviles, refrigeradores, televisores, maquinarias productiva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La libertad de comercio permite un aumento del bienestar general de un país.  Las restricciones al comercio limitan dicho bienest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3.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L COMERCIO INTERN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30492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DERECHO COMERCIAL INTER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75964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22:47:01Z</dcterms:created>
  <dc:creator>Ureta</dc:creator>
  <dc:description/>
  <dc:language>en-US</dc:language>
  <cp:lastModifiedBy>JLLLB</cp:lastModifiedBy>
  <dcterms:modified xsi:type="dcterms:W3CDTF">2004-08-10T15:30:38Z</dcterms:modified>
  <cp:revision>97</cp:revision>
  <dc:subject/>
  <dc:title>PowerPoint Presentation</dc:title>
</cp:coreProperties>
</file>