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A68-05A6-4D77-982B-39654ACE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A5B-19CE-4234-8639-075B4F49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715-EE69-48B0-B78C-ECF5BB72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946-EF26-46D5-842D-CDEB08C1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69F-74D1-408C-9681-2505863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D7F-F38E-47E6-A194-03D12BF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40D-668E-41C5-9B2C-3B14E7EB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183-8EB0-458A-96CF-AEF0B69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855-5531-477D-BAD7-4D60AC0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B8F-E6BC-4E01-BA91-654B3F2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08D-3879-4310-9539-68D64EC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B6D-B3CE-42B9-84F3-A3AA20F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35A2-C576-4F09-806C-47D0B8657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0000"/>
                </a:solidFill>
                <a:latin typeface="Arial"/>
              </a:rPr>
              <a:t>Proyecto de Ley de Bonos de Descontaminación</a:t>
            </a:r>
            <a:br>
              <a:rPr sz="3600"/>
            </a:br>
            <a:r>
              <a:rPr b="0" lang="es-CL" sz="3600" spc="-1" strike="noStrike">
                <a:solidFill>
                  <a:srgbClr val="990000"/>
                </a:solidFill>
                <a:latin typeface="Arial"/>
              </a:rPr>
              <a:t>Algunas Consideraciones sobre el 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Tipos de F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entes nuevas (deben incribirse en regis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entes voluntarias y sumideros (deben obtener certificación). Que tiene línea base y que capturan emi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Del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ent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basta continua u o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D.S. Que establezca el sistema podrá limitar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Regis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Fuentes, sumideros y participantes no emisores ( incluye registro de firmas y poder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cu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 bonos de descontaminación, prohibiciones y cadu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idades certific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Fisc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 del estado competentes (probl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rega información falsa, incompleta o manifiestamente errónea, sanciones en conformidad a esta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a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onest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hibición temporal o permanente de participar en 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ducidad total o parcial de los cupos de emisión o de los bonos de des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ncelación de la incripción en el 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rá descontarse parte del cupo hasta el triple de lo exced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lsificación y uso fraudulento ( Código Penal, uso fraud. Inst. púb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hibiciones ( leña u otr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s de emisión o tecnológicas ( no congelan las emisiones globales de un sec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( muchas veces regresiv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ción urbana (puede ayudar o generar distorciones, pero no parece por sí sola sufici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idios (contradice principio que contamina paga, hace el sistema muy excesiv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os de emisión transables (permite congelar emisiones totales de un sector sean actuales o futuras. Entrega análisis de soluciones a regulados no a regula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omo detener y reducir contaminación en países que requiren tener crecimiento económico sostenido para salir del sub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necesariamente se debe trabajar con un solo instru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 compatibilidad entre uso de instrumentos de regulación directa (norma de emision o norma de decencia), e inatrumentos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debe buscar la mejor ecuación en función de las características del problemas a ser regulado (puede que para algunos sea mejor una norma tecnológica y para otro un sistema de mercado o mezcl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00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de plomo en gasoli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de lluvia á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CLAIM (California, NOx, So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Kyo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rectiva Europ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La l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no de des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po de emisión ( tempor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s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dente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dad certific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i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nte volun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nte no e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horro intertem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El Decreto que defina el sistem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ntro o fuera de un Plan de Prevención o Descontami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ced. Similar a un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tipo de sistema que se aplicar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po total a asig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itaciones y restricciones al uso de c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dalidades de trans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dalidad de monito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dministración del Sistema y t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REMA si es reg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NAMA si es trans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pos de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ertificación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ro y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signaciones de C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empre a título gratu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riterios: emisiones históricas o emisiones de referencia, mezc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ólo pueden emitir en la medida que tienen cu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onos de Descontaminación deben inscribirse en el registro respectivo (certif. previa requiere el certific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38:51Z</dcterms:modified>
  <cp:revision>55</cp:revision>
  <dc:subject/>
  <dc:title>PowerPoint Presentation</dc:title>
</cp:coreProperties>
</file>