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9F1-7764-4760-9739-D19A610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E04-69BE-4673-BB61-7F32AD7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948-FF48-4C23-ACB2-60D816E4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4F6-1902-4440-B154-0613745F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5DD-BB35-452D-9C7B-CE7E0680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561-78C2-4C10-B3B6-3E730E9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7CA-EC38-45FE-AD54-D1458FB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65B-29D0-41C6-88DA-9B7F4EA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3C6-1755-4076-8D8C-133C1AE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B4D-2C5D-4D8D-8063-2CC2C545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F55-0EEE-4AE6-8FD9-E73A630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F19-EDDE-4C6B-9DE0-30ECB44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972-34E9-4FA5-8765-796FAD5D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Proyecto de Ley de Bonos de Descontaminación</a:t>
            </a:r>
            <a:br>
              <a:rPr sz="3600"/>
            </a:b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Algunas Consideraciones sobre el 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Tipos de F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nuevas (deben incribirse en regis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voluntarias y sumideros (deben obtener certificación). Que tiene línea base y que capturan em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Del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ent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basta continua u o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D.S. Que establezca el sistema podrá limit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Regis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Fuentes, sumideros y participantes no emisores ( incluye registro de firmas y poder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bonos de descontaminación, prohibiciones y cadu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idades certific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Fisc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 del estado competentes (probl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rega información falsa, incompleta o manifiestamente errónea, sanciones en conformidad a esta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a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onest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hibición temporal o permanente de participar en 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ducidad total o parcial de los cupos de emisión o de los bonos de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ncelación de la incripción en el 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rá descontarse parte del cupo hasta el triple de lo exced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lsificación y uso fraudulento ( Código Penal, uso fraud. Inst. pú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hibiciones ( leña u otr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s de emisión o tecnológicas ( no congelan las emisiones globales de un sec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( muchas veces regresiv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ción urbana (puede ayudar o generar distorciones, pero no parece por sí sola sufici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idios (contradice principio que contamina paga, hace el sistema muy excesiv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s de emisión transables (permite congelar emisiones totales de un sector sean actuales o futuras. Entrega análisis de soluciones a regulados no a reg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 para salir del sub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necesariamente se debe trabajar con un solo instru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 compatibilidad entre uso de instrumentos de regulación directa (norma de emision o norma de decencia), e inatrumentos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debe buscar la mejor ecuación en función de las características del problemas a ser regulado (puede que para algunos sea mejor una norma tecnológica y para otro un sistema de mercado o mezcl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00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plomo en gaso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lluvia á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CLAIM (California, NOx, So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Ky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iv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La l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no de des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po de emisión ( tempor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s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dente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dad certific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i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nte volun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e no 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orro intertem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El Decreto que defina el sistem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ntro o fuera de un Plan de Prevención o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d. Similar a un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tipo de sistema que se aplicar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po total a asig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itaciones y restricciones al uso de c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es de trans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 de monito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dministración del Sistema y 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REMA si es reg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NAMA si es trans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pos de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ertificación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ro y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signaciones de C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empre a título gratu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riterios: emisiones históricas o emisiones de referencia, mezc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ólo pueden emitir en la medida que tienen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onos de Descontaminación deben inscribirse en el registro respectivo (certif. previa requiere el certific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38:51Z</dcterms:modified>
  <cp:revision>55</cp:revision>
  <dc:subject/>
  <dc:title>PowerPoint Presentation</dc:title>
</cp:coreProperties>
</file>