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7F62-4ED5-475E-9C8F-C2229D47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1FAD-856B-4259-931A-1DBD074D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8F06-ACC7-4D0F-B91A-41815299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FAA2-546C-4F39-8A2E-6B8E8790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8F88-9618-4F0E-A2BB-C4606B9B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84D3-45D4-4A23-AEC5-3482B48C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4FD0-7144-4BFD-B0EE-843F76BF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D3AB-CB1D-4CE2-A717-B6AB3663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AB03-8AEC-4F4C-B87F-481FF1F8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7260-F3B2-4CC0-A775-74EBB32C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0057-6EFF-4A97-9055-02C1519F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902E-C307-4628-B263-63FAAD8A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B1EA-2726-4104-854A-D46B6D962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990000"/>
                </a:solidFill>
                <a:latin typeface="Arial"/>
              </a:rPr>
              <a:t>Proyecto de Ley de Bonos de Descontaminación</a:t>
            </a:r>
            <a:br>
              <a:rPr sz="3600"/>
            </a:br>
            <a:r>
              <a:rPr b="0" lang="es-CL" sz="3600" spc="-1" strike="noStrike">
                <a:solidFill>
                  <a:srgbClr val="990000"/>
                </a:solidFill>
                <a:latin typeface="Arial"/>
              </a:rPr>
              <a:t>Algunas Consideraciones sobre el t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Tipos de F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uentes nuevas (deben incribirse en registr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uentes voluntarias y sumideros (deben obtener certificación). Que tiene línea base y que capturan emis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Del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enta dire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Rem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ubasta continua u o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D.S. Que establezca el sistema podrá limitar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Regis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e Fuentes, sumideros y participantes no emisores ( incluye registro de firmas y poder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e cup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e bonos de descontaminación, prohibiciones y caduc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ntidades certificad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Fiscal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Organismo del estado competentes (proble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ntrega información falsa, incompleta o manifiestamente errónea, sanciones en conformidad a esta l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San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monestació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u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hibición temporal o permanente de participar en el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ducidad total o parcial de los cupos de emisión o de los bonos de descontamin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ncelación de la incripción en el 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odrá descontarse parte del cupo hasta el triple de lo exced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alsificación y uso fraudulento ( Código Penal, uso fraud. Inst. públ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omo detener y reducir contaminación en países que requiren tener crecimiento económico soste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hibiciones ( leña u otr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rmas de emisión o tecnológicas ( no congelan las emisiones globales de un sect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uestos ( muchas veces regresiv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omo detener y reducir contaminación en países que requiren tener crecimiento económico sosten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ulación urbana (puede ayudar o generar distorciones, pero no parece por sí sola suficien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idios (contradice principio que contamina paga, hace el sistema muy excesiv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os de emisión transables (permite congelar emisiones totales de un sector sean actuales o futuras. Entrega análisis de soluciones a regulados no a regulad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omo detener y reducir contaminación en países que requiren tener crecimiento económico sostenido para salir del sub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 necesariamente se debe trabajar con un solo instru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xiste compatibilidad entre uso de instrumentos de regulación directa (norma de emision o norma de decencia), e inatrumentos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e debe buscar la mejor ecuación en función de las características del problemas a ser regulado (puede que para algunos sea mejor una norma tecnológica y para otro un sistema de mercado o mezcl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0000"/>
                </a:solidFill>
                <a:latin typeface="Times New Roman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grama de plomo en gasoli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grama de lluvia ác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CLAIM (California, NOx, Sox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Kyo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glat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rectiva Europ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Tahoma"/>
              </a:rPr>
              <a:t>La le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fini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no de descontam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po de emisión ( temporalida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isión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dente de 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dad certificad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id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ente volun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ipante no em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horro intertemp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El Decreto que defina el sistem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ntro o fuera de un Plan de Prevención o Descontamin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ced. Similar a un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l tipo de sistema que se aplicar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po total a asign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imitaciones y restricciones al uso de cup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odalidades de trans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odalidad de monitor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dministración del Sistema y ti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dminis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OREMA si es reg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ONAMA si es trans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ipos de sistem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ertificación prev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uro y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signaciones de Cu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empre a título gratui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riterios: emisiones históricas o emisiones de referencia, mezc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ólo pueden emitir en la medida que tienen cup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onos de Descontaminación deben inscribirse en el registro respectivo (certif. previa requiere el certifica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vier Vergara</cp:lastModifiedBy>
  <dcterms:modified xsi:type="dcterms:W3CDTF">2004-06-02T16:38:51Z</dcterms:modified>
  <cp:revision>55</cp:revision>
  <dc:subject/>
  <dc:title>PowerPoint Presentation</dc:title>
</cp:coreProperties>
</file>