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EE2-A077-4577-8D85-532D99E3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B29-D1A1-4343-9E19-8F37833F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9E0F-45FA-41F0-B72B-9CAD7F838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2885-950A-4E39-B7A2-7C2BBD6A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1E6-196A-4512-A5FF-8273AAC2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E9E-A31D-4CBE-BD07-4603A06C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772-34DE-4395-A651-5863E0CF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DCAB-E6C9-4D18-9E25-132746EE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8DA-0B70-45AC-AEB2-3F273E6A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263-8ECD-4E27-8360-26A9D840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A68-AED7-44DC-8810-A4FE334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D8E-D0F8-40E2-AA09-F3A3AA8E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CD9C-9502-4D07-897E-222F632AC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0" spc="-1" strike="noStrike">
                <a:solidFill>
                  <a:srgbClr val="a50021"/>
                </a:solidFill>
                <a:latin typeface="Tahoma"/>
              </a:rPr>
              <a:t>Biodiversid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lasifica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ubl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strumentos Priv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ublic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arqu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onument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de Regiones Vír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antuario de la Naturale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Interés Histórico o Cient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Instrumentos de Planifica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Silvestres de Protección Priv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arque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protección y la conservación de las bellezas escénicas naturales y de la flora y la faura de importancia nacional, de las que el público pueda disfrutar mejor al ser puestas bajo la vigilancia of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por el Presidente y por D.S. del Minagri y Bienes 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aracterist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modifican solo por l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as riquezas no se explotan con fines comer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c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 prohibe la recolección de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cilidades para el púb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Nacion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giones establecidas para la conservación y utilización, bajo vigilancia oficial, de las riquezas naturales, en las cuales se dará a la flora y la fauna toda protección que sea compatible con los fines para los cuales son creadas las reser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l recurso su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r y proteger especies de flora y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ejorar la producción híd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rrollar y aplicar tecnologías de aprovechamiento racional de la Fy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Monumentos Natur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 generalmente reducida, caracterizada por la presencia de especies nativas de flora y fauna o por la existencia de sitios geológicos relevantes desde el punto de vista escénico, cultura, educativo o cient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hiben mismas actividades que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y desafectación similar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Objetiv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eservar muestras de ambientes naturales, rasgos culturales y esteticos asociados a ell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ducación, investigación y recre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de Regiones Vírge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na región donde existen condiciones primitivas naturales de flora, fauna, vivienda y comunicaciones con ausencia de caminos para el tráfico de motores y vedada a toda explotación comer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ción igual 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 existe ning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antuarios de la Naturalez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31 Ley de Mon. N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itios terrestres o marinos que ofrezcan posibilidades especiales para estudios e investigaciones geológicas, paleontológicas, zoológicas, botánicas o de ecología, o que posean formaciones naturales, cuya consevación sea de interes para la ciencia o para el Es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sejo de Monumentos N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S expedido por el Mineduc previa solicitud Cons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 hay incentivo y muchas 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trodu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so de los Ganad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Garret Hardin, Tragedia de l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biodiversidad, hay mucho comu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Desafío es como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ugares de Interes Historico o Científic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º de Mineria no lo define pero alusión de manera indirecta al hacer referencia a la solicitud que debe hacerse al Pdte. 17nº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rea por DS del Mº Mi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renos públicos o priv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en los Instrumentos de Planificac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restringidas o excluidas de desarro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eservacion eco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teccion ecológica con Dº contro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eas de Rehabilitacion ecolo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Silvestres de Protección Priva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t. 35 LB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 el mismo propósito señalado en el articulo precedente, el Estado fomentará e incentivará la creación de áreas silvestres protegidas de propiedad privada, las que estarán afectas a igual tratamiento tributario, derechos, obligaciones y cargas que las pertenecientes al Sistema Nacional de Areas Silvestres Protegidas del Esta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a supervisión de estas áreas silvestres corresponderá al organismo administrador del Sistema Nacional de Areas Silvestres Protegidas del Estado. La afectación de estas áreas será voluntaria y se perfeccionará mediante resolución dictada por el organismo señalado en el inciso anterior, que acoge la respectiva solicitud de su propietario, quien deberá reducir la resolución a escritura pública e inscribirla, para efectos de publicidad, en el Registro de Hipotecas y Gravámenes del Conservador de Bienes Raíces compet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Instrumentos Priv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ervidum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sufr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mod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propie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Servidumb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ncep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Normativa CC  820-8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lement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aracteri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D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Perpet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cces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Indivi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Ter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Usufruc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cepto 764 CC Do real que consiste en la facultad de gozar de una cosa con cargo de conservar su forma y sustancia y de restituirla a su dueño si la cosa no es fungible 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764 a 810 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moda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trato en que una de las partes entrega a la otra gratuitamente una especie, mueble o raiz para que haga uso de ella, y con cargo de restituir la misma especie despues de terminado el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ormativa CC 2174 y sg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Copropieda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xiste comunidad cuando un mismo derecho pertenece a dos o mas perso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Donación Mod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modo pueden ser condiciones de protección del objeto do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n caso de incumplimiento del modo retorna la propiedad al don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on Específica Flo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Reservas Fores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on Turi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aledañas a manantiales o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de Aptitud preferentemente fores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Bosque N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Que es Biodiversida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GBMA define diversidad biologica (art. 2 a) co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variabilidad entre los organismos vivos, que forman parte de todos los ecosistemas terrestres y acuaticos. Incluye la diversidad dentro de una misma especie, entre especies y entre ecosistema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Reservas Foresta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 10 Ley de Bosq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Objetivo de regulizar el comercio de la madera, garantizar la vida de ciertas especies y conservar la belleza del pais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de Proteccion Turistic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18378 Pdte previo informe Sernatur puede prohib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orta Arboles –100 mts cami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100 orilla rios y la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rboles en queb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reas Manantiales o Pendi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t. 5 Ley de Bos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400 de manantiales con 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De 200 terrenos pl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ndiente superior 45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El objetivo es proteger las fuentes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Aptitud Preferentemente Fore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errenos que por las condiciones de clima y suelo no deben ararse en forma permanente, estén cubiertos o no de vegetación, excluyendo los que sin sufrir degradación puedan ser utilizados en agricultura, fruticultura o ganadería intensiv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Sujeta a plan de manejo y puede aprovechar beneficios del DFL 7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Especies Particula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o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Ulmo y Ti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Yar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lma Chile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le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aucaria arauc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Ley de Bosque Nativ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está siendo discutida en la Comisión de Bienes Nacionales y Medio Ambiente del Se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on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Incentivos económicos para la preserv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Específica de la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Ley de Caza 19473 de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Lugare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i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ermis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todos de Ca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Marina Ley Gnrl de Pesca y Acuicu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Porque nos debe importar la extinción de especi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Antrop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estim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dic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uchos usos aún no determi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Visión Ecocén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Valon intrinse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erdida de la Biodiversidad:</a:t>
            </a:r>
            <a:br>
              <a:rPr sz="4800"/>
            </a:b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¿Hay un problema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olo se ha descrito un 10% de la diversidad mundial y estudiado un 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Tasa de extinción es 1000 veces mayor a la tasa natural (3 x ho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700" spc="-1" strike="noStrike">
                <a:solidFill>
                  <a:srgbClr val="a50021"/>
                </a:solidFill>
                <a:latin typeface="Tahoma"/>
              </a:rPr>
              <a:t>Uso sustentable vs. preservacion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ual debe prevalec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Si se opta por el uso, ¿a que t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determina un equilibr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se enfrenta el problema de la incertidumbr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Justifica la incertidumbre una regulacion estric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¿Como regula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Protección Flora y Faun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Nuestra legislación mantiene la visión tradicional de prote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lora es la diversidad de especies vegetales que existen en una región o paí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Fauna es el conjunto de animales de una país o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incipal clasificación Nativa o exó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Formas de Protec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Areas de Protección (resguardo conju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l Flo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tección específica de Fau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a50021"/>
                </a:solidFill>
                <a:latin typeface="Tahoma"/>
              </a:rPr>
              <a:t>Normativa Protección Conjunt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nvención de Washington (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ot F y F y Bellezas Escénicas</a:t>
            </a: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) firmada en 1940 entro en vigor 19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Ley 18362 SNASPE de 198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ntra en vigencia con Ley 18348 de CON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Art 34 LGBM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Estado administrará un Sistema Nacional de Areas Silvestres Protegidas, que incluirá los parques y reservas marinas, con objeto de asegurar la diversidad biológica, tutelar la preservación de la naturaleza y conservar el patrimonio ambient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tricio Leyton F.</cp:lastModifiedBy>
  <dcterms:modified xsi:type="dcterms:W3CDTF">2004-10-20T15:00:13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88617803</vt:r8>
  </property>
  <property fmtid="{D5CDD505-2E9C-101B-9397-08002B2CF9AE}" pid="3" name="_AuthorEmail">
    <vt:lpwstr>pleyton@urrutia.cl</vt:lpwstr>
  </property>
  <property fmtid="{D5CDD505-2E9C-101B-9397-08002B2CF9AE}" pid="4" name="_AuthorEmailDisplayName">
    <vt:lpwstr>patricio leyton</vt:lpwstr>
  </property>
  <property fmtid="{D5CDD505-2E9C-101B-9397-08002B2CF9AE}" pid="5" name="_EmailSubject">
    <vt:lpwstr>prueba con pauta corrección</vt:lpwstr>
  </property>
</Properties>
</file>