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889-517C-4404-A80A-3EB2E0C4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05F-8C4B-4D1B-A7A4-4A5CEDED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2A3-8003-4F6E-B355-698900F2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2AD-92BA-4549-A1B7-EDEE3660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F62-F870-450E-B4E0-52E02AC2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499-BDFB-452C-836C-3179F043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182-7CCF-4975-95F3-1CC14B60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537-16EB-4511-870F-82787C0F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B62-847A-4910-B64C-E5D3162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974-EB43-4D24-A787-F5DC766D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409-FF8F-468A-9D63-CCFED12A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ACE-BDF5-41FC-88CF-E0357DC8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3ADF-6401-409F-8640-756C28CB8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a50021"/>
                </a:solidFill>
                <a:latin typeface="Tahoma"/>
              </a:rPr>
              <a:t>Biodiversid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las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u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riv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ubl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qu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nument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de Regiones Vír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antuario de la Naturale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Interés Histórico o Cient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strumentos de Planific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Silvestres de Protección Pri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arque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protección y la conservación de las bellezas escénicas naturales y de la flora y la faura de importancia nacional, de las que el público pueda disfrutar mejor al ser puestas bajo la vigilancia of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nción de 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por el Presidente y por D.S. del Minagri y Bien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aracterist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modifican solo por l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s riquezas no se explotan con fines comer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c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recolección de fl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cilidades para el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conservación y utilización, bajo vigilancia oficial, de las riquezas naturales, en las cuales se dará a la flora y la fauna toda protección que sea compatible con los fines para los cuales son creadas las reser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l recurso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species de flora y fa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ejorar la producción híd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rrollar y aplicar tecnologías de aprovechamiento racional de la Fy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Monumentos Natur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 generalmente reducida, caracterizada por la presencia de especies nativas de flora y fauna o por la existencia de sitios geológicos relevantes desde el punto de vista escénico, cultura, educativo o cient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hiben mismas actividades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y desafectación similar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servar muestras de ambientes naturales, rasgos culturales y esteticos asociados a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ducación, investigación y rec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de Regiones Vírge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región donde existen condiciones primitivas naturales de flora, fauna, vivienda y comunicaciones con ausencia de caminos para el tráfico de motores y vedada a toda explotación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xiste ning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antuarios de la Naturale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31 Ley de Mon. 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tios terrestres o marinos que ofrezcan posibilidades especiales para estudios e investigaciones geológicas, paleontológicas, zoológicas, botánicas o de ecología, o que posean formaciones naturales, cuya consevación sea de interes para la ciencia o para el Es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ejo de Monument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S expedido por el Mineduc previa solicitud Cons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 hay incentivo y muchas 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so de los Ganad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Garret Hardin, Tragedia de l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biodiversidad, hay mucho comu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fío es como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ugares de Interes Historico o Científ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º de Mineria no lo define pero alusión de manera indirecta al hacer referencia a la solicitud que debe hacerse al Pdte. 17nº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 por DS del Mº Min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en los Instrumentos de Planifica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restringidas o excluidas de desarro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eservacion ec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teccion ecológica con Dº contro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de Rehabilitacion ecolo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Silvestres de Protección Priv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t. 35 LB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 el mismo propósito señalado en el articulo precedente, el Estado fomentará e incentivará la creación de áreas silvestres protegidas de propiedad privada, las que estarán afectas a igual tratamiento tributario, derechos, obligaciones y cargas que las pertenecientes al Sistema Nacional de Areas Silvestres Protegidas del Est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supervisión de estas áreas silvestres corresponderá al organismo administrador del Sistema Nacional de Areas Silvestres Protegidas del Estado. La afectación de estas áreas será voluntaria y se perfeccionará mediante resolución dictada por el organismo señalado en el inciso anterior, que acoge la respectiva solicitud de su propietario, quien deberá reducir la resolución a escritura pública e inscribirla, para efectos de publicidad, en el Registro de Hipotecas y Gravámenes del Conservador de Bienes Raíces compet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riv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sufr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od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prop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ervidumb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rmativa CC  820-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emen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rpet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cces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di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Usufruc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764 CC Do real que consiste en la facultad de gozar de una cosa con cargo de conservar su forma y sustancia y de restituirla a su dueño si la cosa no es fungible 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764 a 810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moda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ato en que una de las partes entrega a la otra gratuitamente una especie, mueble o raiz para que haga uso de ella, y con cargo de restituir la misma especie despues de terminado el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CC 2174 y sg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prop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iste comunidad cuando un mismo derecho pertenece a dos o mas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Donación Mo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modo pueden ser condiciones de protección del objeto do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caso de incumplimiento del modo retorna la propiedad al don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on Específica Fl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on Turi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aledañas a manantiales o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de Aptitud preferentemente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Bosque N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Que es Biodiversida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GBMA define diversidad biologica (art. 2 a) com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variabilidad entre los organismos vivos, que forman parte de todos los ecosistemas terrestres y acuaticos. Incluye la diversidad dentro de una misma especie, entre especies y entre ecosistema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Forest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10 Ley de Bosq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bjetivo de regulizar el comercio de la madera, garantizar la vida de ciertas especies y conservar la belleza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Turist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18378 Pdte previo informe Sernatur puede proh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rta Arboles –100 mts cam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00 orilla rios y l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boles en queb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Manantiales o Pendi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. 5 Ley de Bo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400 de manantiales con 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200 terrenos pl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diente superior 45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objetivo es proteger las fuentes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ptitud Preferentemente Fores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que por las condiciones de clima y suelo no deben ararse en forma permanente, estén cubiertos o no de vegetación, excluyendo los que sin sufrir degradación puedan ser utilizados en agricultura, fruticultura o ganadería intens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jeta a plan de manejo y puede aprovechar beneficios del DFL 7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Especies Partic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o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lmo y Ti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Ya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il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l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aucaria arauc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ey de Bosque Nativ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está siendo discutida en la Comisión de Bienes Nacionales y Medio Ambiente del S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ntivos económicos para la pre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Específica de la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Caza 19473 de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i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s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Marina Ley Gnrl de Pesca y Acuicu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Porque nos debe importar la extinción de especi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Antrop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esti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dic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uchos usos aún no determi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Ec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alon intrin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erdida de la Biodiversidad:</a:t>
            </a:r>
            <a:br>
              <a:rPr sz="4800"/>
            </a:b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Hay un problema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olo se ha descrito un 10% de la diversidad mundial y estudiado un 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asa de extinción es 1000 veces mayor a la tasa natural (3 x h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700" spc="-1" strike="noStrike">
                <a:solidFill>
                  <a:srgbClr val="a50021"/>
                </a:solidFill>
                <a:latin typeface="Tahoma"/>
              </a:rPr>
              <a:t>Uso sustentable vs. preservaci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ual debe prevale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se opta por el uso, ¿a que ta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determina un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enfrenta el problema de la incertidumbr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Justifica la incertidumbre una regulacion estric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regula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Flora y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uestra legislación mantiene la visión tradicional de prote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lora es la diversidad de especies vegetales que existen en una región o paí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una es el conjunto de animales de una país o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incipal clasificación Nativa o exó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Formas de Prote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ón (resguardo conju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específica del Fl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específica de Fa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Normativa Protección Conjun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nción de Washington (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t F y F y Bellezas Escénicas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) firmada en 1940 entro en vigor 19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ey 18362 SNASPE de 198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tra en vigencia con Ley 18348 de CON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rt 34 LGBM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Estado administrará un Sistema Nacional de Areas Silvestres Protegidas, que incluirá los parques y reservas marinas, con objeto de asegurar la diversidad biológica, tutelar la preservación de la naturaleza y conservar el patrimonio ambien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io Leyton F.</cp:lastModifiedBy>
  <dcterms:modified xsi:type="dcterms:W3CDTF">2004-10-20T15:00:13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88617803</vt:r8>
  </property>
  <property fmtid="{D5CDD505-2E9C-101B-9397-08002B2CF9AE}" pid="3" name="_AuthorEmail">
    <vt:lpwstr>pleyton@urrutia.cl</vt:lpwstr>
  </property>
  <property fmtid="{D5CDD505-2E9C-101B-9397-08002B2CF9AE}" pid="4" name="_AuthorEmailDisplayName">
    <vt:lpwstr>patricio leyton</vt:lpwstr>
  </property>
  <property fmtid="{D5CDD505-2E9C-101B-9397-08002B2CF9AE}" pid="5" name="_EmailSubject">
    <vt:lpwstr>prueba con pauta corrección</vt:lpwstr>
  </property>
</Properties>
</file>