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BB7C-20E4-4D59-AA16-6DB0C32F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5D42-EB4E-4C9C-8DAB-4CE4D62F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6BAE-D17E-4438-9B68-DC2E512AA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BA0D-2D50-441E-8756-D40F0EDB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1E16-3E1E-461B-9AA1-6ADDCF58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1B42-1047-4D70-8DDA-CC021C64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ADD2-CE24-400E-874A-4F512111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860B-664B-45C3-8140-CD07F58A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E785-8ADD-4C49-A6F1-130E3D81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5232-AD55-493F-841B-50DDCD24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245A-E740-43EC-B5BC-5ABA14DE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37B7-54BC-4C57-863C-B3EBA0B3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8B02-9964-4AE8-A7E5-CAF0119EA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Plan de Prevenc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 y Descontaminación R.M. (P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del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 Fi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tricio Leyton Flor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Metas por sector (Fuentes Fij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371600"/>
          <a:ext cx="7772400" cy="4957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4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ínea B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ra m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 p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mi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0ng/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Grandes fuentes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( 100 ton/año,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sentar plan de reducción para aprobarse por Dirección Ejectuvia CONAMA.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a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a 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Fuentes Fij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umplimiento de meta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educciones fís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mpensación (podrá ser no sólo con fuentes fij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Grandes Fuentes Nuevas compensan 150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Mejora en calidad de combusti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Fuentes Fijas</a:t>
            </a:r>
            <a:r>
              <a:rPr b="0" lang="es-CL" sz="4000" spc="-1" strike="noStrike">
                <a:solidFill>
                  <a:srgbClr val="a50021"/>
                </a:solidFill>
                <a:latin typeface="Tahoma"/>
              </a:rPr>
              <a:t> (tem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etas de NOx y MP, son globales e individuales para cada fuente, no por s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Ox, discusión respecto de línea base 199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xisten problemas de discriminación entre diversas fuentes fijas por reducciones históricas anteriores a 199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emas de legalidad regulación SOx grandes fu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egulación SOx, necesidad de regulación dado rabajas globales asociadas a Gas Nat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Otras regul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bligación de compensación para actividades nuevas o modificaciones de existentes (150%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gulaciones para combustibles residen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emisiones para calefacción residencial( normas de emis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contaminación intramu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rmas de control de COV asociado a cadena de distribución de combust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levantamiento de polvo y generación de áreas verdes (Compensación de áreas verdes)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Otras regul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ogramas y pol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íticas públi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ducación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ortalecimiento de Gestión Ambientla lo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conocimiento a crear proyectos sumid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Impulso a ley de bo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das para enfrentar episodios crí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das todo el otoño e inv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Antecedentes previos al P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evio al plan existián una serie de regulaciones dictadas antes de Ley 19.300, en virtud de disposiciones vigentes a esa época. Salvo catalíticos es casi todo para M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ransportes normas de emisión (autos catalíticos), y revisión técnica. Retiro de buses, Licitación de recorr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uentes Fijas: Norma de emisión sólo para material particulado. D.S. Nº4, y complementos 1992 (MP). Compensación de emisiones ( fuentes nuevas y forma de cumplir meta 1997). 1995, exclusión de procesos de sistema de compens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tras fuentes: prohibición uso de chimeneas de hogar abierto, de quemas agrícolas en períodos inver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gulación de situaciones de pre-emergencia y emerg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grama de lavado de call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Anteceden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1996 Declaración zona saturada y letent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aturada para Ozono, Material Particulado respirable, pts y monóxido carbo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tente: Dioxido de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iscusión respecto a criterios geográficos para declarar la R.M., como zona satur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D.S. Nº16 1998. PP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lan complejo gran cantidad de medidas (mandatorias o recomendacion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uentes Fij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tas para diversos contaminantes en grandes fuentes. Se hace más estricto el D.S. Nº4 Min. Salud, para calde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pensación de emisiones ( valida exclusión de procesos de compensación definida el año 1995 y mayor compensación para fuentes nueves con exigencia mayor el 2000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riterios para definir normas de emisi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ón para proce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bligaciones de medir emisiones de gases. No se cu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tas más fáciles y disminución de dificultades de fiscalización para fuentes más pequeñ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s de combustibles de uso industr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iscusión tema criterios de corte para pre-emergencia y emerg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D.S. Nº16 1998. PP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uentes Móv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uevas normas de emisión para vehiculos nue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rmativa relativa a calidad de combus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ños de antigüedad de vehícul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iscusión restricción catalíticos (se incorpora en modificación 20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D.S. Nº16 1998. PP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tras Fuent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rmas para la actividad de constr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rmas relativas a áreas verdes (200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uentes Nuevas o modificación existentes: Además de normas vigentes, compensación de emisiones cuando su emisión anual excede ciertos niveles (entra obligación de compensar para proyectos inmobiliarios, rellenos sanitarios,et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PPDA 2004. D.S. Nº58 de 2003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volución de calidad del aire 1997-200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alores maximos de MP-10 y las concentraciones anuales bajan en un 27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e-emergencias bajan de 37 a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mergencias de 4 a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 hay latencia NO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iguen esfuerzos de reducción de MP-10, CO, </a:t>
            </a:r>
            <a:r>
              <a:rPr b="0" lang="es-ES" sz="2400" spc="-1" strike="noStrike">
                <a:solidFill>
                  <a:srgbClr val="a50021"/>
                </a:solidFill>
                <a:latin typeface="Tahoma"/>
              </a:rPr>
              <a:t>Nox, Sox, COV y NH3(estos como precurso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Participación por sector para material particul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u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B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Cam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Vehículos liv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 F. Movile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Proc. Combu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Otros Proc. Ind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Ftes. 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Fuentes Fi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fuentes ar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artici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2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4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2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2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Metas por sector (Fuentes Móvil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tas Globales ( a lo menos respecto inventario 1997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P-10: 7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tas Transporte Público: Se asignana metas individuales en licitación plazo cumplimiento. 2005. Entran al sistema de compens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lan de reducción buses en uso: opacidad 30% menos (rev. Técnic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ueves Normas de emisión para diversos tipos de vehículos nuevos (buses, camiones, aut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jora en calidad combust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vergara</cp:lastModifiedBy>
  <dcterms:modified xsi:type="dcterms:W3CDTF">2004-09-24T15:51:26Z</dcterms:modified>
  <cp:revision>56</cp:revision>
  <dc:subject/>
  <dc:title>PowerPoint Presentation</dc:title>
</cp:coreProperties>
</file>