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DFB-DAF8-43EA-9E67-B2FB0821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96D4-C1AD-45BE-AE2B-6410184F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CFB-082B-42D4-9914-86717754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5BA-8B4A-44BB-A84F-2D489152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9E5-F2E3-4193-AEC5-E88C39FE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CEB-BA0B-446B-B0BA-7AE1BBB8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2A7-31E3-49CB-BC7E-E2275936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3F1-095C-4CA8-A040-31EB0482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273-6076-444A-929A-5F2BA8A4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BBF-6305-4042-894A-6DD9410F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226-862B-415B-90CB-791BACD0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22D-6FE0-46D6-A4ED-4E924D73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1506-7002-4B29-8E20-160C13B7F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lan de Preven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y Descontaminación R.M. (P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Metas por sector (Fuentes Fij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371600"/>
          <a:ext cx="7772400" cy="4957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ínea 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a m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i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0ng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Grandes fuentes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( 100 ton/año,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tar plan de reducción para aprobarse por Dirección Ejectuvia CONAMA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Fuentes Fij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umplimiento de met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duccione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ensación (podrá ser no sólo con fuentes fij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randes Fuentes Nuevas compensan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jora en calidad de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Fuentes Fijas</a:t>
            </a:r>
            <a:r>
              <a:rPr b="0" lang="es-CL" sz="4000" spc="-1" strike="noStrike">
                <a:solidFill>
                  <a:srgbClr val="a50021"/>
                </a:solidFill>
                <a:latin typeface="Tahoma"/>
              </a:rPr>
              <a:t> (tem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etas de NOx y MP, son globales e individuales para cada fuente, no p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x, discusión respecto de línea base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xisten problemas de discriminación entre diversas fuentes fijas por reducciones históricas anteriores a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mas de legalidad regulación SOx grandes fu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gulación SOx, necesidad de regulación dado rabajas globales asociadas a Gas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bligación de compensación para actividades nuevas o modificaciones de existentes (150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gulaciones para combustibles residen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misiones para calefacción residencial( normas de emis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contaminación intram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s de control de COV asociado a cadena de distribución de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levantamiento de polvo y generación de áreas verdes (Compensación de áreas verdes)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amas y pol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íticas públ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ducación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ortalecimiento de Gestión Ambientla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conocimiento a crear proyectos sumid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mpulso a ley de bo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das para enfrentar episodi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das todo el otoño e 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ntecedentes previos al P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vio al plan existián una serie de regulaciones dictadas antes de Ley 19.300, en virtud de disposiciones vigentes a esa época. Salvo catalíticos es casi todo para M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portes normas de emisión (autos catalíticos), y revisión técnica. Retiro de buses, Licitación de recor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entes Fijas: Norma de emisión sólo para material particulado. D.S. Nº4, y complementos 1992 (MP). Compensación de emisiones ( fuentes nuevas y forma de cumplir meta 1997). 1995, exclusión de procesos de sistema de compens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tras fuentes: prohibición uso de chimeneas de hogar abierto, de quemas agrícolas en períodos inver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gulación de situaciones de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grama de lavado de call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Anteced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1996 Declaración zona saturada y le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turada para Ozono, Material Particulado respirable, pts y monóxido carb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tente: Dioxido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scusión respecto a criterios geográficos para declarar la R.M., como zona satu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complejo gran cantidad de medidas (mandatorias o recomendacio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 Fij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para diversos contaminantes en grandes fuentes. Se hace más estricto el D.S. Nº4 Min. Salud, para calde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ensación de emisiones ( valida exclusión de procesos de compensación definida el año 1995 y mayor compensación para fuentes nueves con exigencia mayor el 200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riterios para definir normas de emisi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ón para proce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medir emisiones de gases. No se cu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más fáciles y disminución de dificultades de fiscalización para fuentes más pequeñ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combustibles de uso indust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cusión tema criterios de corte para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Móv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uevas normas de emisión para vehi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tiva relativa a calidad de combus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ños de antigüedad de vehícul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cusión restricción catalíticos (se incorpora en modificación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as Fuen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para la actividad de constr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relativas a áreas verdes (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Nuevas o modificación existentes: Además de normas vigentes, compensación de emisiones cuando su emisión anual excede ciertos niveles (entra obligación de compensar para proyectos inmobiliarios, rellenos sanitarios,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PPDA 2004. D.S. Nº58 de 200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volución de calidad del aire 1997-200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alores maximos de MP-10 y las concentraciones anuales bajan en un 27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-emergencias bajan de 37 a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ergencias de 4 a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hay latencia NO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guen esfuerzos de reducción de MP-10, CO, </a:t>
            </a:r>
            <a:r>
              <a:rPr b="0" lang="es-ES" sz="2400" spc="-1" strike="noStrike">
                <a:solidFill>
                  <a:srgbClr val="a50021"/>
                </a:solidFill>
                <a:latin typeface="Tahoma"/>
              </a:rPr>
              <a:t>Nox, Sox, COV y NH3(estos como precurso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Participación por sector para material p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Cam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Vehículos li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F. Movil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Proc. Combu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Otros Proc. Ind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Ftes. 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a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4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2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Móvi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tas Globales ( a lo menos respecto inventario 1997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P-10: 7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tas Transporte Público: Se asignana metas individuales en licitación plazo cumplimiento. 2005. Entran al sistema de compens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de reducción buses en uso: opacidad 30% menos (rev. Técn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ueves Normas de emisión para diversos tipos de vehículos nuevos (buses, camiones, au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jora en calidad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4-09-24T15:51:26Z</dcterms:modified>
  <cp:revision>56</cp:revision>
  <dc:subject/>
  <dc:title>PowerPoint Presentation</dc:title>
</cp:coreProperties>
</file>