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AD5-589E-48CF-ABCF-44559C47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B73-AE94-4E10-AF44-782C527E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88D-1590-4B43-BE7E-BBFB5690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D83-68DE-4D0B-8C8C-3489BB0D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168-8FE8-4C10-B7D9-74859149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994-2B75-45E7-8701-B471E515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424-48BF-4EE2-BF34-A831CAFF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2C4-3EA7-42FD-93EF-397265F5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635-9499-4123-91A6-FE806001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C36-1E5F-4CC2-A19D-F77E7851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DFF-CE94-4035-BDBD-63677822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00E-06C8-4F51-B3A3-E445D4C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05C-B455-4856-85C4-650508A64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a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a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 (gene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general ( 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10T14:52:57Z</dcterms:modified>
  <cp:revision>46</cp:revision>
  <dc:subject/>
  <dc:title>PowerPoint Presentation</dc:title>
</cp:coreProperties>
</file>