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6F8C0-2210-4466-A1D5-6904881E2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AD45-BC12-4478-88AA-90C7B5CB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01EA-5758-4DDE-B375-FC57BCE6F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D9FEA-1CD2-4786-87ED-0EC6EE02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F3B9B-0F08-4999-8507-57612CD1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9658A-DEFA-4FC7-8BEC-3832DF7F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0C47-68F9-497E-858D-C1A09B8D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8743-E2B7-48B2-847A-9B09BC05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C15F-45D7-4467-B0EB-691F12C0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5F91-7284-4144-8ED6-6587B7D04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5215-A986-4D8E-9393-974CD761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0789-5B82-4CA4-BF28-196B3FAAA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F6E1-204B-43A1-9448-ADB3C382A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 respecto de actividades list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lgunas legislaciones latinoamericanas (ley de residuos argentina, Código Civil Mexicano). En general actividades peligro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s Unidos CERCLA. Residuos peligroso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istemas de Responsabilida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udicial: </a:t>
            </a:r>
            <a:r>
              <a:rPr b="0" lang="en-US" sz="2800" spc="-1" strike="noStrike">
                <a:solidFill>
                  <a:srgbClr val="000000"/>
                </a:solidFill>
                <a:latin typeface="Times New Roman"/>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tiva: </a:t>
            </a:r>
            <a:r>
              <a:rPr b="0" lang="en-US" sz="2800" spc="-1" strike="noStrike">
                <a:solidFill>
                  <a:srgbClr val="000000"/>
                </a:solidFill>
                <a:latin typeface="Times New Roman"/>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49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normativa especial.</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mantiene el requisito de la causalidad de la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9-29T14:42:54Z</dcterms:modified>
  <cp:revision>32</cp:revision>
  <dc:subject/>
  <dc:title>PowerPoint Presentation</dc:title>
</cp:coreProperties>
</file>