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3D1BA-DEF1-4F52-A176-1EC889F46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E632E-FAC0-4859-AA4B-75820C500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ABB1A-AFB1-4FAD-A227-527769F97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7B0BF-5E12-4B5C-94B5-263463119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019D5-76CB-437B-87BC-77483A89E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77022-2CA2-429B-9C9C-29C2EC234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CE182-2785-48CF-94B6-1BABDBA44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1E995-47D5-471F-A70D-C3819CA15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D6917-BFA3-48D8-A3DC-AE763C22F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E7C22-C9E9-42D9-A3A0-72092BBFE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C48AF-7358-422C-819C-959FF2D16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2E43B-B94C-445B-B491-76EF34061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8411-43F6-4DE4-8A5D-05593E8E1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a50021"/>
                </a:solidFill>
                <a:latin typeface="Tahoma"/>
              </a:rPr>
              <a:t>Responsabilidad por </a:t>
            </a:r>
            <a:br>
              <a:rPr sz="5400"/>
            </a:br>
            <a:r>
              <a:rPr b="0" lang="es-CL" sz="5400" spc="-1" strike="noStrike">
                <a:solidFill>
                  <a:srgbClr val="a50021"/>
                </a:solidFill>
                <a:latin typeface="Tahoma"/>
              </a:rPr>
              <a:t>Daño Ambiental</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tricio Leyton Florez</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Javier Vergara Fisher</a:t>
            </a: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3. Culpabilidad</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
          <p:cNvSpPr/>
          <p:nvPr/>
        </p:nvSpPr>
        <p:spPr>
          <a:xfrm>
            <a:off x="838080" y="2209680"/>
            <a:ext cx="8001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estric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por culpa</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ponsabilidad estrict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rectiva Unión Europea, respecto de actividades listad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lgunas legislaciones latinoamericanas (ley de residuos argentina, Código Civil Mexicano). En general actividades peligros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s Unidos CERCLA. Residuos peligrosos.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egislación chilena: responsabilidad por culpa</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Hecho culpable o doloso: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esunciones de culpa:</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Art. 52 presunción de culpa:</a:t>
            </a:r>
            <a:r>
              <a:rPr b="1" lang="es-CL" sz="1400" spc="-1" strike="noStrike">
                <a:solidFill>
                  <a:srgbClr val="000000"/>
                </a:solidFill>
                <a:latin typeface="Tahoma"/>
                <a:ea typeface="Times New Roman"/>
              </a:rPr>
              <a:t>Se presume legalmente la responsabilidad del autor del daño ambiental,si existe infracción a las normas de calidad ambiental, a las normas de emisiones, a los planes de prevención o de descontaminación, a las regulaciones especiales para los casos de emergencia ambiental o a las normas sobre protección, preservación o conservación ambientales, establecidas en la presente ley o en otras disposiciones legales o reglamentaria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ea typeface="Times New Roman"/>
              </a:rPr>
              <a:t>Sanciones de la administración por infracción a sus norma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ea typeface="Times New Roman"/>
              </a:rPr>
              <a:t>Infracción de nomas o sobre usos y hábitos profesionales.</a:t>
            </a:r>
            <a:endParaRPr b="0" lang="en-US" sz="1400" spc="-1" strike="noStrike">
              <a:solidFill>
                <a:srgbClr val="000000"/>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buso del derecho ( C.C. Argentino, el ejercicio abusivo del derecho constituye una fuente de responsabilidad por daño ambienta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cumplimiento de normas no exime del deber de actuar de modo de evitar daños a terceros o al medio ambiente en este caso.</a:t>
            </a:r>
            <a:endParaRPr b="0" lang="en-US" sz="16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4. </a:t>
            </a: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Libro Verde 1993: cualquier degradación física, química o biológica importante del medio ambie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irectiva Europea (2002):</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a la biodiversidad, los daños que afecten grave y adversamente al estado de conservación de lal biodiversidad (áreas protegidas en listad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a las agua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del suelo...</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 </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toda pérdida, disminución, detrimento o menoscabo significativo   inferido al medio ambiente o a uno o más de sus componentes(art. 2 letra e.)</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Medio ambiente: 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 </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Significativo (art.11 letras b,c y e)</a:t>
            </a:r>
            <a:endParaRPr b="0" lang="en-US" sz="2000" spc="-1" strike="noStrike">
              <a:solidFill>
                <a:srgbClr val="000000"/>
              </a:solidFill>
              <a:latin typeface="Times New Roman"/>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Límites al concepto de daño ambiental</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meramente patrimonial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rés particular vs. Interés gener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ños a la salud ¿es daño ambienta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irreversibles (problema con reparación compensato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se afecte un recurso que rige y condiciona la existencia y la vida en sus múltiples manifestacio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 no significtivo</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istemas de Responsabilida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Judicial: </a:t>
            </a:r>
            <a:r>
              <a:rPr b="0" lang="en-US" sz="2800" spc="-1" strike="noStrike">
                <a:solidFill>
                  <a:srgbClr val="000000"/>
                </a:solidFill>
                <a:latin typeface="Times New Roman"/>
              </a:rPr>
              <a:t>En el caso chileno se interponen ante los Tribunales de Justicia ( hay excepcionales en casos en que órganos administrativos ordenan las medidas reparadoras, Serv. Salu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tiva: </a:t>
            </a:r>
            <a:r>
              <a:rPr b="0" lang="en-US" sz="2800" spc="-1" strike="noStrike">
                <a:solidFill>
                  <a:srgbClr val="000000"/>
                </a:solidFill>
                <a:latin typeface="Times New Roman"/>
              </a:rPr>
              <a:t>En  europa y otros países latinoamericanos es potestad de la administración ( Colombia, Perú, Bolivia, Argentina) o sistemas en que es potestad de los tribunales pero también la administración</a:t>
            </a:r>
            <a:endParaRPr b="0" lang="en-US" sz="28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itularidad de la acción (art.54)</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ersonas naturales o jurídicas, públicas o privadas, que hayan sufrido el daño o perjuicio.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municipalidad por los hechos ocurridos en sus comuna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Estado por intermedio del Consejo de Defensa del Estado.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alquier persona puede recurrir al municipio en cuyo ámbito se desarrollan las actividades que causen daños ambientales, para que en su representación deduzca la acción. Municipio tiene plazo de 45 días para ejercer la acción, si decidiere no hacerlo, dictará una resolución fundada que así lo indique. Si no se pronuncia eso la hace solidariamente responsable.</a:t>
            </a:r>
            <a:endParaRPr b="0" lang="en-US" sz="20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Prescripción de la acción ambiental</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inco años desde la manifestación evidente del dañ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Tanto la acción civil como la acción reparatori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Vigencia de la acción ambiental en el tiempo</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gencia de normas sobre daño ambiental a partir de los 90 días de la vigencia de la ley.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No retroactividad de la ley. (caso europeo y chile vs. CERCL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ituaciones de daño ambient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Ocurridas integramente antes de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Iniciadas ante de la vigencia de la ley 19.300, y continúan bajo la vigencia de la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inicían y terminan durante la vigencia de la ley 19.300</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0456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ponsabilidad por daño ambiental</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fontScale="85000"/>
          </a:bodyPr>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3 Ley No 19300:</a:t>
            </a:r>
            <a:endParaRPr b="0" lang="en-US" sz="2400" spc="-1" strike="noStrike">
              <a:solidFill>
                <a:srgbClr val="000000"/>
              </a:solidFill>
              <a:latin typeface="Times New Roman"/>
            </a:endParaRPr>
          </a:p>
          <a:p>
            <a:pPr marL="49680" indent="-496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as sanciones que señale la ley, todo el que culposa o dolosamente cause daño al medio ambiente, estará obligado a repararlo materialmente, a su costo, si ello fuere posible, e indemnizarlo en conformidad a la ley.</a:t>
            </a:r>
            <a:endParaRPr b="0" lang="en-US" sz="20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51 Ley No 19300:</a:t>
            </a:r>
            <a:endParaRPr b="0" lang="en-US" sz="24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Todo el que culposa o dolosamente cause daño ambiental responderá del mismo en conformidad a la presente ley. </a:t>
            </a:r>
            <a:endParaRPr b="0" lang="en-US" sz="20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obstante, las normas sobre responsabilidad por daño al medio ambiente contenidas en leyes especiales prevalecerán sobre las de la presente ley. </a:t>
            </a:r>
            <a:endParaRPr b="0" lang="en-US" sz="20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o anterior, en lo no previsto por esta ley o por leyes especiales se aplicarán las disposiciones del Título XXXV del Libro IV del Código Civil. </a:t>
            </a:r>
            <a:endParaRPr b="0" lang="en-US" sz="2000" spc="-1" strike="noStrike">
              <a:solidFill>
                <a:srgbClr val="000000"/>
              </a:solidFill>
              <a:latin typeface="Times New Roman"/>
            </a:endParaRPr>
          </a:p>
          <a:p>
            <a:pPr marL="49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relación de regímen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es especi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ódigo Civil (título XXXV, del Libro IV Código Civi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t. 2314. El que ha cometido un delito o cuasidelito que ha inferido daño a otro, es obligado a la indemnización; sin perjuicio de la pena que le impongan las leyes por el delito o cuasidelito.</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rtículo 53</a:t>
            </a:r>
            <a:r>
              <a:rPr b="0" lang="es-CL" sz="4400" spc="-1" strike="noStrike">
                <a:solidFill>
                  <a:srgbClr val="a50021"/>
                </a:solidFill>
                <a:latin typeface="Tahoma"/>
              </a:rPr>
              <a:t> Ley 19.300</a:t>
            </a:r>
            <a:endParaRPr b="0" lang="en-US" sz="4400" spc="-1" strike="noStrike">
              <a:solidFill>
                <a:srgbClr val="000000"/>
              </a:solidFill>
              <a:latin typeface="Times New Roman"/>
            </a:endParaRPr>
          </a:p>
        </p:txBody>
      </p:sp>
      <p:sp>
        <p:nvSpPr>
          <p:cNvPr id="48" name=""/>
          <p:cNvSpPr/>
          <p:nvPr/>
        </p:nvSpPr>
        <p:spPr>
          <a:xfrm>
            <a:off x="990720" y="2057400"/>
            <a:ext cx="71625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ido daño ambiental, se concede acción para obtener la reparación del medio ambiente dañado, lo que no obsta al ejercicio de la acción indemnizatoria ordinaria por el directamente afectado. </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cciones que nacen del daño ambiental (art.53)</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indemnizatoria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dar</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ambiental o repatoria (reparación en especie)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hacer</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cción reparatori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Reparación: la acción de reponer el medio ambiente o uno o más de sus componentes a una calidad similar a la que tenían con anterioridad al daño causado o, en caso de no ser ello posible, restablecer sus propiedades básicas ( art. 2. Letra u); </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oncepto de reparación del daño, está también en legislación Mexicana, Argentina (en la Constitución), Colombiana y otras. </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n general no contemplan criterios para definir como reparar. Salvo art. 61 de Reglamento S.E.I.A. (en las mismas </a:t>
            </a:r>
            <a:r>
              <a:rPr b="0" lang="es-ES" sz="2400" spc="-1" strike="noStrike">
                <a:solidFill>
                  <a:srgbClr val="000000"/>
                </a:solidFill>
                <a:latin typeface="Tahoma"/>
                <a:ea typeface="Times New Roman"/>
              </a:rPr>
              <a:t>áreas donde los efectos se presenten).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lementos de la RPD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pacid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exo Cau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lpabil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año</a:t>
            </a:r>
            <a:endParaRPr b="0" lang="en-US" sz="3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1. Capacidad</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o hay normativa especial.</a:t>
            </a:r>
            <a:endParaRPr b="0" lang="en-US" sz="3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2. Relación de causalidad</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mantiene el requisito de la causalidad de la legislación chilen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y casos de presunción de causalidad (legislación aleman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ERCLA (EUA), son responsables solidariamente: el dueño y operador del sitio, cualquier persona que hubiera solicitado el transporte o disposiciones de residuos peligrosos, cualquiera que hubiera transportado las sustancias.</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9-29T14:42:54Z</dcterms:modified>
  <cp:revision>32</cp:revision>
  <dc:subject/>
  <dc:title>PowerPoint Presentation</dc:title>
</cp:coreProperties>
</file>