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0EF6-B373-428C-8229-068B3F9E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36CC-BC79-4441-9802-B0AA1552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02113-CB89-4DAC-B841-7A4F5F9F9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7A00B-93C1-4FAB-92F7-92EB00CF6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45FA-FEF4-4FE2-BF14-12D5FA19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E563-0F64-4349-B949-F9D5DD87C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67AF2-4B1C-4087-9EE8-A37C4654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E8D63-E7ED-49F0-BEB8-074CB2E2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AB17-CA9B-4FE4-90E6-88C85564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F831-44C4-4574-A927-C3B917AD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6A5A-D601-41BE-B14E-0D160C00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BF96-3535-4CDD-8B28-0867A37B3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238A-AC89-426A-8401-91F6C4285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 respecto de actividades list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lgunas legislaciones latinoamericanas (ley de residuos argentina, Código Civil Mexicano). En general actividades peligro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s Unidos CERCLA. Residuos peligroso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istemas de Responsabilida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udicial: </a:t>
            </a:r>
            <a:r>
              <a:rPr b="0" lang="en-US" sz="2800" spc="-1" strike="noStrike">
                <a:solidFill>
                  <a:srgbClr val="000000"/>
                </a:solidFill>
                <a:latin typeface="Times New Roman"/>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tiva: </a:t>
            </a:r>
            <a:r>
              <a:rPr b="0" lang="en-US" sz="2800" spc="-1" strike="noStrike">
                <a:solidFill>
                  <a:srgbClr val="000000"/>
                </a:solidFill>
                <a:latin typeface="Times New Roman"/>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49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normativa especial.</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mantiene el requisito de la causalidad de la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29T14:42:54Z</dcterms:modified>
  <cp:revision>32</cp:revision>
  <dc:subject/>
  <dc:title>PowerPoint Presentation</dc:title>
</cp:coreProperties>
</file>