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DB7ECD-3E8B-45A6-8E76-E9A5172C99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E717B-EFAC-4DA3-BCA0-449060D5E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8A0D0A-C0FA-4DF4-9556-31F38D7CA2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A3FCFE-9FC0-48DE-8649-F5563D55D6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15506-4C08-41F2-86D8-E2653BB55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1F2A1-A9DA-4715-A9A3-3F113100E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34FD5-107D-495E-AE34-CEB4939D3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3C3B3-0D67-42D7-8010-6FD0E5412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05A8E-B4F5-4C93-BE2C-813948C6D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B4A0D-210F-4C13-9540-FF1C9886E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2AFA1-C5CB-4FA0-BE64-C462C1793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37F02-F752-433C-BE20-82049201D2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1875C-1F05-4FD5-B18F-438A1D08EF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Residuos Sólido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del Medio Ambiente</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Javier Vergara Fishe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atricio Leyt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Residuos domiciliarios: autorizaciones</a:t>
            </a:r>
            <a:endParaRPr b="0" lang="en-US" sz="48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Todo lugar de disposición, almacenamiento o comercialización debe contar con autorización sanitaria ( C. Sanitario).</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_tradnl" sz="2800" spc="-1" strike="noStrike">
                <a:solidFill>
                  <a:srgbClr val="000000"/>
                </a:solidFill>
                <a:latin typeface="Univers"/>
                <a:ea typeface="Times New Roman"/>
              </a:rPr>
              <a:t>Plantas de tratamiento y/o disposición de residuos sólidos de origen domiciliario, rellenos sanitarios y estaciones de transferencia que atiendan a una población igual o mayor a cinco mil (5.000) habitantes;</a:t>
            </a:r>
            <a:r>
              <a:rPr b="0" lang="en-GB" sz="2800" spc="-1" strike="noStrike">
                <a:solidFill>
                  <a:srgbClr val="000000"/>
                </a:solidFill>
                <a:latin typeface="Tahoma"/>
              </a:rPr>
              <a:t> </a:t>
            </a:r>
            <a:r>
              <a:rPr b="0" lang="es-ES" sz="2800" spc="-1" strike="noStrike">
                <a:solidFill>
                  <a:srgbClr val="000000"/>
                </a:solidFill>
                <a:latin typeface="Tahoma"/>
              </a:rPr>
              <a:t>( art. 3 letra o.5 Reg. SE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Residuos domiciliarios: temas complejos</a:t>
            </a:r>
            <a:endParaRPr b="0" lang="en-US" sz="48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istema tarifario: conceptualmente deficitario.</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arco regulatorio: No genera suficientes incentivos respecto de conductas apropiadas.</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No existe regulación de la actividad como Servicio Público (quienes pueden desarrollar la actividad, derechos y deberes de los prestadores, regimen tributario, definición de tarifas que se pueden cobrar, criterios de rentabilidad para fijar tarifas).</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ímite de responsabilidad del municipio en caso de externalizar el servicio (hasta donde lleg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Residuos Industriale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macenamiento y disposición en predio del generador requiere autorización sanitario (D.S. Nº594 Min. Salud).</a:t>
            </a:r>
            <a:endParaRPr b="0" lang="en-US" sz="3200" spc="-1" strike="noStrike">
              <a:solidFill>
                <a:srgbClr val="000000"/>
              </a:solidFill>
              <a:latin typeface="Times New Roman"/>
            </a:endParaRPr>
          </a:p>
          <a:p>
            <a:pPr marL="332640" indent="-3326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osición fuera del sitio de la industria requiere autorización sanitaria (D.S. Nº594 Min. Salud).</a:t>
            </a:r>
            <a:endParaRPr b="0" lang="en-US" sz="3200" spc="-1" strike="noStrike">
              <a:solidFill>
                <a:srgbClr val="000000"/>
              </a:solidFill>
              <a:latin typeface="Times New Roman"/>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esponsabilidad es del generad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ahoma"/>
              </a:rPr>
              <a:t>Residuos Industriales: tratamiento y disposición final</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Se Somete a S.E.I.A. (proyecto de saneamiento ambiental). COREMA sanciona a quienes infringen condiciones de resolución aprobatoria.</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Autorización sanitaria.</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Se ha cofigurado regimen general fundado en autorizaciones para residuos no peligrosos, y regimen legal especial para residuos peligroso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ahoma"/>
              </a:rPr>
              <a:t>Residuos Industriales: tratamiento y disposición final</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Autoridad sanitaria fiscaliza y sanciona a quienes disponen o tratan sin autorización (Código Sanitario).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R.M. Resolución SESMA sobre seguimiento de residuos ( resolución 5081).</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rincipio clásico: De la cuna a la tumba</a:t>
            </a:r>
            <a:endParaRPr b="0" lang="en-US" sz="3200" spc="-1" strike="noStrike">
              <a:solidFill>
                <a:srgbClr val="000000"/>
              </a:solidFill>
              <a:latin typeface="Times New Roman"/>
            </a:endParaRPr>
          </a:p>
          <a:p>
            <a:pPr lvl="1" marL="727920" indent="-280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ríticas: debe en algún minuto cortarse el vinculo entre generador y residuo, cuando.</a:t>
            </a:r>
            <a:endParaRPr b="0" lang="en-US" sz="2800" spc="-1" strike="noStrike">
              <a:solidFill>
                <a:srgbClr val="000000"/>
              </a:solidFill>
              <a:latin typeface="Times New Roman"/>
            </a:endParaRPr>
          </a:p>
          <a:p>
            <a:pPr lvl="1" marL="727920" indent="-280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n nuestro sistema no está consagrado, sin perjuicio de la obtención de la respectiva autorización sanitaria para disponer fuera del pred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16 junio de 2004 se public</a:t>
            </a:r>
            <a:r>
              <a:rPr b="0" lang="es-CL" sz="3200" spc="-1" strike="noStrike">
                <a:solidFill>
                  <a:srgbClr val="000000"/>
                </a:solidFill>
                <a:latin typeface="Tahoma"/>
              </a:rPr>
              <a:t>ó Reglamento Sanitario sobre Manejo de Residuos Peligrosos. D.S. N°148 del año 2003.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encuentra en etapa de elaboración norma de incineración y co-incineración (para residuos peligrosos y no peligros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imera pregunta:</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on residuos: </a:t>
            </a:r>
            <a:r>
              <a:rPr b="0" lang="es-ES" sz="2800" spc="-1" strike="noStrike">
                <a:solidFill>
                  <a:srgbClr val="000000"/>
                </a:solidFill>
                <a:latin typeface="Tahoma"/>
              </a:rPr>
              <a:t>Sustancia, elemento u objeto que el generador elemina, se propone eliminar o está obligado a eliminar </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Segunda pregunta: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on peligrosos (Reglamen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 (temas centrales reglamento)</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Que residuos son peligrosos o n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istado de residuos resultantes o generados de determinados procesos (art. 18, lista I).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istado de constituyentes que lo hacen peligrosos (art. 18 lista II).</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ategorías de residuos (lista III).</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siduos señalados en Lista A del art. 90 se presume que son peligros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siduos incluídos en la Lista B, art 90 no son peligrosos.</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 (temas centrales reglamento)</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MANDA LA CARACTERIZACION DEL RESIDUO(art.19):</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o obstante estar en los listados si mediante los test respectivo se prueba que no concurre ninguna de las caract, de peligrosidad: NO ES PELIGROSO</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Viceversa: Si no está en ninguno de los listados pero en los test respectivo se prueba que es peligroso: ES PELIGROSO.</a:t>
            </a: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Residuo o desecho</a:t>
            </a:r>
            <a:endParaRPr b="0" lang="en-US" sz="48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ualquier substancia u objeto del cual se desprenda su poseedor o tenga la obligación de desprenderse en virtud de las disposiciones nacionales en vigor ; </a:t>
            </a:r>
            <a:r>
              <a:rPr b="0" lang="es-ES" sz="3200" spc="-1" strike="noStrike">
                <a:solidFill>
                  <a:srgbClr val="000000"/>
                </a:solidFill>
                <a:latin typeface="Tahoma"/>
              </a:rPr>
              <a:t>Unión Europea: Directiva Relativa a los residuos 75/442/CEE</a:t>
            </a:r>
            <a:br>
              <a:rPr sz="3200"/>
            </a:br>
            <a:r>
              <a:rPr b="0" lang="en-GB" sz="3200" spc="-1" strike="noStrike">
                <a:solidFill>
                  <a:srgbClr val="000000"/>
                </a:solidFill>
                <a:latin typeface="Tahoma"/>
              </a:rPr>
              <a: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 (temas centrales reglamento)</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lan de manejo:</a:t>
            </a:r>
            <a:r>
              <a:rPr b="0" lang="es-CL" sz="2800" spc="-1" strike="noStrike">
                <a:solidFill>
                  <a:srgbClr val="000000"/>
                </a:solidFill>
                <a:latin typeface="Arial"/>
                <a:ea typeface="Arial"/>
              </a:rPr>
              <a:t>instalaciones, establecimientos o actividades que anualmente den origen a más de 12 kilogramos de residuos tóxicos agudos o a más de 12 toneladas de residuos peligrosos que presenten cualquier otra característica de peligrosidad deberán presentarlo </a:t>
            </a:r>
            <a:r>
              <a:rPr b="0" lang="es-ES" sz="2800" spc="-1" strike="noStrike">
                <a:solidFill>
                  <a:srgbClr val="000000"/>
                </a:solidFill>
                <a:latin typeface="Arial"/>
                <a:ea typeface="Arial"/>
              </a:rPr>
              <a:t>a aut. Sanitaria (no hay autorización).</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istema de seguimiento de residuos: generador, transportista y empresa que dispone (formular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 (temas centrales reglamento)</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utorizacion sanitaria:</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stalaciones de Almacenamiento.</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stalaciones de eliminación: Reciclaje; Relleno de seguridad; incineración; eliminación en minas subterráneas;eliminación de residuos especiales. </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formación a Autoridad sanitaria: re-us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 (temas centrales reglamento)</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Regla general: NO Dilució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n caso de mezcla de residuos peligrosos con no peligrosos; todo se trata como peligros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No existe normativa que genere conductas adecuadas de parte de los generadores. </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minimización</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huso</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ciclaje</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isposición controlada</a:t>
            </a:r>
            <a:endParaRPr b="0" lang="en-US" sz="2400" spc="-1" strike="noStrike">
              <a:solidFill>
                <a:srgbClr val="000000"/>
              </a:solidFill>
              <a:latin typeface="Times New Roman"/>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A modo de ejemplo, USA tiene un sistema de excluir residuos de la categoría de peligrosos, si van a ciertos destinos, esencialmente reciclaje, y valorización, no relleno controlado.</a:t>
            </a:r>
            <a:endParaRPr b="0" lang="en-US" sz="2400" spc="-1" strike="noStrike">
              <a:solidFill>
                <a:srgbClr val="000000"/>
              </a:solidFill>
              <a:latin typeface="Times New Roman"/>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Instalaciones de tratamiento y disposición controlada de residuos</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cineradores (en Chile, uno para residuos hospitalari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Rellenos controlados (Hidronor, algunos en sector miner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stalaciones de co-incineración (hornos cementeros- celulos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Instalaciones de tratamiento y disposición controlada de residuos</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stalaciones de acondicionamiento (Bravo Energy, otras en evaluación).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mpresas recicladoras ( fundiciones de fierro, SOREPA y Alumini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Convención de Basilea:</a:t>
            </a:r>
            <a:br>
              <a:rPr sz="4400"/>
            </a:br>
            <a:r>
              <a:rPr b="0" lang="es-ES" sz="4400" spc="-1" strike="noStrike">
                <a:solidFill>
                  <a:srgbClr val="a50021"/>
                </a:solidFill>
                <a:latin typeface="Tahoma"/>
              </a:rPr>
              <a:t> </a:t>
            </a:r>
            <a:r>
              <a:rPr b="0" lang="es-ES_tradnl" sz="4400" spc="-1" strike="noStrike">
                <a:solidFill>
                  <a:srgbClr val="a50021"/>
                </a:solidFill>
                <a:latin typeface="Tahoma"/>
                <a:ea typeface="Arial"/>
              </a:rPr>
              <a:t>Transporte transfronterizo de residuos peligrosos</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l establecerse regulaciones ambientales estrictas en ciertos países, se genera un incentivo para depositar los residuos peligrosos en países que no tienen esas regulaciones, y por lo tanto se disponen en forma inadecuada en esos estados.</a:t>
            </a:r>
            <a:endParaRPr b="0" lang="en-US" sz="2800" spc="-1" strike="noStrike">
              <a:solidFill>
                <a:srgbClr val="000000"/>
              </a:solidFill>
              <a:latin typeface="Times New Roman"/>
            </a:endParaRPr>
          </a:p>
          <a:p>
            <a:pPr lvl="1" marL="735480" indent="-28296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hile, hubo varios intentos en desierto de atacama.</a:t>
            </a:r>
            <a:endParaRPr b="0" lang="en-US" sz="2400" spc="-1" strike="noStrike">
              <a:solidFill>
                <a:srgbClr val="000000"/>
              </a:solidFill>
              <a:latin typeface="Times New Roman"/>
            </a:endParaRPr>
          </a:p>
          <a:p>
            <a:pPr lvl="1" marL="735480" indent="-28296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discute si ciertos casos constituyeron ingreso de desechos peligrosos en forma velada.</a:t>
            </a:r>
            <a:endParaRPr b="0" lang="en-US" sz="2400" spc="-1" strike="noStrike">
              <a:solidFill>
                <a:srgbClr val="000000"/>
              </a:solidFill>
              <a:latin typeface="Times New Roman"/>
            </a:endParaRPr>
          </a:p>
          <a:p>
            <a:pPr lvl="1" marL="735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Convención de Basilea:</a:t>
            </a:r>
            <a:br>
              <a:rPr sz="4400"/>
            </a:br>
            <a:r>
              <a:rPr b="0" lang="es-ES" sz="4400" spc="-1" strike="noStrike">
                <a:solidFill>
                  <a:srgbClr val="a50021"/>
                </a:solidFill>
                <a:latin typeface="Tahoma"/>
              </a:rPr>
              <a:t> </a:t>
            </a:r>
            <a:r>
              <a:rPr b="0" lang="es-ES_tradnl" sz="4400" spc="-1" strike="noStrike">
                <a:solidFill>
                  <a:srgbClr val="a50021"/>
                </a:solidFill>
                <a:latin typeface="Tahoma"/>
                <a:ea typeface="Arial"/>
              </a:rPr>
              <a:t>Transporte transfronterizo de residuos peligrosos</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ición de desecho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or "desechos" se entienden las sustancias u objetos a cuya eliminación se procede, se propone proceder o se está</a:t>
            </a:r>
            <a:r>
              <a:rPr b="0" lang="es-ES" sz="2000" spc="-1" strike="noStrike">
                <a:solidFill>
                  <a:srgbClr val="000000"/>
                </a:solidFill>
                <a:latin typeface="Tahoma"/>
              </a:rPr>
              <a:t> </a:t>
            </a:r>
            <a:r>
              <a:rPr b="0" lang="en-GB" sz="2000" spc="-1" strike="noStrike">
                <a:solidFill>
                  <a:srgbClr val="000000"/>
                </a:solidFill>
                <a:latin typeface="Tahoma"/>
              </a:rPr>
              <a:t>obligado a proceder en virtud de lo dispuesto en la </a:t>
            </a:r>
            <a:r>
              <a:rPr b="0" lang="es-ES" sz="2000" spc="-1" strike="noStrike">
                <a:solidFill>
                  <a:srgbClr val="000000"/>
                </a:solidFill>
                <a:latin typeface="Tahoma"/>
              </a:rPr>
              <a:t> </a:t>
            </a:r>
            <a:r>
              <a:rPr b="0" lang="en-GB" sz="2000" spc="-1" strike="noStrike">
                <a:solidFill>
                  <a:srgbClr val="000000"/>
                </a:solidFill>
                <a:latin typeface="Tahoma"/>
              </a:rPr>
              <a:t>legislación nacional.</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s-ES" sz="2000" spc="-1" strike="noStrike">
                <a:solidFill>
                  <a:srgbClr val="000000"/>
                </a:solidFill>
                <a:latin typeface="Tahoma"/>
              </a:rPr>
              <a:t>Desechos listatos en anexo A, salvo que no contengan carácterísticas de anexo III.</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sechos no incluídos en anexo A, pero que sean considerados residuos peligrosos por la legislación del respectivo paí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sechos inclúidos en anexo B, y que sean objeto de transpote transfronteriz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Convención de Basilea:</a:t>
            </a:r>
            <a:br>
              <a:rPr sz="4400"/>
            </a:br>
            <a:r>
              <a:rPr b="0" lang="es-ES" sz="4400" spc="-1" strike="noStrike">
                <a:solidFill>
                  <a:srgbClr val="a50021"/>
                </a:solidFill>
                <a:latin typeface="Tahoma"/>
              </a:rPr>
              <a:t> </a:t>
            </a:r>
            <a:r>
              <a:rPr b="0" lang="es-ES_tradnl" sz="4400" spc="-1" strike="noStrike">
                <a:solidFill>
                  <a:srgbClr val="a50021"/>
                </a:solidFill>
                <a:latin typeface="Tahoma"/>
                <a:ea typeface="Arial"/>
              </a:rPr>
              <a:t>Transporte transfronterizo de residuos peligrosos</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fontScale="90000"/>
          </a:bodyPr>
          <a:p>
            <a:pPr lvl="1" marL="668520" indent="-25704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Arial"/>
              </a:rPr>
              <a:t>Criterio básico, que se traten donde se generan.</a:t>
            </a:r>
            <a:endParaRPr b="0" lang="en-US" sz="2400" spc="-1" strike="noStrike">
              <a:solidFill>
                <a:srgbClr val="000000"/>
              </a:solidFill>
              <a:latin typeface="Times New Roman"/>
            </a:endParaRPr>
          </a:p>
          <a:p>
            <a:pPr lvl="1" marL="668520" indent="-25704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Arial"/>
              </a:rPr>
              <a:t>Un país puede prohibir el ingreso de residuos peligrosos.</a:t>
            </a:r>
            <a:endParaRPr b="0" lang="en-US" sz="2400" spc="-1" strike="noStrike">
              <a:solidFill>
                <a:srgbClr val="000000"/>
              </a:solidFill>
              <a:latin typeface="Times New Roman"/>
            </a:endParaRPr>
          </a:p>
          <a:p>
            <a:pPr lvl="1" marL="668520" indent="-25704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otificación previa a pais receptor y paises de tránsito.</a:t>
            </a:r>
            <a:endParaRPr b="0" lang="en-US" sz="2400" spc="-1" strike="noStrike">
              <a:solidFill>
                <a:srgbClr val="000000"/>
              </a:solidFill>
              <a:latin typeface="Times New Roman"/>
            </a:endParaRPr>
          </a:p>
          <a:p>
            <a:pPr lvl="1" marL="668520" indent="-25704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ceptación de país receptor y países en tránsito.</a:t>
            </a:r>
            <a:endParaRPr b="0" lang="en-US" sz="2400" spc="-1" strike="noStrike">
              <a:solidFill>
                <a:srgbClr val="000000"/>
              </a:solidFill>
              <a:latin typeface="Times New Roman"/>
            </a:endParaRPr>
          </a:p>
          <a:p>
            <a:pPr lvl="1" marL="668520" indent="-25704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ben existir instalaciones autorizadas adecuadas para el tratamiento y disposición de residuos.</a:t>
            </a:r>
            <a:endParaRPr b="0" lang="en-US" sz="2400" spc="-1" strike="noStrike">
              <a:solidFill>
                <a:srgbClr val="000000"/>
              </a:solidFill>
              <a:latin typeface="Times New Roman"/>
            </a:endParaRPr>
          </a:p>
          <a:p>
            <a:pPr lvl="1" marL="668520" indent="-25704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ólo se pueden exportar entre países signatarios, salvo acuerdos bilaterales entre países ( ej. Unión Europea, EUA y Canadá).</a:t>
            </a:r>
            <a:endParaRPr b="0" lang="en-US" sz="2400" spc="-1" strike="noStrike">
              <a:solidFill>
                <a:srgbClr val="000000"/>
              </a:solidFill>
              <a:latin typeface="Times New Roman"/>
            </a:endParaRPr>
          </a:p>
          <a:p>
            <a:pPr lvl="1" marL="6685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a50021"/>
                </a:solidFill>
                <a:latin typeface="Tahoma"/>
                <a:ea typeface="Arial"/>
              </a:rPr>
              <a:t>Problemas residuos</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etendo construir una instalación que recibirá circuitos electrónicos desde Chile y el exterior ( que debe hacerse para solicitarla).</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Genero residuos industriales, quiero disponerlos en mis instalaciones.</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 centro comercial genera 1000 kilos de residuos día, quien es el responsable.</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i empresa genera un residuo industrial, como defino si es peligroso o n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Residuo o desecho</a:t>
            </a:r>
            <a:endParaRPr b="0" lang="en-US" sz="48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ustancia, elemento u objeto que el generador elemina, se propone eliminar o está obligado a eliminar (Reglamento Residuos Peligrosos D.S. 148 2003 Min. Salud).</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Tipos de residuos sólidos</a:t>
            </a:r>
            <a:endParaRPr b="0" lang="en-US" sz="48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gún su origen:</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omiciliarios: basuras o desperdicios sólidos generados en viviendas y en establecimientos tales como edificios habitacionales, locales comerciales, locales de expendio de alimentos, hoteles, establecimientos educacionales y cárceles (borrador reglamento rellenos sanitarios).</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dustriales: ( tienen su origen en actividades industriales).</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Hospitalarios</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nstru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Tipos de residuos sólidos</a:t>
            </a:r>
            <a:endParaRPr b="0" lang="en-US" sz="48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gún sus características de peligrosidad:</a:t>
            </a:r>
            <a:endParaRPr b="0" lang="en-US" sz="2000" spc="-1" strike="noStrike">
              <a:solidFill>
                <a:srgbClr val="000000"/>
              </a:solidFill>
              <a:latin typeface="Times New Roman"/>
            </a:endParaRPr>
          </a:p>
          <a:p>
            <a:pPr lvl="1" marL="705600" indent="-2714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eligrosos; residuo o mezcla de residuos que puede presentar riesgo para la salud pública o el medio ambiente, ya sea directamente o debido a su manejo actual o previsto, como consecuencia de presentar alguna de las siguientes carrcterísticas: </a:t>
            </a:r>
            <a:endParaRPr b="0" lang="en-US" sz="2000" spc="-1" strike="noStrike">
              <a:solidFill>
                <a:srgbClr val="000000"/>
              </a:solidFill>
              <a:latin typeface="Times New Roman"/>
            </a:endParaRPr>
          </a:p>
          <a:p>
            <a:pPr lvl="3" marL="1519920" indent="-217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oxicidad aguda; toxicidad crónica, toxicidad extrínsica, inflamabilidad, reactividad y corrosividad. ( Reglamento sanitario de residuos peligrosos).</a:t>
            </a:r>
            <a:endParaRPr b="0" lang="en-US" sz="2000" spc="-1" strike="noStrike">
              <a:solidFill>
                <a:srgbClr val="000000"/>
              </a:solidFill>
              <a:latin typeface="Times New Roman"/>
            </a:endParaRPr>
          </a:p>
          <a:p>
            <a:pPr lvl="1" marL="705600" indent="-2714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No Peligrosos: no presentan las señaladas carecterísticas.</a:t>
            </a:r>
            <a:endParaRPr b="0" lang="en-US" sz="2000" spc="-1" strike="noStrike">
              <a:solidFill>
                <a:srgbClr val="000000"/>
              </a:solidFill>
              <a:latin typeface="Times New Roman"/>
            </a:endParaRPr>
          </a:p>
          <a:p>
            <a:pPr lvl="1" marL="705600" indent="-2714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ertes: no presentan transformaciones físicas o químicas o biológicas significativas. ( U.E.1999/31/CE, relativa al vertimiento de residu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Residuos domiciliarios</a:t>
            </a:r>
            <a:endParaRPr b="0" lang="en-US" sz="48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Municipios: Responsabilidad Retiro, transporte (transferencia) y disposición; limpieza y condiciones de seguridad de sitios públicos, de tránsito y recreo; velar cumplimiento de disposiciones sobre higiene de la Organanza Gral de Urba. Y Construcciones). Limpieza de canales y asequías, etc. (art. 7 Código Sanitario) y Ley Org. De Municipalidades (aseo y ornato de la comuna).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Ministerio de Interior y Salud pueden reglamentar estableciendo obligaciones y servicios mínim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Residuos domiciliarios</a:t>
            </a:r>
            <a:endParaRPr b="0" lang="en-US" sz="48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Facultades extraordinarias (art. 13 Código Sanitario): </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n caso de negligencia grave de una municipalidad en el cumplimiento de sus obligaciones sanitarias específicas, sin perjuicio de los establecido en el artículo 165, el Presidente de la República podrá transferir por períodos que no excedan de dos años, el cumplimiento de tales obligaciones al Servicio Nacional de Salud, a costa de la municipalidad respectiva, con acuerdo previo del Ministerio del Interi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a50021"/>
                </a:solidFill>
                <a:latin typeface="Tahoma"/>
              </a:rPr>
              <a:t>Residuos domiciliarios: Tarifas ( arts. 6,7,8 y 9 Ley de Rentas Municip.)</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ueden diferenciar el cobro en función de programas de reciclaje</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be cobrar por el servicio por cada vivienda o unidad de vivienda o unidad habitacional, local, oficina, kiosko y sitio eriazo, salvo excepciones:  </a:t>
            </a:r>
            <a:endParaRPr b="0" lang="en-US" sz="2400" spc="-1" strike="noStrike">
              <a:solidFill>
                <a:srgbClr val="000000"/>
              </a:solidFill>
              <a:latin typeface="Times New Roman"/>
            </a:endParaRPr>
          </a:p>
          <a:p>
            <a:pPr lvl="2" marL="1074240" indent="-2145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valuo fiscal inferior a 25 UTM, exentos.</a:t>
            </a:r>
            <a:endParaRPr b="0" lang="en-US" sz="1800" spc="-1" strike="noStrike">
              <a:solidFill>
                <a:srgbClr val="000000"/>
              </a:solidFill>
              <a:latin typeface="Times New Roman"/>
            </a:endParaRPr>
          </a:p>
          <a:p>
            <a:pPr lvl="2" marL="1074240" indent="-2145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unicipios a su cargo pueden rebajar una proporción o la totalidad del pago en atención a condiciones socioecómicas.</a:t>
            </a:r>
            <a:endParaRPr b="0" lang="en-US" sz="1800" spc="-1" strike="noStrike">
              <a:solidFill>
                <a:srgbClr val="000000"/>
              </a:solidFill>
              <a:latin typeface="Times New Roman"/>
            </a:endParaRPr>
          </a:p>
          <a:p>
            <a:pPr lvl="2" marL="1074240" indent="-2145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nsidera los costos fijos y variables del municipio.</a:t>
            </a:r>
            <a:endParaRPr b="0" lang="en-US" sz="1800" spc="-1" strike="noStrike">
              <a:solidFill>
                <a:srgbClr val="000000"/>
              </a:solidFill>
              <a:latin typeface="Times New Roman"/>
            </a:endParaRPr>
          </a:p>
          <a:p>
            <a:pPr lvl="2" marL="1074240" indent="-2145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rresponde pagar al dueño o ocupante de la propiedad,  propiedad sin perjuicio de la responsabilidad que afecte al dueño.</a:t>
            </a:r>
            <a:endParaRPr b="0" lang="en-US" sz="1800" spc="-1" strike="noStrike">
              <a:solidFill>
                <a:srgbClr val="000000"/>
              </a:solidFill>
              <a:latin typeface="Times New Roman"/>
            </a:endParaRPr>
          </a:p>
          <a:p>
            <a:pPr lvl="2" marL="1074240" indent="-2145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unicipios pueden cobrar por sí solos, contratar a terceros o convenios con S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a50021"/>
                </a:solidFill>
                <a:latin typeface="Tahoma"/>
              </a:rPr>
              <a:t>Residuos domiciliarios: Tarifas ( arts. 6,7,8 y 9 Ley de Rentas Municip.)</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orresponde a la extracción usual y ordinaria: las que no sobrepasan un volumen de 60 litros de residuos domiciliarios de promedio diario. </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os que generan más de cantidad, no son responsabilidad de los municipios (particulares). El municipio puede fijar para ellos un monto especial por cobrar si provee el servicio.</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Estos particulares pueden optar por ejecutar la extracción por sí mismos o contratar los servicios a un terce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vergara</cp:lastModifiedBy>
  <dcterms:modified xsi:type="dcterms:W3CDTF">2004-10-13T17:17:27Z</dcterms:modified>
  <cp:revision>63</cp:revision>
  <dc:subject/>
  <dc:title>PowerPoint Presentation</dc:title>
</cp:coreProperties>
</file>