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94462-6BF4-4ED1-9E9D-B90E1B9F5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A943-94E5-4A00-B25E-AD2334FED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6DC22-8DF8-461F-885B-6C7638C4D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31C5D-CA85-4F02-9C88-0FBB4DBB4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47BB1-8C92-43DE-9BC2-C2F7D907C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B13BF-D7BD-4DC1-86EC-43B88BF0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B0349-0594-49FD-80C0-E000BF9B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73BD3-5AAB-4E01-8DCD-A6072D77C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B043-B887-4258-9C42-2C81D82F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7D686-754F-418D-BF49-BE16AD95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C39D-BF24-4533-805B-3C86ACC0E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B8B28-BE23-466D-92EC-E4B1E94A8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3D0E-8056-4A16-95A6-F436D4079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iduos Sólid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autorizaciones</a:t>
            </a:r>
            <a:endParaRPr b="0" lang="en-US" sz="4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o lugar de disposición, almacenamiento o comercialización debe contar con autorización sanitaria ( C. Sanitari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_tradnl" sz="2800" spc="-1" strike="noStrike">
                <a:solidFill>
                  <a:srgbClr val="000000"/>
                </a:solidFill>
                <a:latin typeface="Univers"/>
                <a:ea typeface="Times New Roman"/>
              </a:rPr>
              <a:t>Plantas de tratamiento y/o disposición de residuos sólidos de origen domiciliario, rellenos sanitarios y estaciones de transferencia que atiendan a una población igual o mayor a cinco mil (5.000) habitantes;</a:t>
            </a:r>
            <a:r>
              <a:rPr b="0" lang="en-GB" sz="2800" spc="-1" strike="noStrike">
                <a:solidFill>
                  <a:srgbClr val="000000"/>
                </a:solidFill>
                <a:latin typeface="Tahoma"/>
              </a:rPr>
              <a:t> </a:t>
            </a:r>
            <a:r>
              <a:rPr b="0" lang="es-ES" sz="2800" spc="-1" strike="noStrike">
                <a:solidFill>
                  <a:srgbClr val="000000"/>
                </a:solidFill>
                <a:latin typeface="Tahoma"/>
              </a:rPr>
              <a:t>( art. 3 letra o.5 Reg. SE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temas complejos</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tarifario: conceptualmente deficitari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co regulatorio: No genera suficientes incentivos respecto de conductas apropiad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regulación de la actividad como Servicio Público (quienes pueden desarrollar la actividad, derechos y deberes de los prestadores, regimen tributario, definición de tarifas que se pueden cobrar, criterios de rentabilidad para fijar tarif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ímite de responsabilidad del municipio en caso de externalizar el servicio (hasta donde lle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iduos Industrial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macenamiento y disposición en predio del generador requiere autorización sanitario (D.S. Nº594 Min. Salu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osición fuera del sitio de la industria requiere autorización sanitaria (D.S. Nº594 Min. Salud).</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ponsabilidad es del gener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Se Somete a S.E.I.A. (proyecto de saneamiento ambiental). COREMA sanciona a quienes infringen condiciones de resolución aprobatoria.</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zación sanitaria.</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Se ha cofigurado regimen general fundado en autorizaciones para residuos no peligrosos, y regimen legal especial para residuos peligro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dad sanitaria fiscaliza y sanciona a quienes disponen o tratan sin autorización (Código Sanitari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R.M. Resolución SESMA sobre seguimiento de residuos ( resolución 5081).</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clásico: De la cuna a la tumba</a:t>
            </a:r>
            <a:endParaRPr b="0" lang="en-US" sz="32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ríticas: debe en algún minuto cortarse el vinculo entre generador y residuo, cuando.</a:t>
            </a:r>
            <a:endParaRPr b="0" lang="en-US" sz="28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nuestro sistema no está consagrado, sin perjuicio de la obtención de la respectiva autorización sanitaria para disponer fuera del pr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16 junio de 2004 se public</a:t>
            </a:r>
            <a:r>
              <a:rPr b="0" lang="es-CL" sz="3200" spc="-1" strike="noStrike">
                <a:solidFill>
                  <a:srgbClr val="000000"/>
                </a:solidFill>
                <a:latin typeface="Tahoma"/>
              </a:rPr>
              <a:t>ó Reglamento Sanitario sobre Manejo de Residuos Peligrosos. D.S. N°148 del año 200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cuentra en etapa de elaboración norma de incineración y co-incineración (para residuos peligrosos y no peligro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mera pregunt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residuos: </a:t>
            </a:r>
            <a:r>
              <a:rPr b="0" lang="es-ES" sz="2800" spc="-1" strike="noStrike">
                <a:solidFill>
                  <a:srgbClr val="000000"/>
                </a:solidFill>
                <a:latin typeface="Tahoma"/>
              </a:rPr>
              <a:t>Sustancia, elemento u objeto que el generador elemina, se propone eliminar o está obligado a eliminar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gunda pregunt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peligrosos (Regla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Que residuos son peligrosos o n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residuos resultantes o generados de determinados procesos (art. 18, lista I).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constituyentes que lo hacen peligrosos (art. 18 lista 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egorías de residuos (lista I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señalados en Lista A del art. 90 se presume que son peligro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incluídos en la Lista B, art 90 no son peligroso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ANDA LA CARACTERIZACION DEL RESIDUO(art.19):</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obstante estar en los listados si mediante los test respectivo se prueba que no concurre ninguna de las caract, de peligrosidad: NO ES PELIGROS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iceversa: Si no está en ninguno de los listados pero en los test respectivo se prueba que es peligroso: ES PELIGROSO.</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alquier substancia u objeto del cual se desprenda su poseedor o tenga la obligación de desprenderse en virtud de las disposiciones nacionales en vigor ; </a:t>
            </a:r>
            <a:r>
              <a:rPr b="0" lang="es-ES" sz="3200" spc="-1" strike="noStrike">
                <a:solidFill>
                  <a:srgbClr val="000000"/>
                </a:solidFill>
                <a:latin typeface="Tahoma"/>
              </a:rPr>
              <a:t>Unión Europea: Directiva Relativa a los residuos 75/442/CEE</a:t>
            </a:r>
            <a:br>
              <a:rPr sz="3200"/>
            </a:br>
            <a:r>
              <a:rPr b="0" lang="en-GB" sz="3200" spc="-1" strike="noStrike">
                <a:solidFill>
                  <a:srgbClr val="000000"/>
                </a:solidFill>
                <a:latin typeface="Tahom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de manejo:</a:t>
            </a:r>
            <a:r>
              <a:rPr b="0" lang="es-CL" sz="2800" spc="-1" strike="noStrike">
                <a:solidFill>
                  <a:srgbClr val="000000"/>
                </a:solidFill>
                <a:latin typeface="Arial"/>
                <a:ea typeface="Arial"/>
              </a:rPr>
              <a:t>instalaciones, establecimientos o actividades que anualmente den origen a más de 12 kilogramos de residuos tóxicos agudos o a más de 12 toneladas de residuos peligrosos que presenten cualquier otra característica de peligrosidad deberán presentarlo </a:t>
            </a:r>
            <a:r>
              <a:rPr b="0" lang="es-ES" sz="2800" spc="-1" strike="noStrike">
                <a:solidFill>
                  <a:srgbClr val="000000"/>
                </a:solidFill>
                <a:latin typeface="Arial"/>
                <a:ea typeface="Arial"/>
              </a:rPr>
              <a:t>a aut. Sanitaria (no hay autorizació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de seguimiento de residuos: generador, transportista y empresa que dispone (formul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rizacion sanitari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Almacenamient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eliminación: Reciclaje; Relleno de seguridad; incineración; eliminación en minas subterráneas;eliminación de residuos especiale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a Autoridad sanitaria: re-u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gla general: NO Dilu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caso de mezcla de residuos peligrosos con no peligrosos; todo se trata como peligr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normativa que genere conductas adecuadas de parte de los generadores.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mizació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huso</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iclaje</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sposición controlada</a:t>
            </a:r>
            <a:endParaRPr b="0" lang="en-US" sz="24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modo de ejemplo, USA tiene un sistema de excluir residuos de la categoría de peligrosos, si van a ciertos destinos, esencialmente reciclaje, y valorización, no relleno controlado.</a:t>
            </a:r>
            <a:endParaRPr b="0" lang="en-US" sz="2400" spc="-1" strike="noStrike">
              <a:solidFill>
                <a:srgbClr val="000000"/>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cineradores (en Chile, uno para residuos hospitalar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llenos controlados (Hidronor, algunos en sector miner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co-incineración (hornos cementeros- celulos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acondicionamiento (Bravo Energy, otras en evaluació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s recicladoras ( fundiciones de fierro, SOREPA y Alumin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 establecerse regulaciones ambientales estrictas en ciertos países, se genera un incentivo para depositar los residuos peligrosos en países que no tienen esas regulaciones, y por lo tanto se disponen en forma inadecuada en esos estados.</a:t>
            </a:r>
            <a:endParaRPr b="0" lang="en-US" sz="28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hile, hubo varios intentos en desierto de atacama.</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iscute si ciertos casos constituyeron ingreso de desechos peligrosos en forma velada.</a:t>
            </a:r>
            <a:endParaRPr b="0" lang="en-US" sz="2400" spc="-1" strike="noStrike">
              <a:solidFill>
                <a:srgbClr val="000000"/>
              </a:solidFill>
              <a:latin typeface="Times New Roman"/>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ción de des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 "desechos" se entienden las sustancias u objetos a cuya eliminación se procede, se propone proceder o se está</a:t>
            </a:r>
            <a:r>
              <a:rPr b="0" lang="es-ES" sz="2000" spc="-1" strike="noStrike">
                <a:solidFill>
                  <a:srgbClr val="000000"/>
                </a:solidFill>
                <a:latin typeface="Tahoma"/>
              </a:rPr>
              <a:t> </a:t>
            </a:r>
            <a:r>
              <a:rPr b="0" lang="en-GB" sz="2000" spc="-1" strike="noStrike">
                <a:solidFill>
                  <a:srgbClr val="000000"/>
                </a:solidFill>
                <a:latin typeface="Tahoma"/>
              </a:rPr>
              <a:t>obligado a proceder en virtud de lo dispuesto en la </a:t>
            </a:r>
            <a:r>
              <a:rPr b="0" lang="es-ES" sz="2000" spc="-1" strike="noStrike">
                <a:solidFill>
                  <a:srgbClr val="000000"/>
                </a:solidFill>
                <a:latin typeface="Tahoma"/>
              </a:rPr>
              <a:t> </a:t>
            </a:r>
            <a:r>
              <a:rPr b="0" lang="en-GB" sz="2000" spc="-1" strike="noStrike">
                <a:solidFill>
                  <a:srgbClr val="000000"/>
                </a:solidFill>
                <a:latin typeface="Tahoma"/>
              </a:rPr>
              <a:t>legislación nacio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s-ES" sz="2000" spc="-1" strike="noStrike">
                <a:solidFill>
                  <a:srgbClr val="000000"/>
                </a:solidFill>
                <a:latin typeface="Tahoma"/>
              </a:rPr>
              <a:t>Desechos listatos en anexo A, salvo que no contengan carácterísticas de anexo II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no incluídos en anexo A, pero que sean considerados residuos peligrosos por la legislación del respectivo paí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inclúidos en anexo B, y que sean objeto de transpote transfronteri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0000"/>
          </a:bodyPr>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Criterio básico, que se traten donde se generan.</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Un país puede prohibir el ingreso de residuos peligros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ificación previa a pais receptor y paises de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eptación de país receptor y países en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n existir instalaciones autorizadas adecuadas para el tratamiento y disposición de residu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ólo se pueden exportar entre países signatarios, salvo acuerdos bilaterales entre países ( ej. Unión Europea, EUA y Canadá).</a:t>
            </a:r>
            <a:endParaRPr b="0" lang="en-US" sz="2400" spc="-1" strike="noStrike">
              <a:solidFill>
                <a:srgbClr val="000000"/>
              </a:solidFill>
              <a:latin typeface="Times New Roman"/>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ea typeface="Arial"/>
              </a:rPr>
              <a:t>Problemas residu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tendo construir una instalación que recibirá circuitos electrónicos desde Chile y el exterior ( que debe hacerse para solicitarla).</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enero residuos industriales, quiero disponerlos en mis instalaciones.</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centro comercial genera 1000 kilos de residuos día, quien es el responsabl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i empresa genera un residuo industrial, como defino si es peligroso o 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stancia, elemento u objeto que el generador elemina, se propone eliminar o está obligado a eliminar (Reglamento Residuos Peligrosos D.S. 148 2003 Min. Salu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 su orige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miciliarios: basuras o desperdicios sólidos generados en viviendas y en establecimientos tales como edificios habitacionales, locales comerciales, locales de expendio de alimentos, hoteles, establecimientos educacionales y cárceles (borrador reglamento rellenos sanit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ustriales: ( tienen su origen en actividades industrial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spital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ún sus características de peligrosidad:</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ligrosos; residuo o mezcla de residuos que puede presentar riesgo para la salud pública o el medio ambiente, ya sea directamente o debido a su manejo actual o previsto, como consecuencia de presentar alguna de las siguientes carrcterísticas: </a:t>
            </a:r>
            <a:endParaRPr b="0" lang="en-US" sz="2000" spc="-1" strike="noStrike">
              <a:solidFill>
                <a:srgbClr val="000000"/>
              </a:solidFill>
              <a:latin typeface="Times New Roman"/>
            </a:endParaRPr>
          </a:p>
          <a:p>
            <a:pPr lvl="3" marL="151992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oxicidad aguda; toxicidad crónica, toxicidad extrínsica, inflamabilidad, reactividad y corrosividad. ( Reglamento sanitario de residuos peligroso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Peligrosos: no presentan las señaladas carecterística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ertes: no presentan transformaciones físicas o químicas o biológicas significativas. ( U.E.1999/31/CE, relativa al vertimiento de residu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unicipios: Responsabilidad Retiro, transporte (transferencia) y disposición; limpieza y condiciones de seguridad de sitios públicos, de tránsito y recreo; velar cumplimiento de disposiciones sobre higiene de la Organanza Gral de Urba. Y Construcciones). Limpieza de canales y asequías, etc. (art. 7 Código Sanitario) y Ley Org. De Municipalidades (aseo y ornato de la comu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sterio de Interior y Salud pueden reglamentar estableciendo obligaciones y servicios mínim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ultades extraordinarias (art. 13 Código Sanitario):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caso de negligencia grave de una municipalidad en el cumplimiento de sus obligaciones sanitarias específicas, sin perjuicio de los establecido en el artículo 165, el Presidente de la República podrá transferir por períodos que no excedan de dos años, el cumplimiento de tales obligaciones al Servicio Nacional de Salud, a costa de la municipalidad respectiva, con acuerdo previo del Ministerio del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n diferenciar el cobro en función de programas de reciclaj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cobrar por el servicio por cada vivienda o unidad de vivienda o unidad habitacional, local, oficina, kiosko y sitio eriazo, salvo excepciones:  </a:t>
            </a:r>
            <a:endParaRPr b="0" lang="en-US" sz="24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luo fiscal inferior a 25 UTM, exento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a su cargo pueden rebajar una proporción o la totalidad del pago en atención a condiciones socioecómica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idera los costos fijos y variables del municipi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rresponde pagar al dueño o ocupante de la propiedad,  propiedad sin perjuicio de la responsabilidad que afecte al dueñ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pueden cobrar por sí solos, contratar a terceros o convenios con S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rresponde a la extracción usual y ordinaria: las que no sobrepasan un volumen de 60 litros de residuos domiciliarios de promedio diario.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que generan más de cantidad, no son responsabilidad de los municipios (particulares). El municipio puede fijar para ellos un monto especial por cobrar si provee el servic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os particulares pueden optar por ejecutar la extracción por sí mismos o contratar los servicios a un terc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10-13T17:17:27Z</dcterms:modified>
  <cp:revision>63</cp:revision>
  <dc:subject/>
  <dc:title>PowerPoint Presentation</dc:title>
</cp:coreProperties>
</file>