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6A0-3D4A-46F5-9A48-0676DA1F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F3D-BF57-4F30-9051-673DE14E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3CC-E591-4C1E-8C22-64514010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0B1-205B-477E-96D8-70C052C0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4E1-AFF1-441A-8E16-07B54832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48B-22FA-4B60-907B-730A5D21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0B7-A5E2-4CEE-A0E2-5F17B0B4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648-BD4B-42FC-9BC4-8386028F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759-BB89-4B3C-B708-B58DA64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CF3-5FEC-4B99-A802-F71DA3C0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357-363D-4497-83A0-5E31BF19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320-14EC-4FEB-818F-EABDAA8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95FA-769B-4608-A72A-6DBD7A41F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a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a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 (gene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general ( 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10T14:52:57Z</dcterms:modified>
  <cp:revision>46</cp:revision>
  <dc:subject/>
  <dc:title>PowerPoint Presentation</dc:title>
</cp:coreProperties>
</file>