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B1F68-3FC3-4795-9D11-F73EF86A6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38106-3888-44DB-8A2C-C352215A2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944F8-5914-4635-B7F6-B5503C4E7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72D2C-959F-4499-8E3F-B3DD4EF49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B6B0D-DEC7-473D-A03A-EFA166090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EE4BC-DFFD-4475-976B-21F3A0DA1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0A1E5-CFE4-4071-8408-92F8F984D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D622E-70C8-4AC8-BA6B-8281AF720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F644F-1C58-4855-A238-CB0CB00A9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C935-AF0C-40B2-A767-F2566E149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6C520-0C76-4154-A0C1-011859CB3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CEF77-500D-4232-906C-AB39CBA9C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23F8-1531-47BD-947D-C882EA2C0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br>
              <a:rPr sz="4400"/>
            </a:br>
            <a:r>
              <a:rPr b="0" lang="es-ES" sz="4400" spc="-1" strike="noStrike">
                <a:solidFill>
                  <a:srgbClr val="a50021"/>
                </a:solidFill>
                <a:latin typeface="Tahoma"/>
              </a:rPr>
              <a:t>Trabajo en Clas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la casa para Guardaparque, y una pequeña hosteria y miradores en el Santuario de la Naturaleza de Villa Paul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 y porque</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empresa ele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 y porque (cont.).</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4-08-27T16:04:16Z</dcterms:modified>
  <cp:revision>48</cp:revision>
  <dc:subject/>
  <dc:title>PowerPoint Presentation</dc:title>
</cp:coreProperties>
</file>