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E6301-5F12-4808-B944-05245761D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9E85F-8E26-456A-B922-3C5E9D7FD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100B9-15C3-47F4-9114-780E937AF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C4B23-AE9E-458C-8777-60AD19936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4C863-FA25-4937-9030-562F60FCA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231E2-34B1-4B2F-9F41-55416FFA2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0790D-C62B-4D9E-A994-3662A6141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5190A-252D-45B0-8097-39A94AA71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3B0CA-EC1E-4D0F-A9E0-4477997BA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2DB7E-AEF1-48A7-96F4-E32C2E8A6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36799-AEDA-440C-ACAE-368466F22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98B03-1FC0-463C-977E-5DDC6E39F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F692-B77E-4AF8-B683-792A893A6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br>
              <a:rPr sz="4400"/>
            </a:br>
            <a:r>
              <a:rPr b="0" lang="es-ES" sz="4400" spc="-1" strike="noStrike">
                <a:solidFill>
                  <a:srgbClr val="a50021"/>
                </a:solidFill>
                <a:latin typeface="Tahoma"/>
              </a:rPr>
              <a:t>Trabajo en Clas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la casa para Guardaparque, y una pequeña hosteria y miradores en el Santuario de la Naturaleza de Villa Paul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 y porque</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empresa ele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 y porque (cont.).</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4-08-27T16:04:16Z</dcterms:modified>
  <cp:revision>48</cp:revision>
  <dc:subject/>
  <dc:title>PowerPoint Presentation</dc:title>
</cp:coreProperties>
</file>