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0469C-FCB1-49B2-BFAB-879E29B8E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1EE1A-F32B-402F-B871-9715B8D78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83A25-B713-4B40-917F-E7F216F5E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3606D-4D11-4E5C-8EFC-372BD865B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A0F88-A595-4F4B-9AD6-8A8C2B7A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ED5FD-3A23-4ADB-AA6E-F2E5C3D36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0C2BC-1ECB-4356-95CC-C18A00EF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2D09-A3A3-4B6D-8E5D-98C1E353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F8411-BECC-4828-8AAF-B0376550D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5A6CA-A906-4EEC-B4F8-19787C5E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105F-1AD9-46A9-BB92-D9B9C7CA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BDF53-631E-4C0F-9999-79B68412B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9C79-79D5-4BE7-851D-421EE4DF6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br>
              <a:rPr sz="4400"/>
            </a:br>
            <a:r>
              <a:rPr b="0" lang="es-ES" sz="4400" spc="-1" strike="noStrike">
                <a:solidFill>
                  <a:srgbClr val="a50021"/>
                </a:solidFill>
                <a:latin typeface="Tahoma"/>
              </a:rPr>
              <a:t>Trabajo en Clas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 (cont.).</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4-08-27T16:04:16Z</dcterms:modified>
  <cp:revision>48</cp:revision>
  <dc:subject/>
  <dc:title>PowerPoint Presentation</dc:title>
</cp:coreProperties>
</file>