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EAC88-C8C0-42A0-910E-1D56A1749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7568-2C00-436B-A342-EA0E9BFC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E91E-7EA5-4542-8626-AD9FF2A6F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03CF0-D1BB-483A-8B7E-1B35BA973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1312-77EE-48E4-AA04-A186ECB1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7F33B-C22F-4814-9914-DEF41FF8D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A26C-9BE2-4721-8991-0330FB071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762B-F8D8-4B91-AC5D-4FDA5918C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21F5-EB6B-4144-98F1-EA4A4C4F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A784-262A-4E02-862A-D18EDD53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6F35-C02D-468C-A2EC-11AFA6CA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FAC8-1853-46FB-83F4-4784C03D6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B302-1723-472D-81D8-9FDE0E801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protección (Constitución Chilen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cciones Constitucionales para proteger el medio ambien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ualquier ecuatoriano esta legitimado para presentar quejas sobre atentados a los derechos Constitucionales ante el Tribunal Constitucion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0"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6"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8"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a quien no ejerce otros derechos (cuotas de captura pesquer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0"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22"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84000"/>
          </a:bodyPr>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16T16:22:10Z</dcterms:modified>
  <cp:revision>17</cp:revision>
  <dc:subject/>
  <dc:title>PowerPoint Presentation</dc:title>
</cp:coreProperties>
</file>