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307-B29B-458C-A09B-780AEA98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22C-2147-4B95-B2F8-13D34290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456-EA52-4C31-8289-F6956A92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013-0364-41F8-BA4E-33B1DC47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C330-6059-4B19-BE7A-69C674CB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A2AA-5D19-47E6-9105-F993CA0A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C43B-E4C4-4190-9B32-7369115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9696-E7E7-4883-A667-EC6A2BE9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8EDA-D157-49EB-AC70-8F4D978C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7011-7A7F-429C-BCE9-262C6F05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F909-7AB9-4CB7-A1FB-F90FD7A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1D5-E6FF-4D85-B5E0-CBAD3C7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B688-0828-44DE-8843-6E54201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DFC0-049A-41D1-8900-E34885A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A4DA-A3D0-492D-A636-D8147ED6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05C5-D980-4BA8-9D71-D0637DF5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2BC2-1038-4A83-AB16-0A6F4C14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290-31C0-4175-9853-53CAED1C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9F4-4CDE-4133-A24D-3903782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9B5-3790-4E1E-BE2D-19FC494E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1F2-D3FD-40FF-BC80-0422157E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8AD-9F5D-44F8-BA08-211662B3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50D-F8B2-4FCD-A5D1-336EB314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C3E-7249-44FF-9688-96B9EDD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F63A-A9E4-4C8F-AC98-0C537EC900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C527-1020-4F89-9F2C-0A3F340992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crecimiento económico es el aumento sostenido del producto en una econom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mide como el aumento d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PIB rea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n un período 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continuación veremos un modelo que permite conocer los principales determinantes del crecimiento económ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bert Solow, desarrolló un marco los principales factores que contribuyen al crecimiento económico, partiendo de una función de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l producto, es una función del stock de capital (K), del trabajo (L) y de la tecnología (T): Q = T*F(K,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a ecuación, el CE proviene de aumentos del capital, del trabajo o de progresos tecnológ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olow estableció que el crecimiento del producto (g) es igual a: dt/t + sL(dl/l) + sk(dk/k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bido a la dificultad de estimar el progreso tecnológico, éste se obtiene indirectamente a partir de la diferencia entre el crecimiento del producto y el crecimiento ponderado del trabajo y el capital. Esta diferencia se conoce como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residuo de Solow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El Modelo de Crecimiento de So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modelo de CE de Solow, toma como base la función de producción en términos per cáp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simplificar el modelo, supondremos que no hay cambios tecnológicos, de manera que el producto por trabajador (Q/L) es una función del capital por unidad de trabajo (K/L), es decir, la función de producción en términos per cápita se escribe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 = f 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una economía cerrada, el producto per cápita se puede dividir entre consumo e inversión per cápita: q = c + 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aumento de k es igual al monto de la inversión después de considerar la inversión que reemplaza el capital gastado y la inversión que contrarresta el aumento de la pobl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k = inv –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k – nk  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otras palabras, el aumento del stock de capital per cápita es igual a la inversión per cápita, menos la inversión necesaria para reemplazar el capital obsoleto y para compensar el aumento demográf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sabemos, en una economía cerrada, el ahorro es igual a la inversión, además diremos que el ahorro es una fracción “s” del ingreso (por lo tanto, 1 – s es la fracción del igreso que se gas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emplazando esta identidad en la ecuación (1) tene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k = sq – (n + δ)k    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sición de equilibrio de largo plazo de una economía se conoce como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 estacion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estado, el capital y el producto por trabajador alcanzan un valor de equilibrio y permanecen en ese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EE dk = 0, por lo tanto la ecuación (2) queda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 = (n + δ)k   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E, tanto el producto per cápita como el capital per cápita permanecen constantes (Recordar que q = f (k))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o tanto el producto total (Q), como el stock de capital total (K) crecen a la tasa 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, porque si la población crece a la tasa n, la única forma de que las variables per cápita no crezcan, es que su nivel crezca igual qu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 y evolución hacia el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 Casos: cambios en la tasa de ahorro y crecimiento d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mentos relevant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(i) aumento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no tiene efectos sobre el crecimiento de EE, sí hay efectos sobre el crecimiento per cápita en el CP y en 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las variables de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ii) Aumento de n produce caída de los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ingreso per cápita en EE (por caída de k), en cambio la tasa de crecimiento de EE es may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4:36:08Z</dcterms:created>
  <dc:creator> </dc:creator>
  <dc:description/>
  <dc:language>en-US</dc:language>
  <cp:lastModifiedBy> </cp:lastModifiedBy>
  <dcterms:modified xsi:type="dcterms:W3CDTF">2004-11-08T16:26:23Z</dcterms:modified>
  <cp:revision>750</cp:revision>
  <dc:subject/>
  <dc:title>Clase 2: Cuentas Nacionales</dc:title>
</cp:coreProperties>
</file>