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430-5005-4473-9A0B-C9801171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D5D-8C76-4329-82C9-0D9DF5FC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0CF-D2DC-4C9A-85DF-8E74D6D9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013-B360-41C9-8BBC-569199CF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BB4D-90EF-48B3-8581-F83B7C09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11F0-4BD6-4863-BB69-D0CD56C8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F4DC-1EB9-4EE2-AA1D-13D91BA3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FB1D-DAA4-4BA2-94A5-D746975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CBB6-0D57-464F-A1F5-1EB2E04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9D3E-3D0F-4886-BB64-0356A73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5E66-EEE5-4C3E-B65D-38DCC25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900-2757-4170-BA65-951FE9B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9AC-EE63-4992-B7DB-10A982F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9A1D-E8AC-40D7-A39E-4806161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D6FC-5FB6-4891-B9D4-F10B3D8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5612-94D9-4D68-8E88-5378DD3A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DAD2-325F-4988-91BD-0ACCF20A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F15-77B3-4C37-ACBA-8DF599B4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869-B0D2-4B1E-A5CE-E0B6D62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92A-3221-45D1-9A96-984CABC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291-6072-444D-8CE8-87B1C93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710-20A4-4755-B5B0-3EBCFA9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730-03A5-4C9B-8825-E73493B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89B-6649-4C70-BD99-2332B1D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181-4571-4D6D-810E-9881CC9B92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60A-6D26-4FDB-B9FB-E6F6C17165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recimiento económico es el aumento sostenido del producto en una econom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mide como el aumento d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B rea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n un períod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continuación veremos un modelo que permite conocer los principales determinantes del crecimiento econó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bert Solow, desarrolló un marco los principales factores que contribuyen al crecimiento económico, partiendo de una función de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l producto, es una función del stock de capital (K), del trabajo (L) y de la tecnología (T): Q = T*F(K,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a ecuación, el CE proviene de aumentos del capital, del trabajo o de progresos tecnológ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olow estableció que el crecimiento del producto (g) es igual a: dt/t + sL(dl/l) + sk(dk/k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bido a la dificultad de estimar el progreso tecnológico, éste se obtiene indirectamente a partir de la diferencia entre el crecimiento del producto y el crecimiento ponderado del trabajo y el capital. Esta diferencia se conoce como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residuo de Solow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El Modelo de Crecimiento de So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modelo de CE de Solow, toma como base la función de producción en términos per cá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simplificar el modelo, supondremos que no hay cambios tecnológicos, de manera que el producto por trabajador (Q/L) es una función del capital por unidad de trabajo (K/L), es decir, la función de producción en términos per cápita se escribe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 = f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una economía cerrada, el producto per cápita se puede dividir entre consumo e inversión per cápita: q = c + 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aumento de k es igual al monto de la inversión después de considerar la inversión que reemplaza el capital gastado y la inversión que contrarresta el aumento de la pobl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k = inv –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k – nk  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otras palabras, el aumento del stock de capital per cápita es igual a la inversión per cápita, menos la inversión necesaria para reemplazar el capital obsoleto y para compensar el aumento demográf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sabemos, en una economía cerrada, el ahorro es igual a la inversión, además diremos que el ahorro es una fracción “s” del ingreso (por lo tanto, 1 – s es la fracción del igreso que se ga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emplazando esta identidad en la ecuación (1) ten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k = sq – (n + δ)k    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sición de equilibrio de largo plazo de una economía se conoce com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 estacion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estado, el capital y el producto por trabajador alcanzan un valor de equilibrio y permanecen en ese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EE dk = 0, por lo tanto la ecuación (2) qued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 = (n + δ)k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E, tanto el producto per cápita como el capital per cápita permanecen constantes (Recordar que q = f (k)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o tanto el producto total (Q), como el stock de capital total (K) crecen a la tasa 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, porque si la población crece a la tasa n, la única forma de que las variables per cápita no crezcan, es que su nivel crezca igual qu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 y evolución hacia el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 Casos: cambios en la tasa de ahorro y crecimiento d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os relevant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(i) aumento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no tiene efectos sobre el crecimiento de EE, sí hay efectos sobre el crecimiento per cápita en el CP y en 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las variables de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i) Aumento de n produce caída de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ingreso per cápita en EE (por caída de k), en cambio la tasa de crecimiento de EE es may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4:36:08Z</dcterms:created>
  <dc:creator> </dc:creator>
  <dc:description/>
  <dc:language>en-US</dc:language>
  <cp:lastModifiedBy> </cp:lastModifiedBy>
  <dcterms:modified xsi:type="dcterms:W3CDTF">2004-11-08T16:26:23Z</dcterms:modified>
  <cp:revision>750</cp:revision>
  <dc:subject/>
  <dc:title>Clase 2: Cuentas Nacionales</dc:title>
</cp:coreProperties>
</file>