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CBE-2B89-4D41-B41D-FC6989B8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68A-BB58-4205-9DA5-AAAB847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3CF-6891-453B-AE6E-B40590ED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E48-67E8-45E9-8354-5A477F7B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821B-FFE9-4615-A5F9-7226AC78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DCCD-0B5B-4937-AF08-6600B494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2D35-DDCA-46AF-A68C-9C985EBB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65B-65A2-4B0F-B8EF-ABEC7F4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06C-BACA-4901-AE12-EAFC5D9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6169-A8B9-4615-BAA4-6B1038E1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9D5-E74E-4B02-9006-7029926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206-6761-4BC8-85CE-664E3B0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040F-1050-4696-A9D8-3A26136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1CF-D685-4653-9A84-38FF48C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12BE-BD80-42A4-8FFC-CF6870B7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99C-6B0F-4CC9-B72C-228571B9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623-4882-4A6B-9D38-D4E8E30E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3B8-F6B2-410E-BED4-8C66A13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3E8-7645-4039-B595-DCCC33E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280-85DD-4B23-8C3D-7832D04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B10-10DA-45EF-BE89-9B0BB4A6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4C2-4146-44F9-BF0C-558113F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707-0576-4FCD-AF7A-270AFC6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527-190B-40CB-91A8-0BC7C68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DA1-EE1D-4512-84EA-5A090EAA80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63BB-1DFD-4852-B3BD-C04D665769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recimiento económico es el aumento sostenido del producto en una econom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mide como el aumento d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B rea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n un períod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continuación veremos un modelo que permite conocer los principales determinantes del crecimiento econó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bert Solow, desarrolló un marco los principales factores que contribuyen al crecimiento económico, partiendo de una función de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l producto, es una función del stock de capital (K), del trabajo (L) y de la tecnología (T): Q = T*F(K,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a ecuación, el CE proviene de aumentos del capital, del trabajo o de progresos tecnológ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olow estableció que el crecimiento del producto (g) es igual a: dt/t + sL(dl/l) + sk(dk/k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bido a la dificultad de estimar el progreso tecnológico, éste se obtiene indirectamente a partir de la diferencia entre el crecimiento del producto y el crecimiento ponderado del trabajo y el capital. Esta diferencia se conoce como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residuo de Solow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El Modelo de Crecimiento de So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modelo de CE de Solow, toma como base la función de producción en términos per cá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simplificar el modelo, supondremos que no hay cambios tecnológicos, de manera que el producto por trabajador (Q/L) es una función del capital por unidad de trabajo (K/L), es decir, la función de producción en términos per cápita se escribe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 = f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una economía cerrada, el producto per cápita se puede dividir entre consumo e inversión per cápita: q = c + 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aumento de k es igual al monto de la inversión después de considerar la inversión que reemplaza el capital gastado y la inversión que contrarresta el aumento de la pobl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k = inv –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k – nk  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otras palabras, el aumento del stock de capital per cápita es igual a la inversión per cápita, menos la inversión necesaria para reemplazar el capital obsoleto y para compensar el aumento demográf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sabemos, en una economía cerrada, el ahorro es igual a la inversión, además diremos que el ahorro es una fracción “s” del ingreso (por lo tanto, 1 – s es la fracción del igreso que se ga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emplazando esta identidad en la ecuación (1) ten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k = sq – (n + δ)k    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sición de equilibrio de largo plazo de una economía se conoce com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 estacion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estado, el capital y el producto por trabajador alcanzan un valor de equilibrio y permanecen en ese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EE dk = 0, por lo tanto la ecuación (2) qued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 = (n + δ)k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E, tanto el producto per cápita como el capital per cápita permanecen constantes (Recordar que q = f (k)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o tanto el producto total (Q), como el stock de capital total (K) crecen a la tasa 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, porque si la población crece a la tasa n, la única forma de que las variables per cápita no crezcan, es que su nivel crezca igual qu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 y evolución hacia el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 Casos: cambios en la tasa de ahorro y crecimiento d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os relevant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(i) aumento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no tiene efectos sobre el crecimiento de EE, sí hay efectos sobre el crecimiento per cápita en el CP y en 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las variables de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i) Aumento de n produce caída de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ingreso per cápita en EE (por caída de k), en cambio la tasa de crecimiento de EE es may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4:36:08Z</dcterms:created>
  <dc:creator> </dc:creator>
  <dc:description/>
  <dc:language>en-US</dc:language>
  <cp:lastModifiedBy> </cp:lastModifiedBy>
  <dcterms:modified xsi:type="dcterms:W3CDTF">2004-11-08T16:26:23Z</dcterms:modified>
  <cp:revision>750</cp:revision>
  <dc:subject/>
  <dc:title>Clase 2: Cuentas Nacionales</dc:title>
</cp:coreProperties>
</file>