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BAB36-153E-4805-9C35-965D139BF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E1D54-BB4D-419F-8270-CD8E0B1BC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0D784-1537-4192-81C6-7618F1F56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D1DC4-39E5-4681-A3D3-3346AC60E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D6B36-DF05-405D-80A1-BF23B802E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F0ABC-BEE6-4CD9-A139-47210382E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43CB5-D73E-4281-8CB1-BF3295ED9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67B69-C904-41B1-8809-3E1AF0DD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59C2C-B6CC-43ED-8CF5-ACBBF1EB3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28D4D-0E97-41D5-9401-FAB5599A8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B871-9823-41A0-ABFB-6AF8AED72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E6F3C-B469-474D-9F50-29284CB99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5AC39-9877-4E61-99EF-121746ABD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3DB7E-784B-4B84-B5DA-3FA45E1D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44541-D613-4307-B0C5-94938ADCD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1800C-6E6D-4F58-A21A-439896E5A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4A2BC-8B53-4A15-B846-D23E24325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DC8C-561D-464D-9E5B-EEE0E4C2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ED53-0E34-4C6B-B66B-49F370C2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A2F52-010B-4710-8B8C-8EBF99B5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FAF9-9FF7-4890-A8B9-DF0467F1F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CE18-73DB-4354-BD09-F419646B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60CC-B6BF-45DD-9858-BFD16D47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0C69-1C26-41DF-8038-E379248C4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3BC9-5335-422F-AE22-EFCC9AA4C8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2701-EE4A-4FA3-B7A4-62980A8FF2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56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l lado de la oferta, el aumento del gasto aumenta ésta en </a:t>
            </a:r>
            <a:r>
              <a:rPr b="0" lang="es-MX" sz="2400" spc="-1" strike="noStrike">
                <a:solidFill>
                  <a:srgbClr val="ffffff"/>
                </a:solidFill>
                <a:latin typeface="Times New Roman"/>
                <a:ea typeface="Times New Roman"/>
              </a:rPr>
              <a:t>β unidades.</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tema clave para conocer el efecto sobre la tasa de interés de equilibrio, es saber si el aumento de la demanda (1- α) es mayor o menor que el aumento de la oferta (β)</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Times New Roman"/>
                <a:ea typeface="Times New Roman"/>
              </a:rPr>
              <a:t>Es razonable suponer que α + β es menor que uno,</a:t>
            </a:r>
            <a:r>
              <a:rPr b="0" lang="es-MX" sz="2400" spc="-1" strike="noStrike">
                <a:solidFill>
                  <a:srgbClr val="ffffff"/>
                </a:solidFill>
                <a:latin typeface="Times New Roman"/>
                <a:ea typeface="Times New Roman"/>
              </a:rPr>
              <a:t> para justificar la existencia de un sector privado. En caso contrario, el beneficio que recibe el sector privado por un aumento de G, haría conveniente que el  sector público siga creciendo y esto reduciría los valores de ambos parámetro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iendo así, el aumento de la demanda agregada, supera al de la oferta y </a:t>
            </a:r>
            <a:r>
              <a:rPr b="0" lang="es-MX" sz="2000" spc="-1" strike="noStrike" u="sng">
                <a:solidFill>
                  <a:srgbClr val="ffffff"/>
                </a:solidFill>
                <a:uFillTx/>
                <a:latin typeface="Times New Roman"/>
              </a:rPr>
              <a:t>la tasa de interés de equilibrio aumenta</a:t>
            </a:r>
            <a:r>
              <a:rPr b="0" lang="es-MX" sz="2000" spc="-1" strike="noStrike">
                <a:solidFill>
                  <a:srgbClr val="ffffff"/>
                </a:solidFill>
                <a:latin typeface="Times New Roman"/>
              </a:rPr>
              <a:t>.</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te aumento se explica porque el aumento de G se financia con un aumento transitorio de los impuestos, esto reduce transitoriamente la renta, generando presiones sobre el mercado de créditos que generan este aumento de tasas.</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n conclusión, un aumento del gasto público, expulsa gasto privado tanto por el efecto sustitución como por el aumento de la tasa de interés que afecta tanto al consumo como a la inversión. </a:t>
            </a:r>
            <a:r>
              <a:rPr b="0" lang="es-MX" sz="2000" spc="-1" strike="noStrike" u="sng">
                <a:solidFill>
                  <a:srgbClr val="ffffff"/>
                </a:solidFill>
                <a:uFillTx/>
                <a:latin typeface="Times New Roman"/>
              </a:rPr>
              <a:t>Este efecto se conoce como crowding out o efecto expulsión.</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demás, vemos que la producción total aumenta menos que el gasto público, por lo que </a:t>
            </a:r>
            <a:r>
              <a:rPr b="0" lang="es-MX" sz="2000" spc="-1" strike="noStrike" u="sng">
                <a:solidFill>
                  <a:srgbClr val="ffffff"/>
                </a:solidFill>
                <a:uFillTx/>
                <a:latin typeface="Times New Roman"/>
              </a:rPr>
              <a:t>no se observa un efecto multiplicador</a:t>
            </a:r>
            <a:r>
              <a:rPr b="0" lang="es-MX" sz="2000" spc="-1" strike="noStrike">
                <a:solidFill>
                  <a:srgbClr val="ffffff"/>
                </a:solidFill>
                <a:latin typeface="Times New Roman"/>
              </a:rPr>
              <a:t> sobre la producción.</a:t>
            </a: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533160"/>
            <a:ext cx="8381880" cy="4267080"/>
          </a:xfrm>
          <a:prstGeom prst="rect">
            <a:avLst/>
          </a:prstGeom>
          <a:noFill/>
          <a:ln w="0">
            <a:noFill/>
          </a:ln>
        </p:spPr>
        <p:txBody>
          <a:bodyPr lIns="90000" rIns="90000" tIns="46800" bIns="46800" anchor="t">
            <a:normAutofit fontScale="89000"/>
          </a:bodyPr>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igual que el sector privado, el sector público tiene una restricción presupuestaria (RP), porque tiene gastos que dependen de sus ingresos.</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implificar, diremos que el gobierno gasta sólo en bienes y servicios (Gt) y en transferencias Vt/P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mplos de transferencias son las </a:t>
            </a:r>
            <a:r>
              <a:rPr b="0" lang="es-MX" sz="2400" spc="-1" strike="noStrike" u="sng">
                <a:solidFill>
                  <a:srgbClr val="ffffff"/>
                </a:solidFill>
                <a:uFillTx/>
                <a:latin typeface="Times New Roman"/>
              </a:rPr>
              <a:t>pensiones y las prestaciones sociales</a:t>
            </a:r>
            <a:r>
              <a:rPr b="0" lang="es-MX" sz="2400" spc="-1" strike="noStrike">
                <a:solidFill>
                  <a:srgbClr val="ffffff"/>
                </a:solidFill>
                <a:latin typeface="Times New Roman"/>
              </a:rPr>
              <a:t>, pero en general, son bienes y servicios que entrega el Estado a cambio de trabajo realizado o bienes producidos en años anterior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52280"/>
            <a:ext cx="8381880" cy="4267440"/>
          </a:xfrm>
          <a:prstGeom prst="rect">
            <a:avLst/>
          </a:prstGeom>
          <a:noFill/>
          <a:ln w="0">
            <a:noFill/>
          </a:ln>
        </p:spPr>
        <p:txBody>
          <a:bodyPr lIns="90000" rIns="90000" tIns="46800" bIns="46800" anchor="t">
            <a:normAutofit fontScale="86000"/>
          </a:bodyPr>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fuentes de ingreso son la emisión de dinero (Mt –Mt-1)/Pt y la recaudación y tributaria Tt/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este modo, la RP del gobierno se puede escribir como:</a:t>
            </a:r>
            <a:endParaRPr b="0" lang="en-US" sz="2400" spc="-1" strike="noStrike">
              <a:solidFill>
                <a:srgbClr val="ffffff"/>
              </a:solidFill>
              <a:latin typeface="Times New Roman"/>
            </a:endParaRPr>
          </a:p>
          <a:p>
            <a:pPr marL="294840" indent="0" algn="ctr">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t + Vt/Pt = Tt/Pt + (Mt – Mt-1)/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ahora supondremos que las obligaciones tributarias de una economía doméstica no dependen de su nivel o tipo de renta, es decir, se trata de </a:t>
            </a:r>
            <a:r>
              <a:rPr b="0" lang="es-MX" sz="2400" spc="-1" strike="noStrike" u="sng">
                <a:solidFill>
                  <a:srgbClr val="ffffff"/>
                </a:solidFill>
                <a:uFillTx/>
                <a:latin typeface="Times New Roman"/>
              </a:rPr>
              <a:t>impuestos de suma fija.</a:t>
            </a: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8000"/>
          </a:bodyPr>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gobierno usa sus compras (Gt) para prestar servicios a las ED y a las empresas.</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pondremos que el gobierno presta estos servicios gratuitamente. Nos referimos a la defensa nacional, la educación pública, las autopistas, bibliotecas, los parques, etc. </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bienes y servicios entregados por el Estado </a:t>
            </a:r>
            <a:r>
              <a:rPr b="0" lang="es-MX" sz="2400" spc="-1" strike="noStrike" u="sng">
                <a:solidFill>
                  <a:srgbClr val="ffffff"/>
                </a:solidFill>
                <a:uFillTx/>
                <a:latin typeface="Times New Roman"/>
              </a:rPr>
              <a:t>generan utilidad a las ED y por lo tanto, pueden sustituir gasto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demás, hay bienes y servicios que pueden considerarse como un </a:t>
            </a:r>
            <a:r>
              <a:rPr b="0" lang="es-MX" sz="2400" spc="-1" strike="noStrike" u="sng">
                <a:solidFill>
                  <a:srgbClr val="ffffff"/>
                </a:solidFill>
                <a:uFillTx/>
                <a:latin typeface="Times New Roman"/>
              </a:rPr>
              <a:t>factor de producción del sector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75000"/>
          </a:bodyPr>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lgunos casos estos servicios </a:t>
            </a:r>
            <a:r>
              <a:rPr b="0" lang="es-MX" sz="2400" spc="-1" strike="noStrike" u="sng">
                <a:solidFill>
                  <a:srgbClr val="ffffff"/>
                </a:solidFill>
                <a:uFillTx/>
                <a:latin typeface="Times New Roman"/>
              </a:rPr>
              <a:t>sustituyen directamente el capital y trabajo del sector privado y en otros, aumentan la productividad de dichos factores.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jemplo, carreteras, seguridad ciudadana, defensa nacional, elaboración y aplicación de leyes, etc.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los bienes y servicios públic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Generan utilidad a las ED.</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Sirven como factores de producción y/o incrementan la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productividad de los factores privad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continuación veremos los efectos del gasto público sobre el consumo y sobre el equilibrio del mercado de bienes. Éstos dependerán de si la variación es transitoria o permanente.</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Un aumento </a:t>
            </a:r>
            <a:r>
              <a:rPr b="0" lang="es-MX" sz="2400" spc="-1" strike="noStrike" u="sng">
                <a:solidFill>
                  <a:srgbClr val="ffffff"/>
                </a:solidFill>
                <a:uFillTx/>
                <a:latin typeface="Times New Roman"/>
              </a:rPr>
              <a:t>transitorio</a:t>
            </a:r>
            <a:r>
              <a:rPr b="0" lang="es-MX" sz="2400" spc="-1" strike="noStrike">
                <a:solidFill>
                  <a:srgbClr val="ffffff"/>
                </a:solidFill>
                <a:latin typeface="Times New Roman"/>
              </a:rPr>
              <a:t> del gasto se representa como un aumento de G en el período 1, pero permanece constante en los períodos siguientes. </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ejemplo más importante de un aumento transitorio del gasto lo constituyen los gastos militares, pero también pueden ser gastos excepcionales asociados a desastres climáticos, gobiernos populistas de corta duración, etc.</a:t>
            </a: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76320"/>
            <a:ext cx="8534160" cy="4267440"/>
          </a:xfrm>
          <a:prstGeom prst="rect">
            <a:avLst/>
          </a:prstGeom>
          <a:noFill/>
          <a:ln w="0">
            <a:noFill/>
          </a:ln>
        </p:spPr>
        <p:txBody>
          <a:bodyPr lIns="90000" rIns="90000" tIns="46800" bIns="46800" anchor="t">
            <a:normAutofit fontScale="86000"/>
          </a:bodyPr>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De la RP del gobierno, sabemos que un aumento de G1 implicará alguna combinación de aumento de impuestos reales, reducción de transferencias reales o aumento de los ingresos derivados de la creación de dinero.</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Supongamos que el aumento del gasto público se financia con impuestos.</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 aumento del gasto público significa un aumento de los servicios públicos de los dos tipos mencionados: los que aumentan la utilidad de los agentes, sustituyendo parte del consumo privado y los que aumentan la productividad (o sustituyen) factores productivos.</a:t>
            </a: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89000"/>
          </a:bodyPr>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por cada unidad en que aumenta el gasto de gobierno, </a:t>
            </a:r>
            <a:r>
              <a:rPr b="0" lang="es-MX" sz="2400" spc="-1" strike="noStrike" u="sng">
                <a:solidFill>
                  <a:srgbClr val="ffffff"/>
                </a:solidFill>
                <a:uFillTx/>
                <a:latin typeface="Times New Roman"/>
              </a:rPr>
              <a:t>el consumo privado disminuye en </a:t>
            </a:r>
            <a:r>
              <a:rPr b="0" lang="es-MX" sz="2400" spc="-1" strike="noStrike" u="sng">
                <a:solidFill>
                  <a:srgbClr val="ffffff"/>
                </a:solidFill>
                <a:uFillTx/>
                <a:latin typeface="Times New Roman"/>
                <a:ea typeface="Times New Roman"/>
              </a:rPr>
              <a:t>α unidade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studios empíricos para EEUU señalan que este parámetro estaría entre 0.2 y 0.4</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Usaremos el parámetro β para medir la productividad marginal de los servicios públicos. </a:t>
            </a:r>
            <a:r>
              <a:rPr b="0" lang="es-MX" sz="2400" spc="-1" strike="noStrike" u="sng">
                <a:solidFill>
                  <a:srgbClr val="ffffff"/>
                </a:solidFill>
                <a:uFillTx/>
                <a:latin typeface="Times New Roman"/>
                <a:ea typeface="Times New Roman"/>
              </a:rPr>
              <a:t>Un aumento del gasto público en una unidad genera un aumento de la producción agregada en β unidad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amos en la ecuación que muestra el equilibrio del mercado de bienes cómo intervienen estos elementos.</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hora la demanda agregada está formada por el consumo privado y el gasto de gobierno.</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 suponemos un aumento de G en una unidad, </a:t>
            </a:r>
            <a:r>
              <a:rPr b="0" lang="es-MX" sz="2400" spc="-1" strike="noStrike" u="sng">
                <a:solidFill>
                  <a:srgbClr val="ffffff"/>
                </a:solidFill>
                <a:uFillTx/>
                <a:latin typeface="Times New Roman"/>
              </a:rPr>
              <a:t>la demanda agregada aumenta en una unidad.</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ro, por el mencionado efecto sustitución de consumo privado, </a:t>
            </a:r>
            <a:r>
              <a:rPr b="0" lang="es-MX" sz="2400" spc="-1" strike="noStrike" u="sng">
                <a:solidFill>
                  <a:srgbClr val="ffffff"/>
                </a:solidFill>
                <a:uFillTx/>
                <a:latin typeface="Times New Roman"/>
              </a:rPr>
              <a:t>la demanda agregada disminuye en </a:t>
            </a:r>
            <a:r>
              <a:rPr b="0" lang="es-MX" sz="2400" spc="-1" strike="noStrike" u="sng">
                <a:solidFill>
                  <a:srgbClr val="ffffff"/>
                </a:solidFill>
                <a:uFillTx/>
                <a:latin typeface="Times New Roman"/>
                <a:ea typeface="Times New Roman"/>
              </a:rPr>
              <a:t>α unidade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4:36:08Z</dcterms:created>
  <dc:creator> </dc:creator>
  <dc:description/>
  <dc:language>en-US</dc:language>
  <cp:lastModifiedBy> </cp:lastModifiedBy>
  <dcterms:modified xsi:type="dcterms:W3CDTF">2004-09-27T17:29:43Z</dcterms:modified>
  <cp:revision>526</cp:revision>
  <dc:subject/>
  <dc:title>Clase 2: Cuentas Nacionales</dc:title>
</cp:coreProperties>
</file>