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C45-EA7E-4BE1-9A35-49913C24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7A9-EA92-4B7E-85C3-03CD1CC0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68B-E944-4436-BEDE-CFA47C9F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D65-53B7-434B-8E99-C3E9DBBF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880-EDE0-406C-9607-0DDE337E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C4B-0013-4021-9D40-6D48CF9B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A27-2692-4908-80EA-64E16245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9B9-F112-47CE-8477-0BB242EA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813-6F9E-448F-B6BC-6A3668E7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B69-3352-4B28-BD99-E87752F2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194-53CB-4E3D-B0D5-C16682BA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914-800E-47CA-9FA4-43E45DE9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5D8A-0685-43BF-9B25-1C4B129FB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9360"/>
            <a:ext cx="914400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"TITULO IV       Del Fondo de Desarrollo de las Telecomunicaciones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A.- Créase el Fondo de Desarrollo de las Telecomunicaciones, dependiente del Ministerio de Transportes y Telecomunicaciones, en adelante "el Fondo", por un período de diez años, contado desde la entrada en vigencia de esta ley,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 objeto de promover el aumento de la cobertura de los servicios de telecomunicaciones en áreas rurales y urbanas de bajos ingresos, especialmente respecto de localidadesubicadas en zonas geográficas extremas o ais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Fondo estará constituido por los aportes que se le asignen anualmente en la ley de Presupuestos delSector Público, sin perjuicio de que pueda recibir otros aportes.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B.- El Fondo será administrado por el Consejo de Desarrollo de las Telecomunicaciones, en adelante "el Consejo", integrado por el Ministro de Transportes y Telecomunicaciones, quien lo presidirá, y por los Ministros de Economía, Fomento y Reconstrucción; de Hacienda; de Planificación y Cooperación; o sus representantes, y por tres profesionales con experiencia en el área de telecomunicaciones y vinculados a las diversas regiones del país,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ue serán designados por el Presidente de la Repúbl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4640"/>
            <a:ext cx="914400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C.- La Subsecretaría de Telecomunicaciones, sobre la base de las solicitudes específicas de proyectos de telecomunicaciones que reciba, elaborará, con la debida antelación, un programa anual de proyectos subsidiables, el que pondrá a disposición del Consejo, acompañado de las evaluaciones técnico-económicas de los mismos y de sus respectivas prioridades soci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D.- El programa anual de proyectos subsidiables o licitables, mencionado en el artículo anterior, considerará los siguientes tipos de proy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eléfonos públicos o centros de llam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elecentros comunitarios de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s de Telecomunicaciones de libre recepción o de radiodifusión locales, cuyas transmisiones están destinadas a la recepción libre y directa por el público en general, sean emisiones sonoras, de televisión abierta o limitada, o de otro género, especialmente los servicios de radiodifusión de mínima cobertura...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lquier otro servicio de telecomunicaciones que beneficie directamente a la comunidad en la cual habrá de oper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6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F.- Las bases de los concursos públicos especificarán los requisitos, las características y el contenido del correspondiente proyecto, cuidando de asegurar la calidad del servicioy de garantizar la transparencia del proceso y el tratoequitativo a los participantes. En todo caso, las basesdeberán señalar, a lo menos, lo siguiente: la zona de servicio mínima; las tarifas máximas que se podrán aplicar a los usuarios de dicha zona mínima, incluidas sus cláusulas de indexación; los plazos para la ejecución de las obras y la iniciación del servicio; el monto máximo del subsidio y el tipo de emisión, tratándose de servicios de telecomunicaciones de libre recepción o de radiodifusión locales, cuyas transmisiones están destinadas a la recepción libre y directa por el público en general, incluidos los servicios de radiodifusión de mínima cobert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I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 reglamento de este Título será aprobado por decreto supremo emanado del Ministerio de Transportes y Telecomunicaciones y suscrito, además, por los Ministros de Economía, Fomento y Reconstruccióny de Hacienda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Establecerá las normas de funcionamientodel Consejo; la forma de designación y requisitos que deberán reunir los consejeros designados por el Presidente de la República; el mecanismo de nominación de los representantes de los ministros ante el Consejo;las normas a que se someterá la Subsecretaría de Telecomunicaciones en la elaboración del programa anual de proyectos subsidiables y en la evaluación técnico-económica de las proposiciones presentadas; las normas que regularán los concursos, en especial sus bases; la forma de pagar los subsidios, y toda otra norma necesaria para la adecuada operación del Fo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89400" y="4680"/>
            <a:ext cx="1768680" cy="365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13320" y="60480"/>
            <a:ext cx="12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mpresa propone 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07000" y="371520"/>
            <a:ext cx="1440" cy="18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354120" y="557280"/>
            <a:ext cx="1352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557280"/>
            <a:ext cx="144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97240" y="731880"/>
            <a:ext cx="112680" cy="982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17760" y="830160"/>
            <a:ext cx="1768320" cy="5479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5080" y="882720"/>
            <a:ext cx="11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tel o concesion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21960" y="1027080"/>
            <a:ext cx="106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icita la opinión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82680" y="117792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er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4480" y="1378080"/>
            <a:ext cx="1440" cy="179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97240" y="1554120"/>
            <a:ext cx="112680" cy="98640"/>
          </a:xfrm>
          <a:custGeom>
            <a:avLst/>
            <a:gdLst/>
            <a:ahLst/>
            <a:rect l="l" t="t" r="r" b="b"/>
            <a:pathLst>
              <a:path w="71" h="124">
                <a:moveTo>
                  <a:pt x="0" y="0"/>
                </a:moveTo>
                <a:lnTo>
                  <a:pt x="36" y="124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32040" y="1650960"/>
            <a:ext cx="1144800" cy="3668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8000" y="170352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tel dic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75560" y="184932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2019240"/>
            <a:ext cx="1440" cy="182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354120" y="2201760"/>
            <a:ext cx="13525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07000" y="2201760"/>
            <a:ext cx="144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9760" y="2376360"/>
            <a:ext cx="11268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89400" y="2476440"/>
            <a:ext cx="1768680" cy="549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69840" y="2530440"/>
            <a:ext cx="1105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cesionario reali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50680" y="2674800"/>
            <a:ext cx="131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studio (180 días ant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85840" y="2824200"/>
            <a:ext cx="73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encer tarif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371520"/>
            <a:ext cx="1440" cy="2008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78400" y="2376360"/>
            <a:ext cx="11268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22800" y="3025800"/>
            <a:ext cx="180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3200400"/>
            <a:ext cx="11304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90840" y="3300480"/>
            <a:ext cx="1768680" cy="54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48160" y="3352680"/>
            <a:ext cx="132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sterios se pronunc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19440" y="3497400"/>
            <a:ext cx="1201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bre tarifas propu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08240" y="364824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120 dí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2800" y="3848040"/>
            <a:ext cx="1800" cy="184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69920" y="4032360"/>
            <a:ext cx="1352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70280" y="4032360"/>
            <a:ext cx="180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13040" y="4206960"/>
            <a:ext cx="11268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38320" y="4307040"/>
            <a:ext cx="1768680" cy="7315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19400" y="435924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mpresa debe incorpor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84360" y="4503600"/>
            <a:ext cx="81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ificacio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96720" y="4651200"/>
            <a:ext cx="1320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 insiste acompañando 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15600" y="4800600"/>
            <a:ext cx="93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forme de peri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70280" y="5038560"/>
            <a:ext cx="180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13040" y="5213520"/>
            <a:ext cx="112680" cy="9972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38320" y="5313240"/>
            <a:ext cx="1768680" cy="5479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37760" y="5365800"/>
            <a:ext cx="125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sterios resuelven 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0320" y="5514840"/>
            <a:ext cx="131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finitiva sobre las tari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0280" y="5861160"/>
            <a:ext cx="1800" cy="18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769920" y="6045120"/>
            <a:ext cx="13525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22800" y="6045120"/>
            <a:ext cx="180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65560" y="6219720"/>
            <a:ext cx="11304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8920" y="6319800"/>
            <a:ext cx="1768680" cy="365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3680" y="6372360"/>
            <a:ext cx="94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sterios curs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5480" y="6516720"/>
            <a:ext cx="53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 decre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53280" y="65167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arif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3848040"/>
            <a:ext cx="1440" cy="237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78400" y="6219720"/>
            <a:ext cx="11268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38960" y="4764240"/>
            <a:ext cx="1769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46040" y="4811760"/>
            <a:ext cx="105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 no hay obje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36400" y="4960800"/>
            <a:ext cx="89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 los ministe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3757680"/>
            <a:ext cx="145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3760" y="3805200"/>
            <a:ext cx="105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 hay objecion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37640" y="395460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s ministe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22096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oceso fijación tarifaria telecomunic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: Galetovic y Sanhueza (200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9:13:05Z</dcterms:created>
  <dc:creator>Centro Estudios Publicos</dc:creator>
  <dc:description/>
  <dc:language>en-US</dc:language>
  <cp:lastModifiedBy>Lucas Sierra</cp:lastModifiedBy>
  <dcterms:modified xsi:type="dcterms:W3CDTF">2004-11-09T02:22:09Z</dcterms:modified>
  <cp:revision>6</cp:revision>
  <dc:subject/>
  <dc:title>Sin título de diapositiva</dc:title>
</cp:coreProperties>
</file>