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4CD-8CAC-411C-BD21-E033E8C9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491-72A5-48C2-B8C4-3A7F0702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437-8464-4BF1-B317-4AC59867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E19-4CD2-4F9F-A5D7-603C1F8D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D18-AC6E-44D3-9147-7A9E1651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610-08CF-4E09-8888-CA661FDB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69A-2FAA-47A3-A006-C50A6B75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E2F-0622-46F7-95D1-EDFEED20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E7B-8C9F-4977-98E9-94A15259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17E-FFDF-4D3D-BE11-87AA2AE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265-AD84-4B43-A9DF-033D623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A2D-0180-4814-8665-D8FD697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03CA-1344-439D-A151-3DABE92E5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9360"/>
            <a:ext cx="914400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"TITULO IV       Del Fondo de Desarrollo de las Telecomunicacione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A.- Créase el Fondo de Desarrollo de las Telecomunicaciones, dependiente del Ministerio de Transportes y Telecomunicaciones, en adelante "el Fondo", por un período de diez años, contado desde la entrada en vigencia de esta ley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 objeto de promover el aumento de la cobertura de los servicios de telecomunicaciones en áreas rurales y urbanas de bajos ingresos, especialmente respecto de localidadesubicadas en zonas geográficas extremas o ais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Fondo estará constituido por los aportes que se le asignen anualmente en la ley de Presupuestos delSector Público, sin perjuicio de que pueda recibir otros aportes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B.- El Fondo será administrado por el Consejo de Desarrollo de las Telecomunicaciones, en adelante "el Consejo", integrado por el Ministro de Transportes y Telecomunicaciones, quien lo presidirá, y por los Ministros de Economía, Fomento y Reconstrucción; de Hacienda; de Planificación y Cooperación; o sus representantes, y por tres profesionales con experiencia en el área de telecomunicaciones y vinculados a las diversas regiones del país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e serán designados por el Presidente de la Re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4640"/>
            <a:ext cx="914400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C.- La Subsecretaría de Telecomunicaciones, sobre la base de las solicitudes específicas de proyectos de telecomunicaciones que reciba, elaborará, con la debida antelación, un programa anual de proyectos subsidiables, el que pondrá a disposición del Consejo, acompañado de las evaluaciones técnico-económicas de los mismos y de sus respectivas prioridades so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D.- El programa anual de proyectos subsidiables o licitables, mencionado en el artículo anterior, considerará los siguientes tipos de proy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léfonos públicos o centros de lla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lecentros comunitario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s de Telecomunicaciones de libre recepción o de radiodifusión locales, cuyas transmisiones están destinadas a la recepción libre y directa por el público en general, sean emisiones sonoras, de televisión abierta o limitada, o de otro género, especialmente los servicios de radiodifusión de mínima cobertura..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lquier otro servicio de telecomunicaciones que beneficie directamente a la comunidad en la cual habrá de oper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F.- Las bases de los concursos públicos especificarán los requisitos, las características y el contenido del correspondiente proyecto, cuidando de asegurar la calidad del servicioy de garantizar la transparencia del proceso y el tratoequitativo a los participantes. En todo caso, las basesdeberán señalar, a lo menos, lo siguiente: la zona de servicio mínima; las tarifas máximas que se podrán aplicar a los usuarios de dicha zona mínima, incluidas sus cláusulas de indexación; los plazos para la ejecución de las obras y la iniciación del servicio; el monto máximo del subsidio y el tipo de emisión, tratándose de servicios de telecomunicaciones de libre recepción o de radiodifusión locales, cuyas transmisiones están destinadas a la recepción libre y directa por el público en general, incluidos los servicios de radiodifusión de mínima cobert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I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 reglamento de este Título será aprobado por decreto supremo emanado del Ministerio de Transportes y Telecomunicaciones y suscrito, además, por los Ministros de Economía, Fomento y Reconstruccióny de Haciend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Establecerá las normas de funcionamientodel Consejo; la forma de designación y requisitos que deberán reunir los consejeros designados por el Presidente de la República; el mecanismo de nominación de los representantes de los ministros ante el Consejo;las normas a que se someterá la Subsecretaría de Telecomunicaciones en la elaboración del programa anual de proyectos subsidiables y en la evaluación técnico-económica de las proposiciones presentadas; las normas que regularán los concursos, en especial sus bases; la forma de pagar los subsidios, y toda otra norma necesaria para la adecuada operación del Fo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89400" y="4680"/>
            <a:ext cx="1768680" cy="365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13320" y="60480"/>
            <a:ext cx="12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presa propone 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07000" y="371520"/>
            <a:ext cx="1440" cy="18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354120" y="557280"/>
            <a:ext cx="135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557280"/>
            <a:ext cx="144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97240" y="731880"/>
            <a:ext cx="112680" cy="982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7760" y="830160"/>
            <a:ext cx="1768320" cy="547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5080" y="88272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el o concesion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21960" y="1027080"/>
            <a:ext cx="106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icita la opinión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2680" y="117792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er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4480" y="1378080"/>
            <a:ext cx="1440" cy="179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7240" y="1554120"/>
            <a:ext cx="112680" cy="98640"/>
          </a:xfrm>
          <a:custGeom>
            <a:avLst/>
            <a:gdLst/>
            <a:ahLst/>
            <a:rect l="l" t="t" r="r" b="b"/>
            <a:pathLst>
              <a:path w="71" h="124">
                <a:moveTo>
                  <a:pt x="0" y="0"/>
                </a:moveTo>
                <a:lnTo>
                  <a:pt x="36" y="124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32040" y="1650960"/>
            <a:ext cx="1144800" cy="366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0" y="17035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el dic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75560" y="184932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20192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354120" y="2201760"/>
            <a:ext cx="1352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07000" y="2201760"/>
            <a:ext cx="144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9760" y="23763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9400" y="2476440"/>
            <a:ext cx="1768680" cy="549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9840" y="2530440"/>
            <a:ext cx="1105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esionario reali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50680" y="2674800"/>
            <a:ext cx="131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studio (180 días ant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85840" y="2824200"/>
            <a:ext cx="73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ncer tarif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371520"/>
            <a:ext cx="1440" cy="2008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78400" y="23763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22800" y="302580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3200400"/>
            <a:ext cx="11304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90840" y="3300480"/>
            <a:ext cx="1768680" cy="54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48160" y="3352680"/>
            <a:ext cx="132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se pronun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19440" y="3497400"/>
            <a:ext cx="1201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bre tarifas propu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08240" y="364824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120 dí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2800" y="3848040"/>
            <a:ext cx="1800" cy="184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69920" y="4032360"/>
            <a:ext cx="135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0280" y="403236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13040" y="42069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38320" y="4307040"/>
            <a:ext cx="1768680" cy="731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9400" y="435924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presa debe incorpor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84360" y="450360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icacio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6720" y="4651200"/>
            <a:ext cx="132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 insiste acompañando 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15600" y="480060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orme de peri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70280" y="503856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3040" y="5213520"/>
            <a:ext cx="112680" cy="9972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38320" y="5313240"/>
            <a:ext cx="1768680" cy="547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7760" y="5365800"/>
            <a:ext cx="125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resuelven 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0320" y="5514840"/>
            <a:ext cx="131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itiva sobre las tari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0280" y="5861160"/>
            <a:ext cx="1800" cy="18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769920" y="6045120"/>
            <a:ext cx="1352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22800" y="604512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65560" y="6219720"/>
            <a:ext cx="11304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8920" y="6319800"/>
            <a:ext cx="1768680" cy="365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3680" y="6372360"/>
            <a:ext cx="94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cu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5480" y="6516720"/>
            <a:ext cx="53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 decre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53280" y="65167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arif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3848040"/>
            <a:ext cx="1440" cy="237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78400" y="621972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38960" y="4764240"/>
            <a:ext cx="1769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6040" y="4811760"/>
            <a:ext cx="105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 no hay obje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36400" y="4960800"/>
            <a:ext cx="89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os ministe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757680"/>
            <a:ext cx="145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3760" y="3805200"/>
            <a:ext cx="105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 hay objecion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37640" y="395460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s ministe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2096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ceso fijación tarifaria telecomunic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: Galetovic y Sanhueza (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9:13:05Z</dcterms:created>
  <dc:creator>Centro Estudios Publicos</dc:creator>
  <dc:description/>
  <dc:language>en-US</dc:language>
  <cp:lastModifiedBy>Lucas Sierra</cp:lastModifiedBy>
  <dcterms:modified xsi:type="dcterms:W3CDTF">2004-11-09T02:22:09Z</dcterms:modified>
  <cp:revision>6</cp:revision>
  <dc:subject/>
  <dc:title>Sin título de diapositiva</dc:title>
</cp:coreProperties>
</file>