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AD307-58D8-4DA9-BBF4-7DD44224D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581CE-9651-4D95-8966-2F63AA871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ACED4-FED6-437F-93AB-04C5040B7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4E086-DA2E-4F8D-843F-2F5BF4306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DA161-15F6-4299-B67A-0C3BAC371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6E7FF-3A43-4445-92A0-64330963A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0DB8-5AFD-43CC-B482-1A0BBA4C7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06D81-55C8-486E-B224-C53FC5031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330C0-AB29-4AEB-82B2-FF9879CE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42CA-F839-42C2-9B67-B3A8524C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148A-FFBF-4F32-BFCF-7AC359053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04FF-314B-496E-AA7E-C2093945E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9DB0-47DC-4D1B-BC2D-BF4FBCCA2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7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QUE POR OFICIO N° 1435, DE 25 DE OCTUBRE PASADO, LA HONORABLE CÁMARA DE DIPUTADOS HA ENVIADO EL PROYECTO DE LEY, APROBADO POR EL CONGRESO NACIONAL, QUE MODIFICA LA LEY N° 18.168, GENERAL DE TELECOMUNICAC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ROL Nº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Santiago, veintidós de noviembre de mil novecientos noventa y t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TERCERO: Que la síntesis hecha precedentemente de los incisos que conforman el nuevo artículo 13 A del proyecto, conduce inexorablemente a concluir que la actividad y actitud que adopta el Ministro de Transportes y Telecomunicaciones cuando dicta una resolución que otorga o deniega una concesión o un permiso de telecomunicaciones, es la de un funcionario público que está estableciendo o afectando derechos de terceros, es decir está actuando como una autoridad administrativa que por la vía de la reclamación pasará a ejercer funciones jurisdiccionales, sometida al procedimiento judicial administrativo que la propia disposición le seña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CUARTO: Confirma lo expuesto precedentemente si se tiene en consideración que el artículo 13 A preceptúa que las resoluciones que dicte el Ministro resolviendo una reclamación deducida en contra de la asignación o denegación de una concesión de telecomunicaciones, son revisables por los tribunales ordinarios de justicia mediante la interposición que hace el afectado del recurso de apelación para ante la Corte de Apelaciones de Santiago. Es decir, es indudable que se está en presencia de un proceso jurisdiccional, con partes interesadas en la solución de un conflicto de intereses de relevancia jurídica, con una resolución o sentencia que dicta una autoridad en primera instancia, la que es revisada por un tribunal de segunda instancia, que viene a constituirse en el superior jerárquico del que dicta la resolu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tamos en presencia de aquel concepto que los estudiosos y profesores de derecho procesal denominan el "principio de la doble instancia", cuyo fundamento esencial es que el mismo asunto sea visto en dos oportunidades por distintos jueces, todo ello a través del recurso de apel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00"/>
                </a:solidFill>
                <a:uFillTx/>
                <a:latin typeface="Times New Roman"/>
                <a:ea typeface="Times New Roman"/>
              </a:rPr>
              <a:t>"Artículo 39</a:t>
            </a:r>
            <a:r>
              <a:rPr b="0" lang="es-ES" sz="1400" spc="-1" strike="noStrike">
                <a:solidFill>
                  <a:srgbClr val="ffff00"/>
                </a:solidFill>
                <a:latin typeface="Times New Roman"/>
                <a:ea typeface="Times New Roman"/>
              </a:rPr>
              <a:t>: En casos graves y urgentes, y sólo por razones de conveniencia o utilidad pública, la Subsecretaría podrá suspender hasta por 30 días el funcionamiento de un servicio, cuando se contravengan normas técnicas del marco regulador a que se refiere el artículo 24 de la presente ley. De la resolución de la Subsecretaría podrá, dentro de quinto día, reclamarse ante la Corte de Apelaciones de Santiago. El reclamo se tramitará de conformidad con las normas que rigen el recurso de protección y su interposición no suspende la medida decretada, sin perjuicio de las facultades de la Corte de Apelaciones.";</a:t>
            </a:r>
            <a:endParaRPr b="0" lang="en-US" sz="1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69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DECIMO OCTAVO: </a:t>
            </a:r>
            <a:r>
              <a:rPr b="1" lang="es-ES" sz="1400" spc="-1" strike="noStrike" u="sng">
                <a:solidFill>
                  <a:srgbClr val="ffff00"/>
                </a:solidFill>
                <a:uFillTx/>
                <a:latin typeface="Times New Roman"/>
                <a:ea typeface="Times New Roman"/>
              </a:rPr>
              <a:t>Que tal como se ha señalado anteriormente, la Ley General de Telecomunicaciones tiene una importancia relevante dentro de la organización social del país, pues ella regula entre otros, los servicios de telecomunicaciones de libre recepción o de radiodifusión, cuyas transmisiones están destinadas a la recepción libre y directa del público en general; los servicios públicos de telecomunicaciones destinados a satisfacer las necesidades de telecomunicaciones de la comunidad en general; los servicios limitados de telecomunicaciones, incluyéndose dentro de ellos servicios limitados de televisión y la radiodifusión televisiva, todos los cuales inciden directa o indirectamente con aquel derecho fundamental que la Constitución asegura a todas las personas en el número 12 del artículo 19, reconociéndoles "La libertad de emitir opinión y la de informar, sin censura previa, en cualquier forma y por cualquier med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Que el nuevo inciso primero del artículo 39 del proyecto en análisis contempla como se ha transcrito, la posibilidad de suspender un servicio de telecomunicaciones, para lo cual faculta </a:t>
            </a:r>
            <a:r>
              <a:rPr b="1" lang="es-ES" sz="1400" spc="-1" strike="noStrike" u="sng">
                <a:solidFill>
                  <a:srgbClr val="ffff00"/>
                </a:solidFill>
                <a:uFillTx/>
                <a:latin typeface="Times New Roman"/>
                <a:ea typeface="Times New Roman"/>
              </a:rPr>
              <a:t>al funcionario público Subsecretario de Telecomunicaciones para decretarla discrecionalmente</a:t>
            </a:r>
            <a:r>
              <a:rPr b="0" lang="es-ES" sz="1400" spc="-1" strike="noStrike">
                <a:solidFill>
                  <a:srgbClr val="ffff00"/>
                </a:solidFill>
                <a:latin typeface="Times New Roman"/>
                <a:ea typeface="Times New Roman"/>
              </a:rPr>
              <a:t> en casos graves y urgentes y por razones de conveniencia o utilidad pública que él mismo determin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 decir, la facultad que se otorga al Subsecretario de Telecomunicaciones para suspender un servicio de esta última naturaleza, </a:t>
            </a:r>
            <a:r>
              <a:rPr b="1" lang="es-ES" sz="1400" spc="-1" strike="noStrike" u="sng">
                <a:solidFill>
                  <a:srgbClr val="ffff00"/>
                </a:solidFill>
                <a:uFillTx/>
                <a:latin typeface="Times New Roman"/>
                <a:ea typeface="Times New Roman"/>
              </a:rPr>
              <a:t>implica facultarlo para impedir el ejercicio de una garantía constitucional cuando la suspensión afecta a un medio informativo regulado por la Ley General de Telecomunicaciones</a:t>
            </a:r>
            <a:r>
              <a:rPr b="0" lang="es-ES" sz="1400" spc="-1" strike="noStrike">
                <a:solidFill>
                  <a:srgbClr val="ffff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PRIMERO: Que reafirma la discrecionalidad con que actúa el Subsecretario para aplicar la suspensión de un servicio de telecomunicaciones cuando la contravención en que se fundamenta es el artículo 24 de la Ley General de Telecomunicaciones, el hecho que al señalar las "normas técnicas del marco regulador" establece que las constituyen "a) Planes fundamentales de numeración, encaminamiento, transmisión, señalización, tarificación y sincronismo; b) Planes de gestión y mantención de redes; c) Planes de operación y funcionamiento de los servicios públicos de telecomunicaciones; d) Plan de uso del espectro radioeléctrico; e) Plan de radiodifusión sonora y televisiva", elementos todos que de su simple lectura no permiten precisar cuándo existe una contravención que faculte para decretar la suspensión de un servicio de telecomunicaciones de libre recepción o de radiodifusión;</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SEGUNDO: </a:t>
            </a:r>
            <a:r>
              <a:rPr b="1" lang="es-ES" sz="1400" spc="-1" strike="noStrike" u="sng">
                <a:solidFill>
                  <a:srgbClr val="ffff00"/>
                </a:solidFill>
                <a:uFillTx/>
                <a:latin typeface="Times New Roman"/>
                <a:ea typeface="Times New Roman"/>
              </a:rPr>
              <a:t>Que al verse eventualmente afectado en su ejercicio, uno de los derechos que la Constitución asegura a todas las personas fuera de los casos que la misma Carta contempla, es preciso concluir que la norma en análisis es inconstitucional;</a:t>
            </a:r>
            <a:endParaRPr b="0" lang="en-US" sz="14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260280"/>
            <a:ext cx="9144000" cy="64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Times New Roman"/>
              </a:rPr>
              <a:t>Ley 19.277 (20/01/94)</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3. Sustitúyese el artículo 8°, por el siguiente: "Artículo 8°.- Para todos los efectos de esta ley, el uso y goce de frecuencias del espectro radioeléctrico será de libre e igualitario acceso por medio de concesiones, permisos o licencias de telecomunicaciones, especialmente temporales, otorgadas por el Estad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Se requerirá de concesión otorgada por decreto supremo para la instalación, operación y explotación de los siguientes servicios de telecomunicaciones: a) públicos; b) intermedios que se presten a los servicios de telecomunicaciones por medio de instalaciones y redes destinadas al efecto, y c) de radiodifusión sonora. Los servicios limitados de televisión se regirán por las normas del artículo 9°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es se otorgarán a personas jurídicas. El plazo de las concesiones se contará desde la fecha en que el respectivo decreto supremo se publique en el Diario Oficial; será de 30 años para los servicios públicos e intermedios de telecomunicaciones, renovable por períodos iguales, a solicitud de parte interesada; y de 25 años para las concesiones de radiodifusión respecto de las cuales la concesionaria gozará de derecho preferente para su renovación, de conformidad a los términos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El decreto de concesión deberá publicarse en el Diario Oficial, a costa de la concesionaria, dentro del plazo de 30 días, contados desde que la Subsecretaría le notifique que el decreto fue totalmente tramitado por la Contraloría General de la República. La no publicación del decreto dentro del plazo indicado, producirá la extinción de la concesión por el solo ministerio de l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A quien se le hubiere caducado una concesión o permiso, no podrá otorgársele concesión o permiso alguno dentro de los 5 años siguientes a la fecha en que quedó ejecutoriada la respeciva resolu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arias de servicio público de telecomunicaciones o terceros podrán dar prestaciones complementarias por medio de las redes públicas. Estas prestaciones consisten en servicios adicionales que se proporcionan mediante la conexión de equipos a dichas redes, los cuales deberán cumplir con la normativa técnica que establezca la Subsecretaría y no deberán alterar las características técnicas esenciales de las redes, ni el uso que tecnológicamente permitan, ni las modalidades del servicio básico que se preste con ellas. El cumplimiento de la norma técnica y el funcionamiento de los equipos, serán de la exclusiva responsabilidad de las prestatarias de estos servicios complementario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prestación o comercialización de estos servicios adicionales no estará condicionada a anuencia previa alguna ni contractual de las concesionarias de servicios públicos de telecomunicaciones ni a exigencia o autorización de organismos o servicios públicos, salvo lo establecido en el inciso anterior respecto de los equipos. De igual manera, las concesionarias a que se refiere este inciso no podrán ejecutar acto alguno que implique discriminación o alteración a una sana y debida competencia entre todos aquellos que proporcionen estas prestaciones complementarias.</a:t>
            </a: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instalación y explotación de los equipos para las prestaciones complementarias no requerirán de concesión o de permiso. La Subsecretaría en el plazo de 60 días de requerida para ello, adjuntándosele los respectivos antecedentes técnicos, se pronunciará sobre el cumplimiento de las exigencias que se establecen en el inciso séptimo de este artículo. Si transcurrido dicho plazo no se ha emitido pronunciamiento alguno, se entenderá que los equipos complementarios cumplen con la normativa técnica y se podrá inciar la prestación de los servicios.".</a:t>
            </a:r>
            <a:r>
              <a:rPr b="0" lang="es-ES" sz="2400" spc="-1" strike="noStrike">
                <a:solidFill>
                  <a:srgbClr val="ffff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Times New Roman"/>
              </a:rPr>
              <a:t>Ley 19.277 (20/01/94) </a:t>
            </a:r>
            <a:r>
              <a:rPr b="0" lang="es-ES" sz="2000" spc="-1" strike="noStrike">
                <a:solidFill>
                  <a:srgbClr val="ffff00"/>
                </a:solidFill>
                <a:latin typeface="Times New Roman"/>
              </a:rPr>
              <a:t>4. Reemplázase el artículo 9°, por el siguiente: "Artículo 9°.- </a:t>
            </a:r>
            <a:r>
              <a:rPr b="1" lang="es-ES" sz="2000" spc="-1" strike="noStrike" u="sng">
                <a:solidFill>
                  <a:srgbClr val="ffff00"/>
                </a:solidFill>
                <a:uFillTx/>
                <a:latin typeface="Times New Roman"/>
              </a:rPr>
              <a:t>Los servicios limitados de telecomunicaciones, para su instalación, operación y explotación, requerirán de permiso otorgado por resolución exenta de la Subsecretaría, los que tendrán una duración de diez años y serán renovables</a:t>
            </a:r>
            <a:r>
              <a:rPr b="0" lang="es-ES" sz="2000" spc="-1" strike="noStrike">
                <a:solidFill>
                  <a:srgbClr val="ffff00"/>
                </a:solidFill>
                <a:latin typeface="Times New Roman"/>
              </a:rPr>
              <a:t>, a solicitud de parte interesada, en los términos señalados en el artículo 9° bis, salvo los permisos de servicios limitados de televisión que no ocupen espectro radioeléctrico, cuya duración será indefinida, todo sin perjuicio de lo establecido en el artículo 15 bis de la ley N° 18.838, agregado por la ley N° 19.131. Tratándose de Cuerpos de Bomberos y demás servicios de utilidad pública existentes en la respectiva localidad, la Subsecretaría otorgará prioridad y preferencia a las autorizaciones y renovaciones solicitadas por éstos, en sus respectivos casos. La Subsecretaría deberá pronunciarse sobre la solicitud de permiso dentro de los 60 días siguientes a la fecha de su presentación y, si así no lo hiciere, se entenderá que el permiso ha sido otorgado. La resolución que rechace el permiso deberá ser fundada y el peticionario podrá reclamar de ella en los términos establecidos en los incisos séptimo, décimo y siguientes del artículo 13A. El plazo que establece el inciso séptimo se contará desde que el interesado haya sido notificado de la resolución denegatoria. Se exceptúan de lo dipuesto en el inciso anterior los servicios limitados constituidos por estaciones de experimentación y por estaciones que operen en bandas locales o comunitarias, que serán autorizados por licencia expedida por la Subsecretaría, la que tendrá una duración de 5 años, renovable por períodos iguales a solicitud de parte interesada. La licencia, a lo menos, indicará el nombre del titular, su domicilio, el tipo de servicio, el modelo del equipo, la potencia y su ubicación, cuando corresponda.".</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476280"/>
            <a:ext cx="914400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Ley 19.302 (10/03/94)</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Reemplázase, en el artículo 3°, la letra e) por la siguiente: "e) </a:t>
            </a:r>
            <a:r>
              <a:rPr b="1" lang="es-ES" sz="2400" spc="-1" strike="noStrike" u="sng">
                <a:solidFill>
                  <a:srgbClr val="ffff00"/>
                </a:solidFill>
                <a:uFillTx/>
                <a:latin typeface="Times New Roman"/>
              </a:rPr>
              <a:t>Servicios intermedios de telecomunicaciones</a:t>
            </a:r>
            <a:r>
              <a:rPr b="0" lang="es-ES" sz="2400" spc="-1" strike="noStrike">
                <a:solidFill>
                  <a:srgbClr val="ffff00"/>
                </a:solidFill>
                <a:latin typeface="Times New Roman"/>
              </a:rPr>
              <a:t>, constituidos por los servicios prestados por terceros, a través de instalaciones y redes, destinados a satisfacer las necesidades de transmisión o conmutación de los concesionarios o permisionarios de telecomunicaciones en general, </a:t>
            </a:r>
            <a:r>
              <a:rPr b="1" lang="es-ES" sz="2400" spc="-1" strike="noStrike" u="sng">
                <a:solidFill>
                  <a:srgbClr val="ffff00"/>
                </a:solidFill>
                <a:uFillTx/>
                <a:latin typeface="Times New Roman"/>
              </a:rPr>
              <a:t>o a prestar servicio telefónico de larga distancia a la comunidad en general</a:t>
            </a: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Agrégase, en el inciso segundo del artículo 6°, sustituyendo el punto final (.) por una coma (,), la siguente frase: "</a:t>
            </a:r>
            <a:r>
              <a:rPr b="1" lang="es-ES" sz="2400" spc="-1" strike="noStrike" u="sng">
                <a:solidFill>
                  <a:srgbClr val="ffff00"/>
                </a:solidFill>
                <a:uFillTx/>
                <a:latin typeface="Times New Roman"/>
              </a:rPr>
              <a:t>sin perjuicio de las facultades propias de los tribunales de justicia y de los organismos especiales creados por el decreto ley N° 211, de 1973</a:t>
            </a:r>
            <a:r>
              <a:rPr b="0" lang="es-ES" sz="2400" spc="-1" strike="noStrike">
                <a:solidFill>
                  <a:srgbClr val="ffff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189000"/>
            <a:ext cx="9144000" cy="65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ículo 24 bis.- </a:t>
            </a:r>
            <a:r>
              <a:rPr b="1" lang="es-ES" sz="1800" spc="-1" strike="noStrike" u="sng">
                <a:solidFill>
                  <a:srgbClr val="ffff00"/>
                </a:solidFill>
                <a:uFillTx/>
                <a:latin typeface="Times New Roman"/>
              </a:rPr>
              <a:t>El concesionario de servicio público telefónico deberá establecer un sistema de multiportador discado que permita al suscriptor o usuario del servicio público telefónico seleccionar los servicios de larga distancia, nacional e internacional, del concesionario de servicios intermedios de su preferencia</a:t>
            </a:r>
            <a:r>
              <a:rPr b="0" lang="es-ES" sz="1800" spc="-1" strike="noStrike">
                <a:solidFill>
                  <a:srgbClr val="ffff00"/>
                </a:solidFill>
                <a:latin typeface="Times New Roman"/>
              </a:rPr>
              <a:t>. Este sistema deberá permitir la selección del servicio intermedio en cada llamada de larga distancia, tanto automática como por vía de operadora, </a:t>
            </a:r>
            <a:r>
              <a:rPr b="1" lang="es-ES" sz="1800" spc="-1" strike="noStrike" u="sng">
                <a:solidFill>
                  <a:srgbClr val="ffff00"/>
                </a:solidFill>
                <a:uFillTx/>
                <a:latin typeface="Times New Roman"/>
              </a:rPr>
              <a:t>marcando el mismo número de dígitos para identificar a cualquier concesionario de servicios intermedios</a:t>
            </a:r>
            <a:r>
              <a:rPr b="0" lang="es-ES" sz="1800" spc="-1" strike="noStrike">
                <a:solidFill>
                  <a:srgbClr val="ffff00"/>
                </a:solidFill>
                <a:latin typeface="Times New Roman"/>
              </a:rPr>
              <a:t>. Los dígitos de identificación de cada concesionario de servicios intermedios serán asignados mediante sorteos efectuados por la Subsecretaría de Telecomunicacion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Times New Roman"/>
              </a:rPr>
              <a:t>El concesionario de servicio público telefónico deberá ofrecer, dar y proporcionar a todo concesionario de servicios intermedios que prevea servicios de larga distancia</a:t>
            </a:r>
            <a:r>
              <a:rPr b="0" lang="es-ES" sz="1800" spc="-1" strike="noStrike">
                <a:solidFill>
                  <a:srgbClr val="ffff00"/>
                </a:solidFill>
                <a:latin typeface="Times New Roman"/>
              </a:rPr>
              <a:t>, </a:t>
            </a:r>
            <a:r>
              <a:rPr b="1" lang="es-ES" sz="1800" spc="-1" strike="noStrike" u="sng">
                <a:solidFill>
                  <a:srgbClr val="ffff00"/>
                </a:solidFill>
                <a:uFillTx/>
                <a:latin typeface="Times New Roman"/>
              </a:rPr>
              <a:t>igual clase de accesos o conexiones a la red telefónica</a:t>
            </a:r>
            <a:r>
              <a:rPr b="0" lang="es-ES" sz="1800" spc="-1" strike="noStrike">
                <a:solidFill>
                  <a:srgbClr val="ffff00"/>
                </a:solidFill>
                <a:latin typeface="Times New Roman"/>
              </a:rPr>
              <a:t>. Asimismo, </a:t>
            </a:r>
            <a:r>
              <a:rPr b="1" lang="es-ES" sz="1800" spc="-1" strike="noStrike" u="sng">
                <a:solidFill>
                  <a:srgbClr val="ffff00"/>
                </a:solidFill>
                <a:uFillTx/>
                <a:latin typeface="Times New Roman"/>
              </a:rPr>
              <a:t>no podrá discriminar</a:t>
            </a:r>
            <a:r>
              <a:rPr b="0" lang="es-ES" sz="1800" spc="-1" strike="noStrike">
                <a:solidFill>
                  <a:srgbClr val="ffff00"/>
                </a:solidFill>
                <a:latin typeface="Times New Roman"/>
              </a:rPr>
              <a:t> entre otros, en modo alguno, especialmente, respecto de la calidad, extensión, plazo, valor y precio de los servicios que les preste con motivo o en razón del acceso o uso del sistema multiportad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os concesionarios de servicios intermedios podrán establecer un sistema de multiportador contratado, opcional, que permita al suscriptor elegir los servicios de larga distancia, nacional o internacional, del concesionario de servicios intermedios de su preferencia, mediante convenio, por un período da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El concesionario de servicio público telefónico deberá ofrecer, dar y proporcionar a todos los concesionarios de servicios intermedios que presten servicios de larga distancia, </a:t>
            </a:r>
            <a:r>
              <a:rPr b="1" lang="es-ES" sz="1800" spc="-1" strike="noStrike" u="sng">
                <a:solidFill>
                  <a:srgbClr val="ffff00"/>
                </a:solidFill>
                <a:uFillTx/>
                <a:latin typeface="Times New Roman"/>
              </a:rPr>
              <a:t>en igualdad de condiciones económicas, comerciales, técnicas y de información, las facilidades que sean necesarias para establecer y operar el sistema de multiportador contratado.</a:t>
            </a:r>
            <a:endParaRPr b="0" lang="en-US" sz="1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Las funciones de medición, tasación, facturación y cobranza de los servicios de larga distancia las efectuarán las empresas prestadoras de dichos servicios, sin perjuicio de que éstas puedan realizarlas contratando el todo o parte de tales funciones con el concesionario de servicio público telefónico</a:t>
            </a:r>
            <a:r>
              <a:rPr b="0" lang="en-US" sz="1800" spc="-1" strike="noStrike">
                <a:solidFill>
                  <a:srgbClr val="ffff00"/>
                </a:solidFill>
                <a:latin typeface="Times New Roman"/>
              </a:rPr>
              <a:t>, quien estará obligado a prestar dicho servicio una vez requerido, </a:t>
            </a:r>
            <a:r>
              <a:rPr b="1" lang="en-US" sz="1800" spc="-1" strike="noStrike" u="sng">
                <a:solidFill>
                  <a:srgbClr val="ffff00"/>
                </a:solidFill>
                <a:uFillTx/>
                <a:latin typeface="Times New Roman"/>
              </a:rPr>
              <a:t>según tarifas fijadas</a:t>
            </a:r>
            <a:r>
              <a:rPr b="0" lang="en-US" sz="1800" spc="-1" strike="noStrike">
                <a:solidFill>
                  <a:srgbClr val="ffff00"/>
                </a:solidFill>
                <a:latin typeface="Times New Roman"/>
              </a:rPr>
              <a:t> de acuerdo con lo establecido en los artículo 30 a 30 J, por los Ministerios de Transportes y Telecomunicaciones y de Economía, Fomento y Reconstrucción, en adelante "los Ministerios", los cuales también deberán aprobar o fijar el formato, dimensiones y demás detalles de la cuenta única que recibirá el suscript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l concesionario de servicio público telefónico deberá efectuar, a su costa, las modificaciones que sean necesarias para conectar a los concesionarios de servicios intermedios de larga distancia que lo soliciten. </a:t>
            </a:r>
            <a:r>
              <a:rPr b="1" lang="en-US" sz="1800" spc="-1" strike="noStrike" u="sng">
                <a:solidFill>
                  <a:srgbClr val="ffff00"/>
                </a:solidFill>
                <a:uFillTx/>
                <a:latin typeface="Times New Roman"/>
              </a:rPr>
              <a:t>Las tarifas que podrá cobrar el concesionario de servicio público telefónico a los concesionarios de servicios intermedios para recuperar estos costos, como asimismo las condiciones y los plazos en que deberán efectuarse las modificaciones referidas, deberán ser aprobadas o fijadas por los Ministerios</a:t>
            </a:r>
            <a:r>
              <a:rPr b="0" lang="en-US" sz="1800" spc="-1" strike="noStrike">
                <a:solidFill>
                  <a:srgbClr val="ffff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os concesionarios de servicio público telefónico no podrán dar información alguna respecto de los concesionarios de servicios intermedios, estando facultados solamente, en igualdad de condiciones y formato, para incluir, en las guías telefónicas y demás publicaciones de circulación entre sus suscriptores, los dígitos de identificación, según lo establece el Plan Técnico Fundamental de Numeración Telefónica, como también los países y códigos de acceso para servicios de larga distancia, nacional e internac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oda modificación de las redes telefónicas deberá ser informada, con la debida anticipación, por el concesionario de servicio público telefónico, a todos los concesionarios de servicios intermedios que presten servicios de larga distancia, en términos no discriminatorios.</a:t>
            </a:r>
            <a:endParaRPr b="0" lang="en-US" sz="1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692280"/>
            <a:ext cx="9144000" cy="575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 público telefónico deberá poner a disposición de los concesionarios de servicios intermedios que provean servicios de larga distancia, en términos no discriminatorios, </a:t>
            </a:r>
            <a:r>
              <a:rPr b="1" lang="es-ES" sz="2000" spc="-1" strike="noStrike" u="sng">
                <a:solidFill>
                  <a:srgbClr val="ffff00"/>
                </a:solidFill>
                <a:uFillTx/>
                <a:latin typeface="Times New Roman"/>
              </a:rPr>
              <a:t>toda la información relevante relativa a los suscriptores y usuarios y a los tráficos cursados</a:t>
            </a:r>
            <a:r>
              <a:rPr b="0" lang="es-ES" sz="2000" spc="-1" strike="noStrike">
                <a:solidFill>
                  <a:srgbClr val="ffff00"/>
                </a:solidFill>
                <a:latin typeface="Times New Roman"/>
              </a:rPr>
              <a:t>. </a:t>
            </a:r>
            <a:r>
              <a:rPr b="1" lang="es-ES" sz="2000" spc="-1" strike="noStrike" u="sng">
                <a:solidFill>
                  <a:srgbClr val="ffff00"/>
                </a:solidFill>
                <a:uFillTx/>
                <a:latin typeface="Times New Roman"/>
              </a:rPr>
              <a:t>La especificación de esta información, de los medios para suministrarla y de las tarifas aplicables por este concepto, serán aprobados o fijados por los Ministeri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s intermedios que provea servicios de larga distancia afectos a fijación tarifaria, según lo establecido en el artículo 29, estará obligado a proveer estos servicios a otros concesionarios de servicios intermedios que presten también servicios de larga distancia, en condiciones no discriminatori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odo convenio suscrito por concesionarios de servicio público telefónico o concesionario de servicios intermedios, que diga relación a las disposiciones de este artículo y a su reglamento, deberá ser remitido a la Subsecretaría de Telecomunicaciones, dentro de los veinte días siguientes a la fecha de su celebr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Las disposiciones de este artículo serán reglamentadas mediante decreto supremo, que deberá llevar la firma de los Ministros de Transportes y Telecomunicaciones y de Economía, Fomento y Reconstrucción.".</a:t>
            </a:r>
            <a:endParaRPr b="0" lang="en-US" sz="20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549360"/>
            <a:ext cx="91440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4.- Sustitúyese el artículo 25, por el siguiente: "Artículo 25.- </a:t>
            </a:r>
            <a:r>
              <a:rPr b="1" lang="es-ES" sz="2400" spc="-1" strike="noStrike" u="sng">
                <a:solidFill>
                  <a:srgbClr val="ffff00"/>
                </a:solidFill>
                <a:uFillTx/>
                <a:latin typeface="Times New Roman"/>
              </a:rPr>
              <a:t>Será obligación de los concesionarios de servicios públicos de telecomunicaciones y de los concesionarios de servicios intermedios que presten servicio telefónico de larga distancia, establecer y aceptar interconexiones, según las normas técnicas, procedimientos y plazos que establezca la Subsecretaría de Telecomunicaciones, con objeto de que los suscriptores y usuarios de servicios públicos de un mismo tipo puedan comunicarse entre sí, dentro y fuera del territorio nacional.</a:t>
            </a:r>
            <a:r>
              <a:rPr b="0" lang="es-ES" sz="2400" spc="-1" strike="noStrike">
                <a:solidFill>
                  <a:srgbClr val="ffff00"/>
                </a:solidFill>
                <a:latin typeface="Times New Roman"/>
              </a:rPr>
              <a:t> En el caso de interconexiones entre redes de servicio público telefónico y redes de servicios intermedios de telecomunicaciones, para cursar comunicaciones de larga distancia, será de la exclusiva responsabilidad del concesionario de servicios intermedios de telecomunicaciones acceder a la red local de cada zona primaria en el o los puntos de terminación de red fijados por la Subsecretaría de Telecomunicaciones (Ley 19.302, 10/03/9).</a:t>
            </a:r>
            <a:r>
              <a:rPr b="0" lang="es-ES" sz="4400" spc="-1" strike="noStrike">
                <a:solidFill>
                  <a:srgbClr val="000000"/>
                </a:solidFill>
                <a:latin typeface="Times New Roman"/>
              </a:rPr>
              <a:t> </a:t>
            </a:r>
            <a:endParaRPr b="0" lang="en-US" sz="44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03:57:24Z</dcterms:created>
  <dc:creator>Lucas Sierra</dc:creator>
  <dc:description/>
  <dc:language>en-US</dc:language>
  <cp:lastModifiedBy>Lucas Sierra</cp:lastModifiedBy>
  <dcterms:modified xsi:type="dcterms:W3CDTF">2004-11-04T04:10:07Z</dcterms:modified>
  <cp:revision>3</cp:revision>
  <dc:subject/>
  <dc:title>Diapositiva 1</dc:title>
</cp:coreProperties>
</file>