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F70AE-8F0A-4F34-BD21-BC7181CFB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CC4B7-AE6A-43C5-9BF1-1F76CD97F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429AD-CB4F-4A62-8C81-D5AD6A319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94BB7-2ACA-47EC-AEBC-1AF8D9BEA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A97FD-EC69-4BB1-9F9F-4C9E41DE6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E783F-4BAC-4FD5-9C01-CD7E00330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6F8E3-81A7-45F0-9B20-2CC923EFF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085C9-3FC7-4B27-878E-20915259C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4A72D-2446-42FB-9EBF-DD83B2B19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E1652-4A8D-4359-99C4-1D63B73E0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416B7-F9DD-40DC-A7C7-204C08563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C0EC6-2D5F-47C0-87FF-6FA70ACBA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5009-E0BF-4889-A8F3-23F0895142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32734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ey 16.168 original (Continuación)</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32.- Toda infracción a lo dispuesto en la presente ley, no sancionada especialmente por ella, será castigada con una multa a beneficio fiscal que no podrá ser inferior a 10 ni superior a 100 unidades tributarias, según su valor vigente al momento de su aplicación.</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Tales multas serán impuestas por la Subsecretaría de Telecomunicaciones y serán apelables ante el Ministro del ramo, en un plazo de 5 días contado desde su notificación.</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42" name=""/>
          <p:cNvSpPr/>
          <p:nvPr/>
        </p:nvSpPr>
        <p:spPr>
          <a:xfrm>
            <a:off x="0" y="3289320"/>
            <a:ext cx="9144000" cy="3512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rtículo 33.- Sin perjuicio de las multas que procedan en conformidad con el artículo precedente, la </a:t>
            </a:r>
            <a:r>
              <a:rPr b="1" lang="en-US" sz="2400" spc="-1" strike="noStrike" u="sng">
                <a:solidFill>
                  <a:srgbClr val="ffff00"/>
                </a:solidFill>
                <a:uFillTx/>
                <a:latin typeface="Times New Roman"/>
              </a:rPr>
              <a:t>Subsecretaría de Telecomunicaciones podrá suspender hasta por 30 días el funcionamiento de un servicio, cuando se contravengan las normas técnicas</a:t>
            </a:r>
            <a:r>
              <a:rPr b="0" lang="en-US" sz="2400" spc="-1" strike="noStrike">
                <a:solidFill>
                  <a:srgbClr val="ffff00"/>
                </a:solidFill>
                <a:latin typeface="Times New Roman"/>
              </a:rPr>
              <a:t> del marco regulador a que se refiere el artículo 24 de la presente ley, siempre que no se subsanen las observaciones que formule dentro del plazo que fije para este efecto.</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 la resolución del Subsecretario podrá apelarse en la forma señalada en el inciso final del artículo anteri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0" y="0"/>
            <a:ext cx="914400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ículo 30°. </a:t>
            </a:r>
            <a:r>
              <a:rPr b="1" lang="es-ES" sz="2000" spc="-1" strike="noStrike" u="sng">
                <a:solidFill>
                  <a:srgbClr val="ffff00"/>
                </a:solidFill>
                <a:uFillTx/>
                <a:latin typeface="Times New Roman"/>
              </a:rPr>
              <a:t>La estructura, nivel y mecanismo de indexación de las tarifas de los servicios afectos serán fijados por los Ministerios de Transportes y Telecomunicaciones y de Economía, Fomento y Reconstrucción cada cinco años sobre la base de los costos incrementales de desarrollo del servicio respectivo, considerando los planes de expansión de las empresas a implementarse en un período no inferior a los siguientes cinco años de acuerdo a la demanda prevista.</a:t>
            </a:r>
            <a:r>
              <a:rPr b="0" lang="es-ES" sz="2000" spc="-1" strike="noStrike">
                <a:solidFill>
                  <a:srgbClr val="ffff00"/>
                </a:solidFill>
                <a:latin typeface="Times New Roman"/>
              </a:rPr>
              <a:t> Para estos efectos, el costo incremental de desarrollo se definirá como aquel monto equivalente a la recaudación promedio anual que, de acuerdo a los costos de inversión y de explotación, y en consideración a la vida útil de los activos asociados a la expansión, las tasas de tributación y de costo de capital, sea consistente con un valor actualizado neto del proyecto de expansión igual a cero. Sin perjuicio de lo anterior, en ausencia de planes de expansión, la estructura y nivel de las tarifas se fijarán sobre la base de los costos marginales de largo plazo, previa autorización de la Subsecretaría de Telecomunicaciones. Se entenderá por costo marginal de largo plazo de un servicio el incremento en el costo total de largo plazo de proveerlo, considerando un aumento de una unidad en la cantidad provista. La recaudación promedio anual compatible con un valor actualizado neto igual a cero del proyecto correspondiente a un servicio dado equivale al costo medio de largo plazo de este servicio. Este procedimiento se utilizará para distintos volúmenes de prestación de servicios generándose una curva de costos medios de largo plazo. A partir de dicha curva, se calcularán los costos marginales de largo plazo. En todos los casos, los costos incrementales de desarrollo o los costos marginales de largo plazo, según corresponda, se calcularán por área tarifaria.</a:t>
            </a:r>
            <a:endParaRPr b="0" lang="en-US" sz="20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0" y="1143000"/>
            <a:ext cx="9144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t>
            </a:r>
            <a:r>
              <a:rPr b="0" lang="es-ES" sz="2800" spc="-1" strike="noStrike">
                <a:solidFill>
                  <a:srgbClr val="ffff00"/>
                </a:solidFill>
                <a:latin typeface="Times New Roman"/>
              </a:rPr>
              <a:t>Artículo 30° A. Para efectos de las determinaciones de costos indicados en este Título, se considerará en cada caso una </a:t>
            </a:r>
            <a:r>
              <a:rPr b="1" lang="es-ES" sz="2800" spc="-1" strike="noStrike" u="sng">
                <a:solidFill>
                  <a:srgbClr val="ffff00"/>
                </a:solidFill>
                <a:uFillTx/>
                <a:latin typeface="Times New Roman"/>
              </a:rPr>
              <a:t>empresa eficiente</a:t>
            </a:r>
            <a:r>
              <a:rPr b="0" lang="es-ES" sz="2800" spc="-1" strike="noStrike">
                <a:solidFill>
                  <a:srgbClr val="ffff00"/>
                </a:solidFill>
                <a:latin typeface="Times New Roman"/>
              </a:rPr>
              <a:t> que ofrezca sólo los servicios sujetos a fijación tarifaria, y se determinarán los costos de inversión y explotación incluyendo los de capital, de cada servicio en dicha empresa eficiente. Los costos a considerar se limitarán a aquellos indispensables para que la correspondiente empresa eficiente pueda proveer los servicios de telecomunicaciones sujetos a regulación tarifaria, de acuerdo a la tecnología disponible y manteniendo la calidad establecida para dichos servicios".</a:t>
            </a:r>
            <a:endParaRPr b="0" lang="en-US" sz="28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0" y="304920"/>
            <a:ext cx="914400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rtículo 30° I. Los costos incrementales de desarrollo, costos totales de largo plazo y los costos marginales de largo plazo cuando correspondan, la estructura y nivel de las tarifas, y las fórmulas de indexación de las mismas, tal como se mencionan en este Título, </a:t>
            </a:r>
            <a:r>
              <a:rPr b="1" lang="es-ES" sz="1600" spc="-1" strike="noStrike" u="sng">
                <a:solidFill>
                  <a:srgbClr val="ffff00"/>
                </a:solidFill>
                <a:uFillTx/>
                <a:latin typeface="Times New Roman"/>
              </a:rPr>
              <a:t>serán calculadas en un estudio especial, que la empresa concesionaria respectiva realizará directamente o podrá encargar para estos efectos a una entidad consultora especializ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00"/>
                </a:solidFill>
                <a:uFillTx/>
                <a:latin typeface="Times New Roman"/>
              </a:rPr>
              <a:t>Estos estudios se realizarán cada cinco años para cada servicio afecto, y sus bases técnico-económicas serán establecidas, a proposición del concesionario, por la Subsecretaría de Telecomunicaciones</a:t>
            </a:r>
            <a:r>
              <a:rPr b="0" lang="es-ES" sz="1600" spc="-1" strike="noStrike">
                <a:solidFill>
                  <a:srgbClr val="ffff00"/>
                </a:solidFill>
                <a:latin typeface="Times New Roman"/>
              </a:rPr>
              <a:t>. Si se produjeren controversias la Subsecretaría o el concesionario podrán solicitar la opinión de una comisión de peritos formada por tres expertos de reconocido prestigio nominados uno por el concesionario, uno por la Subsecretaría y el tercero de común acuerdo. Una vez emitida la opinión por dicha comisión de peritos, la Subsecretaría de Telecomunicaciones resolverá en definitiva respecto de las bases a adoptar en el estud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Los honorarios de la comisión pericial se pagarán por mitades entre la Subsecretaría de Telecomunicaciones y el concesion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Las bases técnico-económicas a que se refiere el inciso segundo deberán especificar el período de análisis u horizonte de estudio, las áreas tarifarias, los criterios de proyección del demanda, criterios de optimización de redes, tecnologías, fuentes para la obtención de los costos, fecha base para la referencia de moneda, criterios de deflactación, y todo otro aspecto que se considere posible y necesario de definir en forma previa a la realización del estud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La empresa concesionaria deberá avisar la fecha de inicio de estos estudios, y mantendrá informada a la Subsecretaría de Telecomunicaciones de los avances de ellos. Esta Subsecretaría deberá a su vez mantener informado al Ministerio de Economía, Fomento y Reconstrucción de estos avances".</a:t>
            </a:r>
            <a:endParaRPr b="0" lang="en-US" sz="16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0" y="533520"/>
            <a:ext cx="91440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Artículo 30° J. Las tarifas definitivas de los servicios afectos a regulación serán propuestas por la empresa concesionaria respectiva a los Ministerios de Transportes y Telecomunicaciones, y de Economía, Fomento y Reconstrucción a través de la Subsecretaría de Telecomunicaciones, antes de los 180 días previos al vencimiento del quinquenio respectivo, acompañando copia del estudio antes mencionado y otros antecedentes que considere pertinentes. A contar de la fecha de recepción de esta proposición, los Ministerios tendrán un plazo de 120 días para pronunciarse sobre ellas, a través de dicha Subsecretaría. De no haber objeciones, las tarifas propuestas serán oficializadas en el aludido plazo mediante decreto conjunto de ambos Ministerios, que se publicará en el Diario Ofi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En el caso de haber objeciones fundadas respecto a las tarifas propuestas, la empresa concesionaria tendrá un plazo de 30 días ya sea para incorporar las modificaciones pertinentes o insistir justificadamente en los valores presentados, pudiendo acompañar un informe con la opinión de una comisión de peritos constituida de la misma forma que señala el inciso 2° del Artículo 30 I. Cumplido este trámite, los Ministerios resolverán en definitiva y dictarán el decreto conjunto que oficialice las tarifas en el plazo de 30 días a partir de la respuesta de la empresa concesionari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Las objeciones que se efectúen deberán enmarcarse estrictamente en las bases técnico-económicas del estudio, mencionado en el Artículo 30 I. El informe que fundamente las objeciones deberá señalar en forma precisa la materia en discusión, la contraproposición efectuada y todos los antecedentes, estudios y opinión de especialistas propios o de consultores externos que respalden las objeciones formulad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Mientras no sea publicado el decreto conjunto que fija las tarifas, mantendrán su vigencia las tarifas anteriores, incluidas sus cláusulas de indexación, aunque haya vencido su período de vigencia...</a:t>
            </a:r>
            <a:endParaRPr b="0" lang="en-US" sz="16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0" y="685800"/>
            <a:ext cx="91440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Artículo 30° K. Los concesionarios de servicio público telefónico cuyas tarifas estén sometidas a fijación en los términos que establece este título sólo podrán efectuar cobros por los costos de instalación y por el suministro al público usuario. Lo anterior es sin perjuicio de los aportes de financiamiento reembolsables establecidos en la presente Ley. Por costo de instalación se entenderán los gastos de material y de mano de obra asociados a la conexión del servicio a la red públic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esolución 389/1993 (Multicarrier)</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uede haber integración vertical entre servicio local y larga distancia?</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uede existir bajo las siguientes condicion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istencia de multiportador discado o multiportador contratado.</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gración vertical recíproca.</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ciedades filiales, anónimas abiertas. (Impone transferencia de enlaces existentes)</a:t>
            </a:r>
            <a:endParaRPr b="0" lang="en-US" sz="28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esolución 389/1993 (2) (Multicarrier)</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rgo de acceso no discriminatorio, fijado por la autoridad, sobre la base de costo direc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one comunicación periódica de base de datos de tráfico por abonado, monto facturado, portador utilizado,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ide directores comunes entre empresas de telecomunicaciones que deban competir entre sí.</a:t>
            </a:r>
            <a:endParaRPr b="0" lang="en-US" sz="28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D.F.L. 1 del MINTRATEL (21/02/1987) Reforma la Ley 16.168</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 name=""/>
          <p:cNvSpPr/>
          <p:nvPr/>
        </p:nvSpPr>
        <p:spPr>
          <a:xfrm>
            <a:off x="0" y="533520"/>
            <a:ext cx="9144000" cy="63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1600" spc="-1" strike="noStrike">
                <a:solidFill>
                  <a:srgbClr val="ffff00"/>
                </a:solidFill>
                <a:latin typeface="Times New Roman"/>
              </a:rPr>
              <a:t>Introdúcense las siguientes modificaciones a la Ley  N° 18.168, de 1982, Ley General de Telecomunicac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    </a:t>
            </a:r>
            <a:r>
              <a:rPr b="0" lang="es-ES" sz="1600" spc="-1" strike="noStrike">
                <a:solidFill>
                  <a:srgbClr val="ffff00"/>
                </a:solidFill>
                <a:latin typeface="Times New Roman"/>
              </a:rPr>
              <a:t>1. TITULO II. De las Concesiones y Permisos.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    </a:t>
            </a:r>
            <a:r>
              <a:rPr b="0" lang="es-ES" sz="1600" spc="-1" strike="noStrike">
                <a:solidFill>
                  <a:srgbClr val="ffff00"/>
                </a:solidFill>
                <a:latin typeface="Times New Roman"/>
              </a:rPr>
              <a:t>a) Sustitúyese el </a:t>
            </a:r>
            <a:r>
              <a:rPr b="1" lang="es-ES" sz="1600" spc="-1" strike="noStrike">
                <a:solidFill>
                  <a:srgbClr val="ffff00"/>
                </a:solidFill>
                <a:latin typeface="Times New Roman"/>
              </a:rPr>
              <a:t>Artículo 8</a:t>
            </a:r>
            <a:r>
              <a:rPr b="0" lang="es-ES" sz="1600" spc="-1" strike="noStrike">
                <a:solidFill>
                  <a:srgbClr val="ffff00"/>
                </a:solidFill>
                <a:latin typeface="Times New Roman"/>
              </a:rPr>
              <a:t>°, por el siguiente: "Artículo 8°.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   </a:t>
            </a:r>
            <a:r>
              <a:rPr b="0" lang="es-ES" sz="1600" spc="-1" strike="noStrike">
                <a:solidFill>
                  <a:srgbClr val="ffff00"/>
                </a:solidFill>
                <a:latin typeface="Times New Roman"/>
              </a:rPr>
              <a:t>Los servicios de telecomunicaciones de libre recepción o de radiodifusión, los servicios públicos de telecomunicaciones y los servicios limitados de televisión, requerirán para su instalación, operación y explotación de concesión otorgada por Decreto Suprem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    </a:t>
            </a:r>
            <a:r>
              <a:rPr b="1" lang="es-ES" sz="1600" spc="-1" strike="noStrike" u="sng">
                <a:solidFill>
                  <a:srgbClr val="ffff00"/>
                </a:solidFill>
                <a:uFillTx/>
                <a:latin typeface="Times New Roman"/>
              </a:rPr>
              <a:t>Igualmente estarán sujetos a concesión los servicios intermedios de telecomunicaciones que se prestan a los servicios de telecomunicaciones mencionados en el inciso anterior</a:t>
            </a:r>
            <a:r>
              <a:rPr b="0" lang="es-ES" sz="1600" spc="-1" strike="noStrike">
                <a:solidFill>
                  <a:srgbClr val="ffff00"/>
                </a:solidFill>
                <a:latin typeface="Times New Roman"/>
              </a:rPr>
              <a:t> y a los servicios limitados de telecomunicaciones, a través de instalaciones destinadas a tal efecto.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    </a:t>
            </a:r>
            <a:r>
              <a:rPr b="1" lang="es-ES" sz="1600" spc="-1" strike="noStrike" u="sng">
                <a:solidFill>
                  <a:srgbClr val="ffff00"/>
                </a:solidFill>
                <a:uFillTx/>
                <a:latin typeface="Times New Roman"/>
              </a:rPr>
              <a:t>Los concesionarios de servicios públicos de telecomunicaciones o terceros que contraten con ellos para tal efecto, podrán prestar a través de las redes públicas, servicios complementarios que consisten en prestaciones adicionales que se proveen mediante la conexión a dichas redes de equipos complementarios, que deberán cumplir con la normativa técnica que establezca la Subsecretaría de Telecomunicaciones y que no podrán alterar las características técnicas esenciales de las redes ni las modalidades del servicio básico que se preste con ellas.</a:t>
            </a:r>
            <a:r>
              <a:rPr b="0" lang="es-ES" sz="1600" spc="-1" strike="noStrike" u="sng">
                <a:solidFill>
                  <a:srgbClr val="ffff00"/>
                </a:solidFill>
                <a:uFillTx/>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    </a:t>
            </a:r>
            <a:r>
              <a:rPr b="0" lang="es-ES" sz="1600" spc="-1" strike="noStrike">
                <a:solidFill>
                  <a:srgbClr val="ffff00"/>
                </a:solidFill>
                <a:latin typeface="Times New Roman"/>
              </a:rPr>
              <a:t>La instalación y explotación de los servicios complementarios no requerirá de concesión o de permisos. No obstante, su puesta en servicio deberá ser autorizada previamente mediante una resolución técnica de la Subsecretaría de Telecomunicaciones, que será emitida en el plazo de 60 días a contar de la presentación de los antecedentes técnicos por parte de los interesados. Si transcurrido dicho plazo, no se ha emitido pronunciamiento alguno se entenderá que los equipos destinados a la prestación de los servicios complementarios cumplen con la normativa técnica y se podrá iniciar la prestación de los mismos.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    </a:t>
            </a:r>
            <a:r>
              <a:rPr b="1" lang="es-ES" sz="1600" spc="-1" strike="noStrike" u="sng">
                <a:solidFill>
                  <a:srgbClr val="ffff00"/>
                </a:solidFill>
                <a:uFillTx/>
                <a:latin typeface="Times New Roman"/>
              </a:rPr>
              <a:t>Las concesiones serán de duración indefinida excepto las de radiodifusión sonora que tendrán un plazo de 20 años y su renovación podrá ser solicitada dentro de los 5 años que preceden al último año de la concesión. El período de renovación respectivo se contará desde el término del plazo primitivo</a:t>
            </a:r>
            <a:r>
              <a:rPr b="0" lang="es-ES" sz="1600" spc="-1" strike="noStrike">
                <a:solidFill>
                  <a:srgbClr val="ffff00"/>
                </a:solidFill>
                <a:latin typeface="Times New Roman"/>
              </a:rPr>
              <a:t>".</a:t>
            </a:r>
            <a:r>
              <a:rPr b="0" lang="es-E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b) Sustitúyese el Artículo 9°, por el siguiente: "Artículo 9°.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Los servicios limitados de telecomunicaciones, requerirán para ser instalados, operados y explotados de permisos otorgados por resolución de la Subsecretaría de Telecomunicacion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Los permisos </a:t>
            </a:r>
            <a:r>
              <a:rPr b="1" lang="es-ES" sz="2400" spc="-1" strike="noStrike" u="sng">
                <a:solidFill>
                  <a:srgbClr val="ffff00"/>
                </a:solidFill>
                <a:uFillTx/>
                <a:latin typeface="Times New Roman"/>
              </a:rPr>
              <a:t>tendrán una duración de 10 años</a:t>
            </a:r>
            <a:r>
              <a:rPr b="0" lang="es-ES" sz="2400" spc="-1" strike="noStrike">
                <a:solidFill>
                  <a:srgbClr val="ffff00"/>
                </a:solidFill>
                <a:latin typeface="Times New Roman"/>
              </a:rPr>
              <a:t> y podrán ser renovados por períodos de igual duración. </a:t>
            </a:r>
            <a:r>
              <a:rPr b="1" lang="es-ES" sz="2400" spc="-1" strike="noStrike" u="sng">
                <a:solidFill>
                  <a:srgbClr val="ffff00"/>
                </a:solidFill>
                <a:uFillTx/>
                <a:latin typeface="Times New Roman"/>
              </a:rPr>
              <a:t>La solicitud de renovación deberá ser presentada dentro de los 2 años anteriores al vencimiento del plazo en vigenci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1" lang="es-ES" sz="2400" spc="-1" strike="noStrike" u="sng">
                <a:solidFill>
                  <a:srgbClr val="ffff00"/>
                </a:solidFill>
                <a:uFillTx/>
                <a:latin typeface="Times New Roman"/>
              </a:rPr>
              <a:t>Se exceptúan de lo dispuesto en el inciso 1° de este artículo, los servicios limitados constituidos por estaciones de experimentación y por estaciones que operan en bandas locales o comunitarias, los que serán autorizados mediante una licencia expedida por l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00"/>
                </a:solidFill>
                <a:uFillTx/>
                <a:latin typeface="Times New Roman"/>
              </a:rPr>
              <a:t>Subsecretaría de Telecomunicaciones que tendrá una duración de 5 años y será renovable por períodos de igual duración.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00"/>
                </a:solidFill>
                <a:uFillTx/>
                <a:latin typeface="Times New Roman"/>
              </a:rPr>
              <a:t>    </a:t>
            </a:r>
            <a:r>
              <a:rPr b="1" lang="es-ES" sz="2400" spc="-1" strike="noStrike" u="sng">
                <a:solidFill>
                  <a:srgbClr val="ffff00"/>
                </a:solidFill>
                <a:uFillTx/>
                <a:latin typeface="Times New Roman"/>
              </a:rPr>
              <a:t>En la licencia se indicará, a lo menos, el nombre del titular, domicilio, tipo de servicio, modelo del equipo, su potencia y su ubicación cuando corresponda".</a:t>
            </a:r>
            <a:r>
              <a:rPr b="1" lang="es-E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3505320"/>
            <a:ext cx="91440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d) Agrégase un inciso al Artículo 13°.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Para los efectos del inciso anterior, se entenderá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que concurren varios interesados respecto de un mism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tipo de concesión o permiso, cuando existiere constanci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que se ha presentado en la Oficina de Partes de l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Subsecretaría de Telecomunicaciones en una misma fech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más de una solicitud al respect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7" name=""/>
          <p:cNvSpPr/>
          <p:nvPr/>
        </p:nvSpPr>
        <p:spPr>
          <a:xfrm>
            <a:off x="0" y="533520"/>
            <a:ext cx="91440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Origi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rtículo 13.- Cuando concurran varios interesados respecto de una misma concesión o permiso, que por razones técnicas no pudiera otorgarse a todos ellos, </a:t>
            </a:r>
            <a:r>
              <a:rPr b="1" lang="es-ES" sz="2400" spc="-1" strike="noStrike" u="sng">
                <a:solidFill>
                  <a:srgbClr val="ffff00"/>
                </a:solidFill>
                <a:uFillTx/>
                <a:latin typeface="Times New Roman"/>
              </a:rPr>
              <a:t>se llamará a concurso público y se asignará a quien o quienes ofrezcan las mejores condiciones técnicas y de financiamiento del proyecto. </a:t>
            </a:r>
            <a:endParaRPr b="0" lang="en-US" sz="2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0"/>
            <a:ext cx="914400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2. TITULO III. De la Explotación y Funcionamiento de los Servicios de Telecomunicaciones. a) </a:t>
            </a:r>
            <a:r>
              <a:rPr b="1" lang="es-ES" sz="2000" spc="-1" strike="noStrike" u="sng">
                <a:solidFill>
                  <a:srgbClr val="ffff00"/>
                </a:solidFill>
                <a:uFillTx/>
                <a:latin typeface="Times New Roman"/>
              </a:rPr>
              <a:t>Introdúcense los siguientes artículos nuevos a continuación del Artículo 2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ículo 24° A. Los concesionarios y permisionarios de servicios de telecomunicaciones </a:t>
            </a:r>
            <a:r>
              <a:rPr b="1" lang="es-ES" sz="2000" spc="-1" strike="noStrike" u="sng">
                <a:solidFill>
                  <a:srgbClr val="ffff00"/>
                </a:solidFill>
                <a:uFillTx/>
                <a:latin typeface="Times New Roman"/>
              </a:rPr>
              <a:t>no podrán iniciar servicios, sin que sus obras e instalaciones hayan sido previamente autorizadas por la Subsecretaría de Telecomunicaciones</a:t>
            </a:r>
            <a:r>
              <a:rPr b="0" lang="es-ES" sz="2000" spc="-1" strike="noStrike">
                <a:solidFill>
                  <a:srgbClr val="ffff00"/>
                </a:solidFill>
                <a:latin typeface="Times New Roman"/>
              </a:rPr>
              <a:t>. Esta autorización se otorgará al comprobarse que las obras e instalaciones se encuentran correctamente ejecutadas y corresponden al respectivo proyecto técnico aproba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00"/>
                </a:solidFill>
                <a:uFillTx/>
                <a:latin typeface="Times New Roman"/>
              </a:rPr>
              <a:t>La Subsecretaría tendrá un plazo de 30 días, contados desde la fecha de presentación de la solicitud por el interesado para ejecutar la recepción de las obras e instalacio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Si no se procede a la recepción de las obras en el plazo indicado en el inciso anterior, los concesionarios y permisionarios podrán poner en servicio las obras e instalaciones, sin perjuicio que la Subsecretaría de Telecomunicaciones proceda a recibirlas con posterior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 </a:t>
            </a:r>
            <a:r>
              <a:rPr b="0" lang="es-ES" sz="2000" spc="-1" strike="noStrike">
                <a:solidFill>
                  <a:srgbClr val="ffff00"/>
                </a:solidFill>
                <a:latin typeface="Times New Roman"/>
              </a:rPr>
              <a:t>Lo dispuesto en los incisos anteriores no procederá respecto de aquellas modificaciones a la concesión o permiso que no requieran aprobación, según lo dispuesto en el inciso 3° del Artículo 14°".</a:t>
            </a:r>
            <a:endParaRPr b="0" lang="en-US" sz="20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304920"/>
            <a:ext cx="9144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Artículo 24° B. </a:t>
            </a:r>
            <a:r>
              <a:rPr b="1" lang="es-ES" sz="1800" spc="-1" strike="noStrike" u="sng">
                <a:solidFill>
                  <a:srgbClr val="ffff00"/>
                </a:solidFill>
                <a:uFillTx/>
                <a:latin typeface="Times New Roman"/>
              </a:rPr>
              <a:t>Las empresas concesionarias de servicio público telefónico estarán obligadas a dar servicio a los interesados que lo soliciten dentro de su zona de servicio y a los que estando fuera de ella y de la de otro concesionario, costeen las extensiones o refuerzos necesarios para llegar hasta ell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Times New Roman"/>
              </a:rPr>
              <a:t>Para ejecutar las obras de extensión o refuerzos los interesados podrán hacerlo por sí mismos o a través de terceros, debiendo en estos casos ser aprobadas tales obras por la Subsecretaría de Telecomunicaciones, o bien encargar su ejecución a la concesionaria que le proporcionará el servicio</a:t>
            </a:r>
            <a:r>
              <a:rPr b="0" lang="es-ES" sz="1800" spc="-1" strike="noStrike">
                <a:solidFill>
                  <a:srgbClr val="ffff00"/>
                </a:solidFill>
                <a:latin typeface="Times New Roman"/>
              </a:rPr>
              <a:t>. Las citadas obras darán derecho a usar los bienes nacionales de uso público en la forma prevista en el Artículo 18°. Las extensiones o refuerzos serán de propiedad del interesado. Lo anterior es sin perjuicio de lo que acuerden las partes en esta mater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Las empresas concesionarias para atender solicitudes de interesados ubicados fuera de su zona de servicios y de la zona de servicio de otros concesionarios, podrán convenir el suministro del servicio público telefónico con comunidades telefónicas para facilitar a un mayor número de usuarios el acceso a este medio de comunicació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Los servicios públicos telefónicos a las comunidades telefónicas podrán prestarse asimismo como una derivación de un teléfono público de larga distancia existen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Un reglamento establecerá las normas técnicas para el funcionamiento de estas comunidades telefónicas".</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533520"/>
            <a:ext cx="9144000" cy="55947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26.- Los servicios públicos de telecomunicaciones podrán instalar sus propios sistemas </a:t>
            </a:r>
            <a:r>
              <a:rPr b="1" lang="es-ES_tradnl" sz="2400" spc="-1" strike="noStrike" u="sng">
                <a:solidFill>
                  <a:srgbClr val="ffff00"/>
                </a:solidFill>
                <a:uFillTx/>
                <a:latin typeface="Times New Roman"/>
              </a:rPr>
              <a:t>o usar los de otras empresas</a:t>
            </a:r>
            <a:r>
              <a:rPr b="0" lang="es-ES_tradnl" sz="2400" spc="-1" strike="noStrike">
                <a:solidFill>
                  <a:srgbClr val="ffff00"/>
                </a:solidFill>
                <a:latin typeface="Times New Roman"/>
              </a:rPr>
              <a:t>, de acuerdo con las concesiones que les hayan sido otorgada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00"/>
                </a:solidFill>
                <a:uFillTx/>
                <a:latin typeface="Times New Roman"/>
              </a:rPr>
              <a:t>b) Intercálase en el Artículo 26° el siguiente inciso 2°, pasando el actual inciso 2° a ser inciso 3°. "Con todo, los concesionarios de servicio público que opten por instalar medios propios de larga distancia deberán solicitar la concesión de servicio público de larga distancia correspondiente".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Todos los concesionarios que presten servicios públicos internacionales tendrán acceso al uso de sistemas por satélite, </a:t>
            </a:r>
            <a:r>
              <a:rPr b="1" lang="es-ES_tradnl" sz="2400" spc="-1" strike="noStrike" u="sng">
                <a:solidFill>
                  <a:srgbClr val="ffff00"/>
                </a:solidFill>
                <a:uFillTx/>
                <a:latin typeface="Times New Roman"/>
              </a:rPr>
              <a:t>en condiciones de igualdad en lo técnico y en lo económico</a:t>
            </a:r>
            <a:r>
              <a:rPr b="0" lang="es-ES_tradnl" sz="2400" spc="-1" strike="noStrike">
                <a:solidFill>
                  <a:srgbClr val="ffff00"/>
                </a:solidFill>
                <a:latin typeface="Times New Roman"/>
              </a:rPr>
              <a:t>, según los términos de la concesión y lo que hayan convenido las parte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380880"/>
            <a:ext cx="9144000" cy="594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ículo 2°. Introdúcese el siguiente Título IV "De los Aportes de Financiamiento Reembolsables", a continuación del artículo 28 bis y reemplázanse los artículos 29 y 30 por las disposiciones contenidas en el nuevo Título V "De las Tarifas" pasando a ser Título VI el actual Título IV "De las Infracciones y Sancio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t>
            </a:r>
            <a:r>
              <a:rPr b="1" lang="es-ES" sz="2000" spc="-1" strike="noStrike" u="sng">
                <a:solidFill>
                  <a:srgbClr val="ffff00"/>
                </a:solidFill>
                <a:uFillTx/>
                <a:latin typeface="Times New Roman"/>
              </a:rPr>
              <a:t>TITULO IV. De los Aportes de Financiamiento Reembols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ículo 28° A. </a:t>
            </a:r>
            <a:r>
              <a:rPr b="1" lang="es-ES" sz="2000" spc="-1" strike="noStrike" u="sng">
                <a:solidFill>
                  <a:srgbClr val="ffff00"/>
                </a:solidFill>
                <a:uFillTx/>
                <a:latin typeface="Times New Roman"/>
              </a:rPr>
              <a:t>Las empresas concesionarias de servicio público de telecomunicaciones que prestan servicio público telefónico y que quedaren sometidas al régimen de regulación tarifaria que se establece en el inciso 2° del artículo 29° del presente texto, podrán exigir a quienes solicitan la calidad de suscriptor de dicho servicio, mediante la asignación de una o más líneas telefónicas, o a quienes siendo suscriptores soliciten la asignación de nuevas líneas telefónicas adicionales, aportes de financiamiento reembolsables por cada línea. Dichos aportes serán reembolsados ya sea mediante bonos o acciones comunes de la respectiva empresa concesionaria o bien mediante instrumentos mercantiles o mecanismos que acuerden las partes, pudiendo incluirse entre éstos otros tipos de acciones. Las alternativas de reembolso y sus condiciones serán ofrecidas al interesado por la empresa concesionaria, y éste podrá optar entre ella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0" y="762120"/>
            <a:ext cx="9144000" cy="5595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ITULO V. De las Tarifas. "Artículo 29°. Los precios o tarifas de los servicios públicos de telecomunicaciones y de los servicios intermedios que contraten entre sí las distintas empresas, entidades o personas que intervengan en su prestación, </a:t>
            </a:r>
            <a:r>
              <a:rPr b="1" lang="es-ES" sz="2000" spc="-1" strike="noStrike" u="sng">
                <a:solidFill>
                  <a:srgbClr val="ffff00"/>
                </a:solidFill>
                <a:uFillTx/>
                <a:latin typeface="Times New Roman"/>
              </a:rPr>
              <a:t>serán libremente establecidos por los proveedores del servicio respectivo sin perjuicio de los acuerdos que puedan convenirse entre éstos y los usuari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No obstante, si en el caso de servicios públicos telefónicos local y de larga distancia nacional e internacional, excluida la telefonía móvil y en el de servicios de conmutación y/o transmisión de señales provistas como servicio intermedio o bien como circuitos privados, existiere una calificación expresa por parte de la Comisión Resolutiva, creada por el Decreto Ley N° 211 de 1973, en cuanto a que las condiciones existentes en el mercado no son suficientes para garantizar un régimen de libertad tarifaria, los precios o tarifas del servicio calificado serán fijados de acuerdo a las bases y procedimientos que se indican en este Título. En todo caso, si las condiciones se modificaren y existiere pronunciamiento en tal sentido por parte de dicha Comisión Resolutiva, el servicio dejará de estar afecto a la fijación de tarifas".</a:t>
            </a:r>
            <a:endParaRPr b="0" lang="en-US" sz="20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22:02:40Z</dcterms:created>
  <dc:creator>Centro Estudios Publicos</dc:creator>
  <dc:description/>
  <dc:language>en-US</dc:language>
  <cp:lastModifiedBy>Centro Estudios Publicos</cp:lastModifiedBy>
  <dcterms:modified xsi:type="dcterms:W3CDTF">2004-11-02T22:29:07Z</dcterms:modified>
  <cp:revision>16</cp:revision>
  <dc:subject/>
  <dc:title>Sin título de diapositiva</dc:title>
</cp:coreProperties>
</file>