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FD97E-6837-4BEC-ADBD-BC54329F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964E2-9FDC-4237-A1F1-349A9F001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92816-667C-4A33-81FE-88FE85207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2BB62-F34A-4FC3-AB27-15D81E39F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465B-473E-416C-B836-D1E2F91D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24135-6112-47A3-A11C-75BC22337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B994-9574-4D72-8928-5C7F4CBA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43E3-61C8-4D7D-861A-16E5AF00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FC222-E477-413D-8DFF-48F320F50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BB03-D4F1-4163-80C1-FB915B2A7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86A2-418F-41FE-B905-A145DD48A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5558-216E-4A05-9C27-947DAD1F5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B629-8211-45EC-AAC1-B00ADCDAF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333360"/>
            <a:ext cx="9144000" cy="9496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TITULO II De las Concesiones y Permis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ículo 8°.- Los servicios de telecomunicaciones de libre recepción o de radiodifusión, los servicios públicos de telecomunicaciones y los servicios limitados de televisión, requerirán para su instalación, operación y explotación de </a:t>
            </a:r>
            <a:r>
              <a:rPr b="1" lang="es-ES" sz="2800" spc="-1" strike="noStrike" u="sng">
                <a:solidFill>
                  <a:srgbClr val="ffff00"/>
                </a:solidFill>
                <a:uFillTx/>
                <a:latin typeface="Times New Roman"/>
              </a:rPr>
              <a:t>concesión otorgada por decreto supremo</a:t>
            </a:r>
            <a:r>
              <a:rPr b="0" lang="es-ES" sz="2800" spc="-1" strike="noStrike">
                <a:solidFill>
                  <a:srgbClr val="ffff00"/>
                </a:solidFill>
                <a:latin typeface="Times New Roman"/>
              </a:rPr>
              <a:t>. Igualmente estarán sujetas a concesión las instalaciones de cualquier naturaleza destinadas a los servicios intermedios necesarios para la prestación de los servicios mencionados en el inciso precedente. </a:t>
            </a:r>
            <a:r>
              <a:rPr b="1" lang="es-ES" sz="2800" spc="-1" strike="noStrike" u="sng">
                <a:solidFill>
                  <a:srgbClr val="ffff00"/>
                </a:solidFill>
                <a:uFillTx/>
                <a:latin typeface="Times New Roman"/>
              </a:rPr>
              <a:t>Las concesiones serán de duración indefinida, excepto las de radiodifusión sonora que tendrán un plazo de 15 años, salvo que el interesado solicite un plazo menor.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ículo 9°.- </a:t>
            </a:r>
            <a:r>
              <a:rPr b="1" lang="es-ES" sz="2800" spc="-1" strike="noStrike" u="sng">
                <a:solidFill>
                  <a:srgbClr val="ffff00"/>
                </a:solidFill>
                <a:uFillTx/>
                <a:latin typeface="Times New Roman"/>
              </a:rPr>
              <a:t>Los servicios limitados de telecomunicaciones y los de aficionados a las radiocomunicaciones, requerirán para ser instalados, operados y explotados de permisos otorgados por resolución de la Subsecretaría de Telecomunicaciones.</a:t>
            </a:r>
            <a:r>
              <a:rPr b="0" lang="es-ES" sz="2800" spc="-1" strike="noStrike">
                <a:solidFill>
                  <a:srgbClr val="ffff00"/>
                </a:solidFill>
                <a:latin typeface="Times New Roman"/>
              </a:rPr>
              <a:t> </a:t>
            </a:r>
            <a:r>
              <a:rPr b="1" lang="es-ES" sz="2800" spc="-1" strike="noStrike" u="sng">
                <a:solidFill>
                  <a:srgbClr val="ffff00"/>
                </a:solidFill>
                <a:uFillTx/>
                <a:latin typeface="Times New Roman"/>
              </a:rPr>
              <a:t>Los permisos no podrán exceder de 5 años</a:t>
            </a:r>
            <a:r>
              <a:rPr b="0" lang="es-ES" sz="2800" spc="-1" strike="noStrike">
                <a:solidFill>
                  <a:srgbClr val="ffff00"/>
                </a:solidFill>
                <a:latin typeface="Times New Roman"/>
              </a:rPr>
              <a:t> y serán renovables por períodos de igual duración. </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457200"/>
            <a:ext cx="9144000" cy="582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2.- El otorgamiento de las concesiones y permisos no estará sometido a restricciones ni limitaciones en cuanto a cantidad y tipo de servicio o a su ubicación geográfica, pudiendo existir más de una concesión o permiso de igual tipo de servicio en la misma área geográfic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3.- Cuando concurran varios interesados respecto de una misma concesión o permiso, que por razones técnicas no pudiera otorgarse a todos ellos, </a:t>
            </a:r>
            <a:r>
              <a:rPr b="1" lang="es-ES" sz="1600" spc="-1" strike="noStrike" u="sng">
                <a:solidFill>
                  <a:srgbClr val="ffff00"/>
                </a:solidFill>
                <a:uFillTx/>
                <a:latin typeface="Times New Roman"/>
              </a:rPr>
              <a:t>se llamará a concurso público y se asignará a quien o quienes ofrezcan las mejores condiciones técnicas y de financiamiento del proyect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17.- </a:t>
            </a:r>
            <a:r>
              <a:rPr b="1" lang="es-ES" sz="1600" spc="-1" strike="noStrike" u="sng">
                <a:solidFill>
                  <a:srgbClr val="ffff00"/>
                </a:solidFill>
                <a:uFillTx/>
                <a:latin typeface="Times New Roman"/>
              </a:rPr>
              <a:t>El otorgamiento de concesiones y permisos de servicios de telecomunicaciones deberá contar con un informe previo del Ministerio de Defensa Nacional</a:t>
            </a:r>
            <a:r>
              <a:rPr b="0" lang="es-ES" sz="1600" spc="-1" strike="noStrike">
                <a:solidFill>
                  <a:srgbClr val="ffff00"/>
                </a:solidFill>
                <a:latin typeface="Times New Roman"/>
              </a:rPr>
              <a:t>, emitido por el Comité de Telecomunicaciones de las Fuerzas Armadas, el que será remitido directamente al Ministerio de Transportes y Telecomunicaciones. Las concesiones de servicios de telecomunicaciones para radiodifusión sonora y servicios limitados de televisión, requerirán, además, de un informe emitido por el Consejo Nacional de Radio y Televisión. Estos informes deberán requerirse dentro de los 10 días de presentada la solicitud, y deberán ser evacuados dentro de los 60 días a contar del requerimiento. No obstante, si dichos informes no fueran recibidos en el plazo indicado, se podrá proceder sin ell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21.- </a:t>
            </a:r>
            <a:r>
              <a:rPr b="1" lang="es-ES" sz="1600" spc="-1" strike="noStrike" u="sng">
                <a:solidFill>
                  <a:srgbClr val="ffff00"/>
                </a:solidFill>
                <a:uFillTx/>
                <a:latin typeface="Times New Roman"/>
              </a:rPr>
              <a:t>Las concesiones y permisos serán transmisibles por causa de muerte</a:t>
            </a:r>
            <a:r>
              <a:rPr b="0" lang="es-ES" sz="1600" spc="-1" strike="noStrike">
                <a:solidFill>
                  <a:srgbClr val="ffff00"/>
                </a:solidFill>
                <a:latin typeface="Times New Roman"/>
              </a:rPr>
              <a:t>, debiendo la sucesión comunicar a la Subsecretaría de Telecomunicaciones el fallecimiento del titular, dentro del plazo de 30 días contado desde su ocurrencia. Dentro del mismo plazo, señalará el nombre de quien será su representante ante el Ministerio y su intención de continuar o cesar en el ejercicio de sus derechos. Dichas concesiones y permisos podrán, asimismo, ser transferidas, enajenadas, arrendadas o entregadas a terceros a cualquier título, previa autorización de las mismas autoridades que las otorgaron. </a:t>
            </a:r>
            <a:r>
              <a:rPr b="1" lang="es-ES" sz="1600" spc="-1" strike="noStrike" u="sng">
                <a:solidFill>
                  <a:srgbClr val="ffff00"/>
                </a:solidFill>
                <a:uFillTx/>
                <a:latin typeface="Times New Roman"/>
              </a:rPr>
              <a:t>No se aplicarán los incisos anteriores a los servicios de libre recepción, a los servicios limitados de televisión y aquéllos que ocupen ondas electromagnéticas, cualquiera que sea su naturaleza, los cuales serán intransferible e intransmisibles. </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04920"/>
            <a:ext cx="9144000" cy="60894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rtículo 25.- </a:t>
            </a:r>
            <a:r>
              <a:rPr b="1" lang="en-US" sz="2000" spc="-1" strike="noStrike" u="sng">
                <a:solidFill>
                  <a:srgbClr val="ffff00"/>
                </a:solidFill>
                <a:uFillTx/>
                <a:latin typeface="Times New Roman"/>
              </a:rPr>
              <a:t>Será obligación de los concesionarios de servicios públicos de telecomunicaciones establecer y aceptar interconexiones según las normas técnicas que imparta la Subsecretaría de Telecomunicaciones, a fin de que los usuarios tengan acceso a la totalidad de los servicios públicos instalado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 este efecto, </a:t>
            </a:r>
            <a:r>
              <a:rPr b="1" lang="en-US" sz="2000" spc="-1" strike="noStrike" u="sng">
                <a:solidFill>
                  <a:srgbClr val="ffff00"/>
                </a:solidFill>
                <a:uFillTx/>
                <a:latin typeface="Times New Roman"/>
              </a:rPr>
              <a:t>las partes interesadas pactarán libremente las interconexiones</a:t>
            </a:r>
            <a:r>
              <a:rPr b="0" lang="en-US" sz="2000" spc="-1" strike="noStrike">
                <a:solidFill>
                  <a:srgbClr val="ffff00"/>
                </a:solidFill>
                <a:latin typeface="Times New Roman"/>
              </a:rPr>
              <a:t> dentro del marco técnico fijado por la Subsecretaría y las condiciones jurídicas y económicas de ésta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falta de acuerdo entre las partes se entenderá constituida de pleno derecho una servidumbre legal, siempre que el Subsecretario de Telecomunicaciones, por resolución fundada, declare imprescindible el servicio. En este caso las condiciones técnicas de las interconexiones serán fijadas por la Subsecretaría de Telecomunicaciones oyendo a las parte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rPr>
              <a:t>Las sumas que el servicio dominante debe pagar, a falta de acuerdo entre las partes, por concepto de indemnización y costos necesarios para la interconexión serán fijadas por los Tribunales de Justicia conforme al juicio sumario.</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odrá ejecutarse la interconexión aun antes de haberse dictado sentencia en el juicio, siempre que el servicio dominante pague o asegure el pago de la cantidad que el tribunal fije provisionalmente oyendo a las partes y a un perito.</a:t>
            </a:r>
            <a:endParaRPr b="0" lang="en-US" sz="20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6.- Los servicios públicos de telecomunicaciones podrán instalar sus propios sistemas </a:t>
            </a:r>
            <a:r>
              <a:rPr b="1" lang="en-US" sz="2400" spc="-1" strike="noStrike" u="sng">
                <a:solidFill>
                  <a:srgbClr val="ffff00"/>
                </a:solidFill>
                <a:uFillTx/>
                <a:latin typeface="Times New Roman"/>
              </a:rPr>
              <a:t>o usar los de otras empresas</a:t>
            </a:r>
            <a:r>
              <a:rPr b="0" lang="en-US" sz="2400" spc="-1" strike="noStrike">
                <a:solidFill>
                  <a:srgbClr val="ffff00"/>
                </a:solidFill>
                <a:latin typeface="Times New Roman"/>
              </a:rPr>
              <a:t>, de acuerdo con las concesiones que les hayan sido otorgada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dos los concesionarios que presten servicios públicos internacionales tendrán acceso al uso de sistemas por satélite, </a:t>
            </a:r>
            <a:r>
              <a:rPr b="1" lang="en-US" sz="2400" spc="-1" strike="noStrike" u="sng">
                <a:solidFill>
                  <a:srgbClr val="ffff00"/>
                </a:solidFill>
                <a:uFillTx/>
                <a:latin typeface="Times New Roman"/>
              </a:rPr>
              <a:t>en condiciones de igualdad en lo técnico y en lo económico</a:t>
            </a:r>
            <a:r>
              <a:rPr b="0" lang="en-US" sz="2400" spc="-1" strike="noStrike">
                <a:solidFill>
                  <a:srgbClr val="ffff00"/>
                </a:solidFill>
                <a:latin typeface="Times New Roman"/>
              </a:rPr>
              <a:t>, según los términos de la concesión y lo que hayan convenido las par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0" y="358128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9.- </a:t>
            </a:r>
            <a:r>
              <a:rPr b="1" lang="en-US" sz="2400" spc="-1" strike="noStrike" u="sng">
                <a:solidFill>
                  <a:srgbClr val="ffff00"/>
                </a:solidFill>
                <a:uFillTx/>
                <a:latin typeface="Times New Roman"/>
              </a:rPr>
              <a:t>Los precios o tarifas de los servicios públicos de telecomunicaciones, dentro del territorio nacional y hacia el exterior, serán libremente convenidos entre los proveedores del servicio y los usuario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 anterior será también aplicable a los servicios intermedios que contraten entre sí las distintas empresas, entidades o personas que intervengan en su prest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304920"/>
            <a:ext cx="9144000" cy="6199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30.- </a:t>
            </a:r>
            <a:r>
              <a:rPr b="1" lang="es-ES_tradnl" sz="2400" spc="-1" strike="noStrike" u="sng">
                <a:solidFill>
                  <a:srgbClr val="ffff00"/>
                </a:solidFill>
                <a:uFillTx/>
                <a:latin typeface="Times New Roman"/>
              </a:rPr>
              <a:t>Si las condiciones o regulaciones del mercado fueren insuficientes para asegurar un régimen de libre competencia o se dieren situaciones monopólicas u otras distorsiones de semejante naturaleza, según calificaciones que de oficio o a petición de parte haga la Fiscalía Nacional Económica, los Ministros de Transportes y Telecomunicaciones y de Economía, Fomento y Reconstrucción podrán fijar, sobre la base de tal pronunciamiento, también de oficio o a petición de parte, mediante resolución conjunta, los precios o tarifas máximas de los servicios que se encuentren en tal situ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s precios o tarifas que se fijen deberán determinarse de acuerdo a los costos directos y necesarios para producir el servicio y el margen de rentabilidad que señalen los Ministerios antes mencionado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o dispuesto en los incisos anteriores será también aplicable a los precios o tarifas de los servicios que se presten entre sí las distintas empresas, entidades o personas que intervengan en el funcionamiento de un servicio públic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2.- Toda infracción a lo dispuesto en la presente ley, no sancionada especialmente por ella, será castigada con una multa a beneficio fiscal que no podrá ser inferior a 10 ni superior a 100 unidades tributarias, según su valor vigente al momento de su aplic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ales multas serán impuestas por la Subsecretaría de Telecomunicaciones y serán apelables ante el Ministro del ramo, en un plazo de 5 días contado desde su notificación.</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48" name=""/>
          <p:cNvSpPr/>
          <p:nvPr/>
        </p:nvSpPr>
        <p:spPr>
          <a:xfrm>
            <a:off x="0" y="3048120"/>
            <a:ext cx="9144000" cy="3512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3.- Sin perjuicio de las multas que procedan en conformidad con el artículo precedente, la </a:t>
            </a:r>
            <a:r>
              <a:rPr b="1" lang="en-US" sz="2400" spc="-1" strike="noStrike" u="sng">
                <a:solidFill>
                  <a:srgbClr val="ffff00"/>
                </a:solidFill>
                <a:uFillTx/>
                <a:latin typeface="Times New Roman"/>
              </a:rPr>
              <a:t>Subsecretaría de Telecomunicaciones podrá suspender hasta por 30 días el funcionamiento de un servicio, cuando se contravengan las normas técnicas</a:t>
            </a:r>
            <a:r>
              <a:rPr b="0" lang="en-US" sz="2400" spc="-1" strike="noStrike">
                <a:solidFill>
                  <a:srgbClr val="ffff00"/>
                </a:solidFill>
                <a:latin typeface="Times New Roman"/>
              </a:rPr>
              <a:t> del marco regulador a que se refiere el artículo 24 de la presente ley, siempre que no se subsanen las observaciones que formule dentro del plazo que fije para este efect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la resolución del Subsecretario podrá apelarse en la forma señalada en el inciso final del artículo anteri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2° Transitorio.- </a:t>
            </a:r>
            <a:r>
              <a:rPr b="1" lang="en-US" sz="2400" spc="-1" strike="noStrike" u="sng">
                <a:solidFill>
                  <a:srgbClr val="ffff00"/>
                </a:solidFill>
                <a:uFillTx/>
                <a:latin typeface="Times New Roman"/>
              </a:rPr>
              <a:t>Las concesiones y permiso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elecomunicaciones actualmente vigentes y aquell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autorizaciones de televisión otorgadas en virtu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Ley N° 17.377, subsistirán después de la publica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esta ley, hasta el vencimiento de los plazos por lo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ayan sido otorgados, según correspond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l plazo que se otorgue, en virtud de lo dispues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 el inciso final del artículo 24, a los canale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levisión a que se refiere el inciso precedente,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drá ser inferior a dos años, contado desde la fech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gencia de esta le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tándose de solicitudes de concesión de servic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radiodifusión sonora en trámite a la fech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gencia de la presente ley, les será aplicable el plaz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duración establecido en el decreto con fuerza de le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 4, de 24 de Julio de 1959.</a:t>
            </a:r>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2:02:40Z</dcterms:created>
  <dc:creator>Centro Estudios Publicos</dc:creator>
  <dc:description/>
  <dc:language>en-US</dc:language>
  <cp:lastModifiedBy>Centro Estudios Publicos</cp:lastModifiedBy>
  <dcterms:modified xsi:type="dcterms:W3CDTF">2004-10-25T23:39:23Z</dcterms:modified>
  <cp:revision>5</cp:revision>
  <dc:subject/>
  <dc:title>Sin título de diapositiva</dc:title>
</cp:coreProperties>
</file>