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3A1-2E92-434E-B469-9069CCAE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839-D734-44FD-A406-8D14DEBD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C56-E120-430A-AC46-C9B1E1D4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869-731C-421A-B26D-E2541636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02B-B5DC-4D29-AB6E-B15115D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144-C090-4823-A638-4848052D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FF9-7A03-4AED-B88B-EDAA9204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985-A12A-46FC-9A0F-F271B29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B20-AF04-4C90-B336-A7433384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B62-92BA-4EB6-AFDB-E31B763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FEB-88E9-43C1-BC44-E0B63AA9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B12-A11D-4781-A0D3-591AAF7A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EFCB-5D68-4742-AFF0-734A4D55A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6640"/>
            <a:ext cx="91440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Decreto ley 229 CREA EL REGISTRO NACIONAL DE TELECOMUNICACIONES (24/12/1973)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Vistos: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La necesidad de tener un control a nivel nacional de los equipos de telecomunicaciones existentes en el paí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; La conveniencia de proceder a la dictación de una nueva reglamentación para los Servicios de Telecomunicaciones; Lo informado por la Superintendencia de Servicios Eléctricos, de Gas y de Telecomunicaciones; La recomendación del Comité de Telecomunicaciones de la Defensa Nacio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1°- Créase el Registro Nacional de Telecomunicaciones, como herramienta básica para la planificación del desarrollo de las telecomunicaciones y la administración de las mis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2°- Toda instalación y/o tipo de emisión que no figure en este Registro, o que figure con características diferentes a las en él registradas, se considerará como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uso ilegal y se le aplicará al infractor las disposiciones penales correspondiente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664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5°.- Sin perjuicio de las reglas de interpretación contempladas en el Código Civil, el significado de los términos empleados en esta ley y no definidos en ella, será preferentemente el que le asignen los convenios internacionales sobre telecomunicaciones vigente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 velará porque todos los servicios de telecomunicaciones y sistemas e instalaciones que generen ondas electromagnéticas, cualquiera sea su naturaleza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an instalados, operados y explotados de modo que no causen lesiones a personas o daños a cosas ni interferencias perjudiciales a los servicios de telecomunicaciones nacionales o extranjeros o interrupciones en su funciona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- Para la aplicación del Registro a que se refiere el artículo 1°, se dispone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Suspéndese, a partir de esta fecha, toda recepción de solicitudes relativas a concesiones, autorizaciones, licencias y permisos de estaciones de radiocomunicaciones, de servicio público, de servicio privado, de radiodifusión, radioaficionados y banda local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Decláranse en carácter provisional, por un período de seis meses, todas las concesiones, autorizaciones, licencias y permisos de servicio público, servicio privado, radiodifusión, radioaficionados y banda local vigentes a la fecha del presente decreto ley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 Al término de este período se dictarán las nuevas concesiones, autorizaciones, licencias y permisos definitivos debidamente regist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os concesionarios y permisionarios de los servicios mencionados en las letras a) y b) de este artículo deberán declarar a la Superintendencia de Servicios Eléctricos, de Gas y de Telecomunicaciones, todas las características de transmisión de sus equipos; tal como se indica en los formularios de investigación confeccionados para estos efectos. Para ello, contarán con un plazo de sesenta días a contar de la fecha de publicación del presente decreto ley en el Diario O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 secuencia de reformas en regulación en Chile se inició con un conj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medidas que situaron al Estado en un rol menos interventor en materia product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focalizándolo en los aspectos de regulación antimonopolios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En esta fa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que ocurrió entre 1974 y 19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lo central fue entregar una clara señal en el sen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que lo que se estaba realizando tenía una motivación económica, era consec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y sería irreversible; es decir, no dependería de las condiciones externas, de las presiones de grupos ni de la sensibilidad del ministro de turno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Seguidamente, a comienzos de los años 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se realizaron una serie de reformas legales e institucionales en sectores caracterizados históricamente como monopolios naturales. Se reformaron las leyes de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telecomunicaciones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de electricidad, de bancos, de sociedades anónimas y se reestructuraron las empresas estatales para abordar ciertos problemas de la organización industrial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La tercera etapa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fue la privatización de las empresas tradicionalmente consideradas monopolios naturales, lo que se inició en la segunda mitad de la década de los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sta segunda ola de privatizaciones es la más relevante no sólo por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montos involucrados, sino por el interés tanto académico como de política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spués de concluir el primer período de privatizaciones en 1979, 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controlaba 58 firmas (menos que las 68 que controlaba en 1970). Sin embar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Estado todavía mantenía bajo su tutela a ENTEL y a ENDESA, el monopoli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rga distancia en telecomunicaciones y el monopolio de generación eléctrica, respectivamente. El Estado tampoco controlaba CODELCO, la más grande firma cuprera chilena; CHILECTRA (distribuidora eléctrica), CTC (monopolio de la red básica telefónica) y la mayoría de las empresas de distribución de agua po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Paredes, Ricardo 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egulación Económica en Chile: La Opción por un Enfoque No Estructural” en Larraín y Vergara (2001) </a:t>
            </a:r>
            <a:r>
              <a:rPr b="1" i="1" lang="es-ES" sz="1600" spc="-1" strike="noStrike">
                <a:solidFill>
                  <a:srgbClr val="ffff00"/>
                </a:solidFill>
                <a:latin typeface="Arial"/>
              </a:rPr>
              <a:t>La Transformación Económica de Chile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 (CE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n www.cep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creto Ley 1.762. Crea la Subsecretaría de Telecomunicaciones dependiente del Ministerio de Transportes, pasando éste a denominarse “Ministerio de Transportes y Telecomunicaciones” (30/04/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nsider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1° La necesidad de crear un organismo superior que dirija, oriente, controle, coordine, fomente y desarrolle las Telecomunicaciones en Ch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2° La necesidad de que este organismo superior sea de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alto nivel técnico profesional, específico para las Telecomunicaciones y suficientemente dinámico y ejecutivo para cumplir sus fun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3° La importancia de las Telecomunicaciones como factor para el desarrollo socioeconómic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1 El Ministerio de Transportes se denominará en lo sucesivo “Ministerio de Transportes y Telecomunicaciones”, correspondiéndole la tuición y la dirección técnica superiores de las Telecomunicaciones del país, tanto nacionales como internacionales… Lo dispuesto en el incio anterior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o será aplicable al contenido de la información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cualquiera sea el medio o sistema en que ella sea difundid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41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rtículo 4°.- Corresponderá al Ministro de Transportes y Telecomunicaciones, proponer al Presidente de la República las políticas de Telecomunicaciones que deben aplicarse y adoptar todas las medidas técnicas normativas necesarias para orientar, controlar, dirigir, coordinar, fomentar, desarrollar, estructurar y organizar las Telecomunicaciones del país. En todo caso, cuando dichas medidas técnicas signifiquen un mayor gasto, requerirán la visación del Ministerio de Hac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9144000" cy="63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rtículo 6°.- El Ministerio de Transportes y Telecomunicaciones tendrá las siguientes funciones y atribuciones en materia de telecomunicaciones, las que ejercerá a través de la correspondiente Subsecretarí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roponer las políticas de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articipar en la planificación nacional y regional de desarrollo de las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Velar por el cumplimiento de las leyes, reglamentos, normas técnicas y demás disposiciones internas, como, igualmente, de los tratados, convenios y acuerdos internacionales sobre telecomunicaciones vigentes en Chile y de las políticas nacionales de telecomunicaciones aprobadas por el Supremo Gobier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laborar y mantener actualizados los planes fundamentales de telecomunicacion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el presente decreto ley, sus reglamentos y normas complementari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Administrar y controlar el espectro radioeléctric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Dictar las normas técnicas sobre telecomunicaciones y controlar su cumplimi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presentar al país, como Administración Chilena de Telecomunicaciones, ante la Unión Internacional de Telecomunicaciones y en la suscripción de los acuerdos sobre telecomunicaciones con otros Estados, sin perjuicio de las facultades del Ministerio de Relaciones Exterio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formar y pronunciarse, según corresponda, acerca de las solicitudes de concesión y permisos de telecomunicaciones, su otorgamiento, denegación, suspensión, caducidad y término con arreglo a la l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Coordinar con el Ministerio de Defensa Nacional y demás organismos y entidades competentes la dictación de las normas destinadas a controlar el ingreso al país de material y equipo de telecomunicaciones, como asimismo las relativas a su fabricación y us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querir de las entidades que operen en el ámbito de las telecomunicaciones y de cualquier organismo público los antecedentes e informaciones necesarios para el desempeño de su cometido, los que estarán obligados a proporcionarlos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las sanciones administrativas que establece la Ley General de Telecomunicaciones.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0280"/>
            <a:ext cx="914400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9°- El control de todo o parte de las Telecomunicaciones en situaciones de emergencia, corresponderá al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Ministerio de Defensa Nacional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en la forma que lo establezca la legislación respect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0°-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En el Nivel Regional existirán las Secretarías Regionales Ministeriales de Transportes y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que determine el Ministro, en las que se delegarán, las funciones que le corresponda a la Subsecretaría de Telecomunicaciones. Estas Secretarías Regionales funcionarán con el personal que destine 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2°- El Servicio de Correos y Telégrafos dependerá d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° Transitorio- Todas las referencias legales, reglamentarias o de cualquier naturaleza técnica referidas al Ministerio o al Ministro del Interior, relacionadas con Telecomunicaciones, deben entenderse hechas al Ministerio o al Ministro de Transportes y Telecomunicaciones, según el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, dentro del plazo de un año, contado desde la vigencia del presente decreto ley,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deberá proponer al Supremo Gobierno el proyecto de Ley General de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ey 18.168 LEY GENERAL DE TELECOMUNICACIONES (02/10/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1°.- Para los efectos de esta ley, se entenderá por telecomunicación toda transmisión, emisión o recepción de signos, señales, escritos, imágenes, sonidos e informaciones de cualquier naturaleza, por línea física, radioelectricidad, medios ópticos u otros sistemas electromagnét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2°.-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odos los habitantes de la República tendrán libre e igualitario acceso a las telecomunicaciones y cualquier persona podrá optar a las concesiones y permisos que establece la ley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, salvo en los casos de excepción que las leyes expresamente señalen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.- Para los efectos de esta ley los servicios de telecomunicaciones se clasificarán en la siguiente for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telecomunicaciones de libre recepción o de radiodifusión, cuyas transmisiones están destinadas a la recepción libre y directa por el público en general. Estos servicios comprenden emisiones sonoras, de televisión o de otro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públicos de telecomunicaciones, destinados a satisfacer las necesidades de telecomunicaciones de la comunidad en general. Estos deberán estar diseñados para interconectarse con otros servicios público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limitados de telecomunicaciones, cuyo objeto es satisfacer necesidades específicas de telcomunicaciones de determinadas empresas, entidades o personas previamente convenidas con éstas. Estos servicios pueden comprender los mismos tipos de emisiones mencionadas en la letra a) de este artículo y su prestación no podrá dar acceso a tráfico desde o hacia los usuarios de las redes pública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aficionados a las radiocomunicaciones, cuya finalidad es la intercomunicación radial y la experimentación técnica y científica, llevadas a cabo a título personal y sin fines de luc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33:25Z</dcterms:created>
  <dc:creator>Lucas Sierra</dc:creator>
  <dc:description/>
  <dc:language>en-US</dc:language>
  <cp:lastModifiedBy>Centro Estudios Publicos</cp:lastModifiedBy>
  <dcterms:modified xsi:type="dcterms:W3CDTF">2004-10-20T22:04:20Z</dcterms:modified>
  <cp:revision>8</cp:revision>
  <dc:subject/>
  <dc:title>Diapositiva 1</dc:title>
</cp:coreProperties>
</file>