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75B03-4735-4104-9959-BFB6DC406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F7D93-C9E2-49CD-B1DC-78ADA3A4E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4EDAD-693A-4FEC-A98F-91C797247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79D66-AD77-4D14-8C86-2F2DB7499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C240B-E3AA-4866-AB6F-4D632EE52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94F97-9959-4509-A512-C9E4AE38B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1F94D-E7E4-43AA-A9A9-1D70FF7D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6871C-8F93-499B-97CA-517D0D931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E16C0-56BC-4D5B-8F96-0F9E733D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2D930-2731-4B90-8C6A-8ADC9D6E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9AC1-5CC1-4DE0-AFD8-2E7820E9B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FA29E-D75D-4FB5-B384-ED3E3941E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7E47-93B6-4234-B418-5B4655837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CRETO CON FUERZA DE LEY N° 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Ley General de Servicios Eléctric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31/08/195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a:t>
            </a:r>
            <a:r>
              <a:rPr b="0" lang="es-CL" sz="2000" spc="-1" strike="noStrike">
                <a:solidFill>
                  <a:srgbClr val="ffff00"/>
                </a:solidFill>
                <a:latin typeface="Times New Roman"/>
              </a:rPr>
              <a:t> Están comprendidas en las disposiciones de la presente le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1° Las concesiones para establecer, operar y explo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f) Centrales telefón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g) Oficinas telegráf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h) Oficinas cablegráfic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i) Centrales teleimpresor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j) </a:t>
            </a:r>
            <a:r>
              <a:rPr b="1" lang="es-CL" sz="2000" spc="-1" strike="noStrike" u="sng">
                <a:solidFill>
                  <a:srgbClr val="ffff00"/>
                </a:solidFill>
                <a:uFillTx/>
                <a:latin typeface="Times New Roman"/>
              </a:rPr>
              <a:t>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r>
              <a:rPr b="0" lang="es-CL" sz="2000" spc="-1" strike="noStrike">
                <a:solidFill>
                  <a:srgbClr val="ffff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k) Estaciones de radiocomunicaciones y de radiodifusión, incluyendo en estas últimas las de televis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3° Las concesiones para hacer el servicio público con las instalaciones mencionadas en las letras e) y siguientes del número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Los permisos para el establecimiento de estaciones de radiocomunicaciones de aficionados o que se destinen a fines científicos de experimentac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Los permisos para la instalación y funcionamiento de equipos que utilicen ondas electromagnéticas para aplicaciones distintas de las telecomunicaciones.</a:t>
            </a:r>
            <a:endParaRPr b="0" lang="en-US" sz="2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0"/>
            <a:ext cx="9144000" cy="684180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 </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EXPLOTACION DE LOS SERVICIOS ELECTRICOS Y DEL SUMINISTR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10°</a:t>
            </a:r>
            <a:r>
              <a:rPr b="0" lang="es-CL" sz="2000" spc="-1" strike="noStrike">
                <a:solidFill>
                  <a:srgbClr val="ffff00"/>
                </a:solidFill>
                <a:latin typeface="Times New Roman"/>
              </a:rPr>
              <a:t> Los concesionarios deberán mantener durante todo el plazo de la concesión, en cada categoría de </a:t>
            </a:r>
            <a:r>
              <a:rPr b="1" lang="es-CL" sz="2000" spc="-1" strike="noStrike" u="sng">
                <a:solidFill>
                  <a:srgbClr val="ffff00"/>
                </a:solidFill>
                <a:uFillTx/>
                <a:latin typeface="Times New Roman"/>
              </a:rPr>
              <a:t>su personal directivo, técnico y administrativo, una proporción de chilenos no inferior al 75% del total en servici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0°</a:t>
            </a:r>
            <a:r>
              <a:rPr b="0" lang="es-CL" sz="2000" spc="-1" strike="noStrike">
                <a:solidFill>
                  <a:srgbClr val="ffff00"/>
                </a:solidFill>
                <a:latin typeface="Times New Roman"/>
              </a:rPr>
              <a:t> En igualdad de condiciones, los concesionarios emplearán </a:t>
            </a:r>
            <a:r>
              <a:rPr b="1" lang="es-CL" sz="2000" spc="-1" strike="noStrike" u="sng">
                <a:solidFill>
                  <a:srgbClr val="ffff00"/>
                </a:solidFill>
                <a:uFillTx/>
                <a:latin typeface="Times New Roman"/>
              </a:rPr>
              <a:t>materias primas nacionales</a:t>
            </a:r>
            <a:r>
              <a:rPr b="0" lang="es-CL" sz="2000" spc="-1" strike="noStrike">
                <a:solidFill>
                  <a:srgbClr val="ffff00"/>
                </a:solidFill>
                <a:latin typeface="Times New Roman"/>
              </a:rPr>
              <a:t> en todas sus instalaciones y equip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5°</a:t>
            </a:r>
            <a:r>
              <a:rPr b="0" lang="es-CL" sz="2000" spc="-1" strike="noStrike">
                <a:solidFill>
                  <a:srgbClr val="ffff00"/>
                </a:solidFill>
                <a:latin typeface="Times New Roman"/>
              </a:rPr>
              <a:t> Cualquiera que sea la ubicación de poblaciones populares que se construyan por instituciones del Estado, dentro del territorio de concesión de una empresa eléctrica, </a:t>
            </a:r>
            <a:r>
              <a:rPr b="1" lang="es-CL" sz="2000" spc="-1" strike="noStrike" u="sng">
                <a:solidFill>
                  <a:srgbClr val="ffff00"/>
                </a:solidFill>
                <a:uFillTx/>
                <a:latin typeface="Times New Roman"/>
              </a:rPr>
              <a:t>ésta quedará obligada a extender a estas poblaciones sus redes de distribución</a:t>
            </a:r>
            <a:r>
              <a:rPr b="0" lang="es-CL" sz="2000" spc="-1" strike="noStrike">
                <a:solidFill>
                  <a:srgbClr val="ffff00"/>
                </a:solidFill>
                <a:latin typeface="Times New Roman"/>
              </a:rPr>
              <a:t>. En estos casos, la Dirección, oyendo a la empresa, podrá fijar la parte del costo de las instalaciones que será de cargo de la empresa. Sólo esta parte se incorporará al capital inmovilizado; pero el resto se tomará en cuenta para los gastos de conservación y depreciación.</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8°</a:t>
            </a:r>
            <a:r>
              <a:rPr b="0" lang="es-CL" sz="2000" spc="-1" strike="noStrike">
                <a:solidFill>
                  <a:srgbClr val="ffff00"/>
                </a:solidFill>
                <a:latin typeface="Times New Roman"/>
              </a:rPr>
              <a:t> </a:t>
            </a:r>
            <a:r>
              <a:rPr b="1" lang="es-CL" sz="2000" spc="-1" strike="noStrike" u="sng">
                <a:solidFill>
                  <a:srgbClr val="ffff00"/>
                </a:solidFill>
                <a:uFillTx/>
                <a:latin typeface="Times New Roman"/>
              </a:rPr>
              <a:t>Los concesionarios están obligados a llevar a cabo la interconexión de sus instalaciones cuando el Presidente de la República, con informe de la Dirección, la considere conveniente para la mejor explotación de sus respectivas concesiones o de cualquiera de ellas</a:t>
            </a:r>
            <a:r>
              <a:rPr b="0" lang="es-CL" sz="2000" spc="-1" strike="noStrike">
                <a:solidFill>
                  <a:srgbClr val="ffff00"/>
                </a:solidFill>
                <a:latin typeface="Times New Roman"/>
              </a:rPr>
              <a:t>. En caso de falta de acuerdo entre los concesionarios sobre la forma de realizar la interconexión y de efectuar el transporte o transferencia de la energía o sobre la forma de realizar las telecomunicaciones combinadas, la Dirección oirá a los concesionarios y resolverá al respecto. En ningún caso la interconexión podrá significar gastos perjudiciales para los concesionarios.</a:t>
            </a: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457200"/>
            <a:ext cx="9144000" cy="593496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S TARIFA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6° </a:t>
            </a:r>
            <a:r>
              <a:rPr b="0" lang="es-CL" sz="2000" spc="-1" strike="noStrike">
                <a:solidFill>
                  <a:srgbClr val="ffff00"/>
                </a:solidFill>
                <a:latin typeface="Times New Roman"/>
              </a:rPr>
              <a:t>Las tarifas que podrán cobrar como máximo las empresas eléctricas de servicio público, serán reguladas en la forma que establece el artículo 144°, en relación con el valor del capital inmovilizado invertido en el aprovechamiento de las concesiones que, de acuerdo con lo dispuesto en el artículo 140°, esté vigente a la fecha de la solicitud de fijación de tarifa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5°</a:t>
            </a:r>
            <a:r>
              <a:rPr b="0" lang="es-CL" sz="2000" spc="-1" strike="noStrike">
                <a:solidFill>
                  <a:srgbClr val="ffff00"/>
                </a:solidFill>
                <a:latin typeface="Times New Roman"/>
              </a:rPr>
              <a:t> </a:t>
            </a:r>
            <a:r>
              <a:rPr b="1" lang="es-CL" sz="2000" spc="-1" strike="noStrike" u="sng">
                <a:solidFill>
                  <a:srgbClr val="ffff00"/>
                </a:solidFill>
                <a:uFillTx/>
                <a:latin typeface="Times New Roman"/>
              </a:rPr>
              <a:t>Créase una Comisión de Tarifas</a:t>
            </a:r>
            <a:r>
              <a:rPr b="0" lang="es-CL" sz="2000" spc="-1" strike="noStrike">
                <a:solidFill>
                  <a:srgbClr val="ffff00"/>
                </a:solidFill>
                <a:latin typeface="Times New Roman"/>
              </a:rPr>
              <a:t> cuya finalidad será la de intervenir, en la forma prescrita por la presente ley, en la fijación del capital inmovilizado y de los pliegos de tarifas de las empresas eléctricas de servicio públic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sta Comisión, en su calidad de organismo público, someterá sus resoluciones a la Contraloría General de la República.</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6°</a:t>
            </a:r>
            <a:r>
              <a:rPr b="0" lang="es-CL" sz="2000" spc="-1" strike="noStrike">
                <a:solidFill>
                  <a:srgbClr val="ffff00"/>
                </a:solidFill>
                <a:latin typeface="Times New Roman"/>
              </a:rPr>
              <a:t> La Comisión de Tarifas estará integrada por los siguientes miembr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l Director General de Servicios Eléctricos y de Gas, que la presidirá; un representante de la Corporación de Fomento de la Producción, designado por el Consejo de la Corporación; un representante del Instituto de Ingenieros de Chile, designado por el Directorio del Instituto; un representante de la Confederación de la Producción y del Comercio, designado por su Consejo General, y un miembro de libre designación por el Presidente de la República.</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0"/>
            <a:ext cx="9144000" cy="685764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DIRECCION GENERAL DE SERVICIOS ELECTRICOS</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9°</a:t>
            </a:r>
            <a:r>
              <a:rPr b="0" lang="es-CL" sz="2000" spc="-1" strike="noStrike">
                <a:solidFill>
                  <a:srgbClr val="ffff00"/>
                </a:solidFill>
                <a:latin typeface="Times New Roman"/>
              </a:rPr>
              <a:t> Corresponde a la Dirección: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4° Otorgar, previo examen, los permisos y autorizaciones para ejercer las funciones de </a:t>
            </a:r>
            <a:r>
              <a:rPr b="1" lang="es-CL" sz="2000" spc="-1" strike="noStrike" u="sng">
                <a:solidFill>
                  <a:srgbClr val="ffff00"/>
                </a:solidFill>
                <a:uFillTx/>
                <a:latin typeface="Times New Roman"/>
              </a:rPr>
              <a:t>instaladores, electricistas de teatro, operadores de biógrafo, radiotécnicos, radio operadores, telegrafistas u otros que señale el reglamento respectivo</a:t>
            </a:r>
            <a:r>
              <a:rPr b="1" lang="es-CL" sz="2000" spc="-1" strike="noStrike">
                <a:solidFill>
                  <a:srgbClr val="ffff00"/>
                </a:solidFill>
                <a:latin typeface="Times New Roman"/>
              </a:rPr>
              <a:t>;</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Dictar normas para evitar interferencias mutuas de sistemas de telecomunicaciones entre sí, interferencias mutuas entre sistemas eléctricos de cualquier otra naturaleza, y entre unos y otro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Dictar normas para evitar acciones electrolíticas de difusión gaseosa o de otro orden que puedan ocurrir entre líneas y canalizaciones eléctricas subterráneas con líneas férreas, líneas de tranvías, cañerías de agua potable, cañerías de gas, cañerías de alcantarillado, etc.;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7° Dictar resoluciones, en casos de emergencia, para establecer racionamientos o restricciones en los servicios públicos eléctric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8° </a:t>
            </a:r>
            <a:r>
              <a:rPr b="1" lang="es-CL" sz="2000" spc="-1" strike="noStrike" u="sng">
                <a:solidFill>
                  <a:srgbClr val="ffff00"/>
                </a:solidFill>
                <a:uFillTx/>
                <a:latin typeface="Times New Roman"/>
              </a:rPr>
              <a:t>Comprobar la exactitud de los instrumentos destinados a la medida de la energía eléctrica suministrada a los consumidores, la potencia eléctrica o cualquier otra magnitud, comprobar la intensidad luminosa y la duración de lamparillas u otros artefactos eléctricos de iluminación, y la capacidad de los artefactos eléctricos de calefacción, refrigeradores, calentadores de agua, cocinas, etc.,</a:t>
            </a:r>
            <a:r>
              <a:rPr b="0" lang="es-CL" sz="2000" spc="-1" strike="noStrike">
                <a:solidFill>
                  <a:srgbClr val="ffff00"/>
                </a:solidFill>
                <a:latin typeface="Times New Roman"/>
              </a:rPr>
              <a:t> a través del Laboratorio de Pruebas de la Dirección o Laboratorios que a juicio de ella sean competentes;</a:t>
            </a:r>
            <a:endParaRPr b="0" lang="en-US" sz="20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762120"/>
            <a:ext cx="9144000" cy="5229000"/>
          </a:xfrm>
          <a:prstGeom prst="rect">
            <a:avLst/>
          </a:prstGeom>
          <a:no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6° Atender las consultas del público y resolver los reclamos que se formulen contra los técnicos autorizados a que se refiere el numerando 4° de este artículo; </a:t>
            </a: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7° Imponer a los concesionarios o particulares las multas autorizadas por esta ley y hacerlas efectivas, no pudiendo los jueces conceder apelaciones cuando procedan, sino en el efecto devolutivo. Suspender temporal o definitivamente los permisos y autorizaciones que se hayan otorgado de acuerdo con el numerando 4° de este artículo, o imponer multas a los poseedores de esos permisos, cuando compruebe faltas graves en el ejercicio de las funciones correspondient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68580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7° Las servidumbres a que estarán sujet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a) Las heredades, para la construcción, establecimiento y explotación de centrales térmicas o hidráulicas con todas sus obras anexas, de sub-estaciones, de líneas de transporte de la energía eléctrica, de líneas de telecomunicaciones y de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b) Los edificios, para apoyar en ellos líneas de telecomunicaciones de servicio público y colocar rosetas de suspensión de alambres de troles, y para ubicar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c) Las postaciones existentes de Empresas Eléctricas, para la colocación de otras líneas eléctricas de servicio público,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d) Las estructuras de antenas y sistemas irradiantes existentes, para la colocación de otras antenas o sistemas irradi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8° Las relaciones de las empresas concesionarias con el Estado, las Municipalidades y los particular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676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3°</a:t>
            </a:r>
            <a:r>
              <a:rPr b="0" lang="es-CL" sz="1800" spc="-1" strike="noStrike">
                <a:solidFill>
                  <a:srgbClr val="ffff00"/>
                </a:solidFill>
                <a:latin typeface="Times New Roman"/>
              </a:rPr>
              <a:t> No necesitarán concesión las instalaciones de radiocomunicaciones de barcos, de estaciones costeras, de aeronaves y de estaciones, aeronáuticas, militares y de policía, fijas o móviles. No obstante, las instalaciones correspondientes deberán ajustarse a las disposiciones técnicas de la presente ley y sus reglamentos, y a los convenios internacionales subscritos por el Gobiern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5°</a:t>
            </a:r>
            <a:r>
              <a:rPr b="0" lang="es-CL" sz="1800" spc="-1" strike="noStrike">
                <a:solidFill>
                  <a:srgbClr val="ffff00"/>
                </a:solidFill>
                <a:latin typeface="Times New Roman"/>
              </a:rPr>
              <a:t> Las instalaciones que se enumeran en el número 1° del artículo 1° de esta ley, podrán ser destinadas a </a:t>
            </a:r>
            <a:r>
              <a:rPr b="1" lang="es-CL" sz="1800" spc="-1" strike="noStrike" u="sng">
                <a:solidFill>
                  <a:srgbClr val="ffff00"/>
                </a:solidFill>
                <a:uFillTx/>
                <a:latin typeface="Times New Roman"/>
              </a:rPr>
              <a:t>servicio público o privado</a:t>
            </a:r>
            <a:r>
              <a:rPr b="0" lang="es-CL" sz="1800" spc="-1" strike="noStrike">
                <a:solidFill>
                  <a:srgbClr val="ffff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6°</a:t>
            </a:r>
            <a:r>
              <a:rPr b="0" lang="es-CL" sz="1800" spc="-1" strike="noStrike">
                <a:solidFill>
                  <a:srgbClr val="ffff00"/>
                </a:solidFill>
                <a:latin typeface="Times New Roman"/>
              </a:rPr>
              <a:t> Es servicio </a:t>
            </a:r>
            <a:r>
              <a:rPr b="1" lang="es-CL" sz="1800" spc="-1" strike="noStrike" u="sng">
                <a:solidFill>
                  <a:srgbClr val="ffff00"/>
                </a:solidFill>
                <a:uFillTx/>
                <a:latin typeface="Times New Roman"/>
              </a:rPr>
              <a:t>público</a:t>
            </a:r>
            <a:r>
              <a:rPr b="0" lang="es-CL" sz="1800" spc="-1" strike="noStrike">
                <a:solidFill>
                  <a:srgbClr val="ffff00"/>
                </a:solidFill>
                <a:latin typeface="Times New Roman"/>
              </a:rPr>
              <a:t> eléctrico, la distribución de energía para el uso de poblaciones, la telecomunicación dentro o entre poblaciones, y la radiodifu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Es servicio </a:t>
            </a:r>
            <a:r>
              <a:rPr b="1" lang="es-CL" sz="1800" spc="-1" strike="noStrike" u="sng">
                <a:solidFill>
                  <a:srgbClr val="ffff00"/>
                </a:solidFill>
                <a:uFillTx/>
                <a:latin typeface="Times New Roman"/>
              </a:rPr>
              <a:t>privado</a:t>
            </a:r>
            <a:r>
              <a:rPr b="0" lang="es-CL" sz="1800" spc="-1" strike="noStrike">
                <a:solidFill>
                  <a:srgbClr val="ffff00"/>
                </a:solidFill>
                <a:latin typeface="Times New Roman"/>
              </a:rPr>
              <a:t> eléctrico, la distribución de energía para el uso exclusivo de los consumidores enumerados en la concesión y la telecomunicación dentro o fuera de poblaciones para el uso exclusivo de las personas indicadas en la conce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El servicio público telegráfico dentro del territorio nacional, es monopolio del Estado</a:t>
            </a:r>
            <a:r>
              <a:rPr b="0" lang="es-CL" sz="1800" spc="-1" strike="noStrike">
                <a:solidFill>
                  <a:srgbClr val="ffff00"/>
                </a:solidFill>
                <a:latin typeface="Times New Roman"/>
              </a:rPr>
              <a:t>. En consecuencia, no podrán otorgarse concesiones de oficinas y líneas telegráficas ni de oficinas y líneas cablegráficas destinadas a hacer servicio público interior, salvo en las condiciones señaladas en el inciso 2° del artículo 7° de la ley 7.392, de 31 de diciembre de 194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Pero las empresas telegráficas y cablegráficas que actualmente hagan servicio público interior, a virtud de leyes especiales, concesiones u otros permisos continuarán haciéndolo hasta el término de esas autorizacion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6863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0°</a:t>
            </a:r>
            <a:r>
              <a:rPr b="0" lang="es-CL" sz="2000" spc="-1" strike="noStrike">
                <a:solidFill>
                  <a:srgbClr val="ffff00"/>
                </a:solidFill>
                <a:latin typeface="Times New Roman"/>
              </a:rPr>
              <a:t> Servicio privado de telecomunicaciones sólo podrá hacerse entre los puntos del territorio enumerados en la concesión correspondiente, y </a:t>
            </a:r>
            <a:r>
              <a:rPr b="1" lang="es-CL" sz="2000" spc="-1" strike="noStrike" u="sng">
                <a:solidFill>
                  <a:srgbClr val="ffff00"/>
                </a:solidFill>
                <a:uFillTx/>
                <a:latin typeface="Times New Roman"/>
              </a:rPr>
              <a:t>cuando entre ellos no exista servicio de la misma clase proporcionado por el Telégrafo del Estado u otra empresa de servicio público de telecomunicaciones</a:t>
            </a:r>
            <a:r>
              <a:rPr b="0" lang="es-CL" sz="2000" spc="-1" strike="noStrike">
                <a:solidFill>
                  <a:srgbClr val="ffff00"/>
                </a:solidFill>
                <a:latin typeface="Times New Roman"/>
              </a:rPr>
              <a:t>. Pero el Presidente de la República podrá caducar estas concesiones de servicio privado cuando el Telégrafo del Estado o empresas, de servicio público de telecomunicaciones proporcionen, entre los mismos puntos, servicio de la misma calida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Sin embargo, cuando se trate de servicios permanentes que exijan características y condiciones de rapidez o seguridad diferentes del servicio de público, el Presidente de la República podrá otorgar concesiones de servicio privado de telecomunicaciones o mantener las otorgadas, a empresas estatales o semi-estatales, a servicios públicos y a las entidades particulares que determin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a:t>
            </a:r>
            <a:r>
              <a:rPr b="0" lang="es-CL" sz="2000" spc="-1" strike="noStrike">
                <a:solidFill>
                  <a:srgbClr val="ffff00"/>
                </a:solidFill>
                <a:latin typeface="Times New Roman"/>
              </a:rPr>
              <a:t> La aplicación de la presente ley, corresponderá al </a:t>
            </a:r>
            <a:r>
              <a:rPr b="1" lang="es-CL" sz="2000" spc="-1" strike="noStrike" u="sng">
                <a:solidFill>
                  <a:srgbClr val="ffff00"/>
                </a:solidFill>
                <a:uFillTx/>
                <a:latin typeface="Times New Roman"/>
              </a:rPr>
              <a:t>Ministerio del Interior</a:t>
            </a:r>
            <a:r>
              <a:rPr b="0" lang="es-CL" sz="2000" spc="-1" strike="noStrike">
                <a:solidFill>
                  <a:srgbClr val="ffff00"/>
                </a:solidFill>
                <a:latin typeface="Times New Roman"/>
              </a:rPr>
              <a:t>, por conducto de la Dirección General de Servicios Eléctricos (en adelante Direcció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4°</a:t>
            </a:r>
            <a:r>
              <a:rPr b="0" lang="es-CL" sz="2000" spc="-1" strike="noStrike">
                <a:solidFill>
                  <a:srgbClr val="ffff00"/>
                </a:solidFill>
                <a:latin typeface="Times New Roman"/>
              </a:rPr>
              <a:t> Los reglamentos que se dicten para la aplicación de la presente ley, indicarán los pliegos de normas que en cada materia técnica deberá dictar la Dirección. Estos pliegos podrán ser modificados periódicamente por la Dirección, </a:t>
            </a:r>
            <a:r>
              <a:rPr b="1" lang="es-CL" sz="2000" spc="-1" strike="noStrike" u="sng">
                <a:solidFill>
                  <a:srgbClr val="ffff00"/>
                </a:solidFill>
                <a:uFillTx/>
                <a:latin typeface="Times New Roman"/>
              </a:rPr>
              <a:t>en concordancia con los progresos que ocurran en estas materias.</a:t>
            </a:r>
            <a:r>
              <a:rPr b="1" lang="es-CL"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914400"/>
            <a:ext cx="9144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Artículo 22°</a:t>
            </a:r>
            <a:r>
              <a:rPr b="0" lang="es-CL" sz="2400" spc="-1" strike="noStrike">
                <a:solidFill>
                  <a:srgbClr val="ffff00"/>
                </a:solidFill>
                <a:latin typeface="Times New Roman"/>
              </a:rPr>
              <a:t> </a:t>
            </a:r>
            <a:r>
              <a:rPr b="1" lang="es-CL" sz="2400" spc="-1" strike="noStrike" u="sng">
                <a:solidFill>
                  <a:srgbClr val="ffff00"/>
                </a:solidFill>
                <a:uFillTx/>
                <a:latin typeface="Times New Roman"/>
              </a:rPr>
              <a:t>Las concesiones de servicio público eléctrico, no constituyen monopolio</a:t>
            </a:r>
            <a:r>
              <a:rPr b="0" lang="es-CL" sz="2400" spc="-1" strike="noStrike">
                <a:solidFill>
                  <a:srgbClr val="ffff00"/>
                </a:solidFill>
                <a:latin typeface="Times New Roman"/>
              </a:rPr>
              <a:t>. El Presidente de la República podrá, en consecuencia, otorgar una segunda concesión de servicio público eléctrico en el mismo territorio o población y entre las mismas poblaciones señaladas a una primera empresa concesionaria, siempre que se impongan al segundo concesionario iguales obligaciones de calidad y extensión de las instalaciones y servicios que al anteri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En ambos casos, los reglamentos establecerán las condiciones especiales que las instalaciones y líneas del segundo concesionario deberán cumplir para no perturbar las del primero y producir el menor entorpecimiento en las calles y caminos ocupados por ambas red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1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CAPITULO I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centrales productoras de energía eléctrica, de líneas de transporte, de subestaciones, de líneas de distribución; de centrales telefónicas, telegráficas, cablegráficas y</a:t>
            </a:r>
            <a:r>
              <a:rPr b="1" lang="es-CL" sz="2000" spc="-1" strike="noStrike" u="sng">
                <a:solidFill>
                  <a:srgbClr val="ffff00"/>
                </a:solidFill>
                <a:uFillTx/>
                <a:latin typeface="Times New Roman"/>
              </a:rPr>
              <a:t> teleimpresoras</a:t>
            </a:r>
            <a:r>
              <a:rPr b="1" lang="es-CL" sz="2000" spc="-1" strike="noStrike">
                <a:solidFill>
                  <a:srgbClr val="ffff00"/>
                </a:solidFill>
                <a:latin typeface="Times New Roman"/>
              </a:rPr>
              <a:t>, y de líneas de telecomunica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27°</a:t>
            </a:r>
            <a:r>
              <a:rPr b="0" lang="es-CL" sz="2000" spc="-1" strike="noStrike">
                <a:solidFill>
                  <a:srgbClr val="ffff00"/>
                </a:solidFill>
                <a:latin typeface="Times New Roman"/>
              </a:rPr>
              <a:t> </a:t>
            </a:r>
            <a:r>
              <a:rPr b="1" lang="es-CL" sz="2000" spc="-1" strike="noStrike" u="sng">
                <a:solidFill>
                  <a:srgbClr val="ffff00"/>
                </a:solidFill>
                <a:uFillTx/>
                <a:latin typeface="Times New Roman"/>
              </a:rPr>
              <a:t>El Presidente de la República</a:t>
            </a:r>
            <a:r>
              <a:rPr b="0" lang="es-CL" sz="2000" spc="-1" strike="noStrike">
                <a:solidFill>
                  <a:srgbClr val="ffff00"/>
                </a:solidFill>
                <a:latin typeface="Times New Roman"/>
              </a:rPr>
              <a:t> resolverá acerca de las solicitudes de concesión, previo informe de la Dirección. El decreto que dicte será reducido a escritura públic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3°</a:t>
            </a:r>
            <a:r>
              <a:rPr b="0" lang="es-CL" sz="2000" spc="-1" strike="noStrike">
                <a:solidFill>
                  <a:srgbClr val="ffff00"/>
                </a:solidFill>
                <a:latin typeface="Times New Roman"/>
              </a:rPr>
              <a:t> El plazo de la concesión definitiva será fijado por el Presidente de la República en el decreto de concesión y será improrrog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ff00"/>
                </a:solidFill>
                <a:uFillTx/>
                <a:latin typeface="Times New Roman"/>
              </a:rPr>
              <a:t>Este plazo no podrá ser menor de treinta años ni mayor de noventa para las concesiones de servicio público, y se fijará en los reglamentos en relación con el costo de primera instalación de la empres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Para las concesiones de servicio privado el plazo no será definido, pero la concesión se extinguirá de hecho si se modifica o termina el objetivo para el cual fueron otorgadas las concesiones.</a:t>
            </a:r>
            <a:endParaRPr b="0" lang="en-US" sz="2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685800"/>
            <a:ext cx="9144000" cy="552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estaciones de radio comunicaciones</a:t>
            </a:r>
            <a:endParaRPr b="0" lang="en-US" sz="2000" spc="-1" strike="noStrike">
              <a:solidFill>
                <a:srgbClr val="000000"/>
              </a:solidFill>
              <a:latin typeface="Times New Roman"/>
            </a:endParaRPr>
          </a:p>
          <a:p>
            <a:pPr algn="just">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7° </a:t>
            </a:r>
            <a:r>
              <a:rPr b="0" lang="es-CL" sz="2000" spc="-1" strike="noStrike">
                <a:solidFill>
                  <a:srgbClr val="ffff00"/>
                </a:solidFill>
                <a:latin typeface="Times New Roman"/>
              </a:rPr>
              <a:t>Las concesiones para el establecimiento de estaciones internacionales de radiocomunicaciones, de estaciones interiores de radiocomunicaciones y de estaciones de radiodifusión, serán definitivas y se otorgarán por el Presidente de la Repúblic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7°</a:t>
            </a:r>
            <a:r>
              <a:rPr b="0" lang="es-CL" sz="2000" spc="-1" strike="noStrike">
                <a:solidFill>
                  <a:srgbClr val="ffff00"/>
                </a:solidFill>
                <a:latin typeface="Times New Roman"/>
              </a:rPr>
              <a:t> No se podrán instalar estaciones de radiodifusión dentro del recinto urbano de las ciudades cabeceras de provincias y departamentos, y su distancia a los límites urbanos será fijada en cada caso por la Dirección, tomando en cuenta la potencia de la estación y la frecuencia en que trabajará.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La Dirección podrá autorizar ubicaciones urbanas cuando se trate de radiodifusoras de televisión o de frecuencia modulada y cuando así lo exigiere la topografía especial de la ciudad.</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8°</a:t>
            </a:r>
            <a:r>
              <a:rPr b="0" lang="es-CL" sz="2000" spc="-1" strike="noStrike">
                <a:solidFill>
                  <a:srgbClr val="ffff00"/>
                </a:solidFill>
                <a:latin typeface="Times New Roman"/>
              </a:rPr>
              <a:t> Cualquiera que sea la categoría o clase de una nueva estación radiotransmisora, su potencia y ubicación </a:t>
            </a:r>
            <a:r>
              <a:rPr b="1" lang="es-CL" sz="2000" spc="-1" strike="noStrike" u="sng">
                <a:solidFill>
                  <a:srgbClr val="ffff00"/>
                </a:solidFill>
                <a:uFillTx/>
                <a:latin typeface="Times New Roman"/>
              </a:rPr>
              <a:t>quedarán limitadas, por las interferencias que pudieran ocasionar a las estaciones de servicio fiscal o público existentes.</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25960"/>
          </a:xfrm>
          <a:prstGeom prst="rect">
            <a:avLst/>
          </a:prstGeom>
          <a:noFill/>
          <a:ln w="0">
            <a:noFill/>
          </a:ln>
        </p:spPr>
        <p:style>
          <a:lnRef idx="0"/>
          <a:fillRef idx="0"/>
          <a:effectRef idx="0"/>
          <a:fontRef idx="minor"/>
        </p:style>
        <p:txBody>
          <a:bodyPr lIns="90000" rIns="90000" tIns="46800" bIns="46800" anchor="t">
            <a:spAutoFit/>
          </a:bodyPr>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78°</a:t>
            </a:r>
            <a:r>
              <a:rPr b="0" lang="es-CL" sz="2000" spc="-1" strike="noStrike">
                <a:solidFill>
                  <a:srgbClr val="ffff00"/>
                </a:solidFill>
                <a:latin typeface="Times New Roman"/>
              </a:rPr>
              <a:t> Sin la previa autorización del Presidente de la República, oída la Dirección, no se podrá transferir  ninguna de las concesiones regidas por la presente ley, ni por enajenación, arriendo, fusión o cualquier otro acto según el cual se transfiere el dominio o el derecho de explotación.</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82°</a:t>
            </a:r>
            <a:r>
              <a:rPr b="0" lang="es-CL" sz="2000" spc="-1" strike="noStrike">
                <a:solidFill>
                  <a:srgbClr val="ffff00"/>
                </a:solidFill>
                <a:latin typeface="Times New Roman"/>
              </a:rPr>
              <a:t> </a:t>
            </a:r>
            <a:r>
              <a:rPr b="1" lang="es-CL" sz="2000" spc="-1" strike="noStrike" u="sng">
                <a:solidFill>
                  <a:srgbClr val="ffff00"/>
                </a:solidFill>
                <a:uFillTx/>
                <a:latin typeface="Times New Roman"/>
              </a:rPr>
              <a:t>Siempre que el Presidente de la República estimare necesario, a proposición de la Dirección, llevar a cabo la expropiación de una empresa eléctrica de servicio público, solicitará del Congreso Nacional la dictación de la ley que declare la utilidad pública para proceder a la expropiación en la forma prevista por la Constitución, y la que conceda los fondos necesarios para pagar el precio que se fijare por convenio mutuo o por los tribunales ordinari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Una Comisión de peritos fijará el valor de tasación de las instalaciones, bienes y derechos de toda naturaleza que constituyan la totalidad de la empresa y estén destinados al servicio público que prestan, inclusive el valor</a:t>
            </a:r>
            <a:r>
              <a:rPr b="0" i="1" lang="es-CL" sz="2000" spc="-1" strike="noStrike">
                <a:solidFill>
                  <a:srgbClr val="ffff00"/>
                </a:solidFill>
                <a:latin typeface="Times New Roman"/>
              </a:rPr>
              <a:t> </a:t>
            </a:r>
            <a:r>
              <a:rPr b="0" lang="es-CL" sz="2000" spc="-1" strike="noStrike">
                <a:solidFill>
                  <a:srgbClr val="ffff00"/>
                </a:solidFill>
                <a:latin typeface="Times New Roman"/>
              </a:rPr>
              <a:t>comercial de ellas como negocio establecido, deducida la parte del capital que haya sido amortizada. La Comisión pericial se constituirá con tres peritos ingenieros, nombrados: </a:t>
            </a:r>
            <a:r>
              <a:rPr b="1" lang="es-CL" sz="2000" spc="-1" strike="noStrike" u="sng">
                <a:solidFill>
                  <a:srgbClr val="ffff00"/>
                </a:solidFill>
                <a:uFillTx/>
                <a:latin typeface="Times New Roman"/>
              </a:rPr>
              <a:t>uno por el Presidente de la República, otro por el concesionario y el tercero por el Presidente de la Corte Suprema de Justicia.</a:t>
            </a:r>
            <a:r>
              <a:rPr b="0" lang="es-CL" sz="2000" spc="-1" strike="noStrike">
                <a:solidFill>
                  <a:srgbClr val="ffff00"/>
                </a:solidFill>
                <a:latin typeface="Times New Roman"/>
              </a:rPr>
              <a:t> Las partes podrán aceptar esta tasación o pedir que los tribunales fijen el monto de la indemnización que debe ser pagada al expropiado.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Si la expropiación se llevare a efecto antes de transcurrir diez años, contados desde la fecha de la concesión definitiva, el valor de tasación se pagará con un recargo de veinte por ciento, y de diez por ciento si se llevare a cabo dentro de los diez años siguientes.</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73308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TITULO III</a:t>
            </a:r>
            <a:endParaRPr b="0" lang="en-US" sz="1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DE LAS SERVIDUMBRES</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3°</a:t>
            </a:r>
            <a:r>
              <a:rPr b="0" lang="es-CL" sz="1800" spc="-1" strike="noStrike">
                <a:solidFill>
                  <a:srgbClr val="ffff00"/>
                </a:solidFill>
                <a:latin typeface="Times New Roman"/>
              </a:rPr>
              <a:t> Todas las servidumbres que señalen los decretos de concesiones eléctricas definitivas, </a:t>
            </a:r>
            <a:r>
              <a:rPr b="0" lang="es-CL" sz="1800" spc="-1" strike="noStrike" u="sng">
                <a:solidFill>
                  <a:srgbClr val="ffff00"/>
                </a:solidFill>
                <a:uFillTx/>
                <a:latin typeface="Times New Roman"/>
              </a:rPr>
              <a:t>se establecerán en conformidad a los planos especiales de servidumbres que haya aprobado el Presidente de la República.</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7°</a:t>
            </a:r>
            <a:r>
              <a:rPr b="0" lang="es-CL" sz="1800" spc="-1" strike="noStrike">
                <a:solidFill>
                  <a:srgbClr val="ffff00"/>
                </a:solidFill>
                <a:latin typeface="Times New Roman"/>
              </a:rPr>
              <a:t> Las servidumbres de líneas de transporte y distribución de  energía eléctrica, de líneas telefónicas, telegráficas, cablegráficas, y de otras líneas físicas de telecomunicaciones, crean en favor del concesionario el derecho a tender líneas por medio de postes o de conductos subterráneos sobre propiedades ajenas y ocupar los terrenos necesarios para el transporte de la energía eléctrica, desde la estación generadora o central hasta los puntos de consumo o de aplicación, y para ocupar los terrenos necesarios para las subestaciones eléctricas, incluyendo las habitaciones para el personal.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Las servidumbres de antenas y sistemas irradiantes, crean el derecho de ocupar los terrenos necesarios para estas instalaciones, incluyendo también las habitaciones del personal.</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Las empresas existentes de servicios eléctricos y las que se establezcan en el futuro, estarán obligadas a permitir el uso de sus postes o torres para el establecimiento de otras líneas aéreas de distintos dueños</a:t>
            </a:r>
            <a:r>
              <a:rPr b="0" lang="es-CL" sz="1800" spc="-1" strike="noStrike">
                <a:solidFill>
                  <a:srgbClr val="ffff00"/>
                </a:solidFill>
                <a:latin typeface="Times New Roman"/>
              </a:rPr>
              <a:t>, siempre que se trate de postes o torres colocados en calles o vías públicas y ello fuere posible a juicio del Presidente de la República, previo informe de la Dirección y sin perjuicio irremediable para la línea existente.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9°</a:t>
            </a:r>
            <a:r>
              <a:rPr b="0" lang="es-CL" sz="1800" spc="-1" strike="noStrike">
                <a:solidFill>
                  <a:srgbClr val="ffff00"/>
                </a:solidFill>
                <a:latin typeface="Times New Roman"/>
              </a:rPr>
              <a:t> Cuando en una heredad exista postación para líneas eléctricas, el propietario podrá pedir que se aproveche esa postación en el caso de establecerse nuevas líneas.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imes New Roman"/>
              </a:rPr>
              <a:t>El Presidente de la República</a:t>
            </a:r>
            <a:r>
              <a:rPr b="0" lang="es-CL" sz="1800" spc="-1" strike="noStrike">
                <a:solidFill>
                  <a:srgbClr val="ffff00"/>
                </a:solidFill>
                <a:latin typeface="Times New Roman"/>
              </a:rPr>
              <a:t>, oídos los interesados y con informe de la Dirección, resolverá si el nuevo concesionario debe aceptar esta obligación, la cual será cumplida en condiciones que establece el artículo 88°.</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3:19:06Z</dcterms:created>
  <dc:creator>Centro Estudios Publicos</dc:creator>
  <dc:description/>
  <dc:language>en-US</dc:language>
  <cp:lastModifiedBy>Centro Estudios Publicos</cp:lastModifiedBy>
  <dcterms:modified xsi:type="dcterms:W3CDTF">2004-10-12T16:22:09Z</dcterms:modified>
  <cp:revision>12</cp:revision>
  <dc:subject/>
  <dc:title>Sin título de diapositiva</dc:title>
</cp:coreProperties>
</file>