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A59-08C5-4A5D-AF3F-A6039BF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BE8-4EA9-4D9E-8874-78F57EE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72E-3132-42E9-A57C-D31765D3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295-EE1F-4242-9E2C-3EE940A9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C1E-33F7-4781-BD72-5A114D9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534-7BF4-4738-8C44-308FCD2F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98D-0F93-4CB0-A0CB-B6EA2343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9B4-F82B-4AC2-B6A5-83F9C14E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8BC-7322-4240-80FB-CAA1900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B5F-B93B-4048-A48A-B119C80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FA5-8CF7-4C26-AB4B-5823359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396-495D-4949-8BDF-4C178D1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5AD0-CA0A-4121-A90C-103E8237A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DECRETO 7.0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PRUEBA REGLAMENTO DE ESTACIONES DE RADIOCOMUNICACIONES QUE UTILICEN FRECUENCIAS SUPERIORES A 29,7 MEGACICLOS POR SEGUN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28/10/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1°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Quedan comprendidas en las disposiciones del presente Reglamento todas las estaciones de radiocomunicaciones de cualquier naturaleza que ellas sean y destinadas a efectuar cualquier tipo de servicio que utilicen frecuencias superiores a 29,7 megaciclos por segundo (Mc/s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4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canal N° 1 de televisión de 44 a 50 Mc/s. estará destinado exclusivamente para fines educacionales, científicos y técnicos, según normas que imparta la Dir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7°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os canales destinados a estaciones radiodifusoras de televisión tendrán un ancho de banda de 6 Mc/s. y las estaciones de enlace de estaciones radiodifusoras de televisión tendrán un ancho de banda hasta de 10 Mc/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24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Universidades existentes o que se creen en el futuro, podrán solicitar concesión para instalar y poner en funcionamiento estaciones radiodifusoras educacionales en todas aquellas ciudades donde existan Escuelas Universit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Las estaciones radiodifusoras educacionales deberán transmitir programas de indiscutido valor educativo, con exclusión absoluta de propaganda comercial, religiosa, política, sindical, etc., sea esta propaganda gratuita o pagad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calidad de Universidad particular reconocida por el Estado deberá acreditarse ante la Dirección con certificado de la autoridad compet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 solicitud de concesión para instalar  poner en funcionamiento estaciones radiodifusoras educacionales, deberá ser firmada por el Rector, acompañando copia de la parte pertinente del acta de sesión del Consejo Universitario o Directorio que lo autorizó para presentar la solicitud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Estas concesiones y sus bienes afectos no podrán arrendarse, transferirse ni gravarse de manera alguna, como tampoco el derecho de explotación de la radiodifusora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.  La contravención a esta disposición determinará la caducidad de la concesión, sin más trám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9072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rtículo 32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comerciales deberán operar de acuerdo con el horari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l horario mínimo de transmisiones no deberá ser inferior a 3 horas diarias, por lo menos 4 días de la semana, durante los primeros 18 meses de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 durante cinco días a la semana, con mínimo de 20 horas semanales en los 12 meses siguientes al plazo determinado en el incis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No menos de 3 horas diarias, durante seis días a la semana, con mínimo de 30 horas semanales, después del término del plazo indicado en el párrafo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Las estaciones radiodifusoras de televisión deberán transmitir por lo menos durante los 15 minutos anteriores a la iniciación de las transmisiones de programa, el patrón de sintonía de televisión para facilitar el ajuste de los receptore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rtelera_2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124320" cy="325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a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rtículo 5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oncesiones de que trata el presente Reglamento sólo podrán otorgarse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s naturales o jurídicas chile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19:06Z</dcterms:created>
  <dc:creator>Centro Estudios Publicos</dc:creator>
  <dc:description/>
  <dc:language>en-US</dc:language>
  <cp:lastModifiedBy>Centro Estudios Publicos</cp:lastModifiedBy>
  <dcterms:modified xsi:type="dcterms:W3CDTF">2004-10-07T18:21:25Z</dcterms:modified>
  <cp:revision>12</cp:revision>
  <dc:subject/>
  <dc:title>Sin título de diapositiva</dc:title>
</cp:coreProperties>
</file>